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882-1BC6-4995-A8DD-A43D05DB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925-5430-4D8A-A201-072C2614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ACE-03C7-4C47-81F7-3EE90965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B1C-6052-44C6-A803-926A4FB9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5A34-D76D-4E71-A256-6C1FC0BF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86ED-8BB6-4BC9-BA1D-1D5C0125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5BAA-7F1C-4629-A6AA-B58B804D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0A4A-DC79-4128-888E-48E60BE5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4523-D19A-4A1A-8192-068B5E19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3A1C-34A7-44E8-8FDC-0B0912CD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B173-7E22-4683-8FDF-50C4E5EB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1F1-6C99-4E10-BA96-A96FCEE2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D81F-2F2F-4D1A-A0C9-E407413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6129-1372-4A9C-BDE4-5F3432F4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5110-681D-4A4C-B9CE-D262EAF0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8867-6D21-4CD3-AEAC-02E1B436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0A21-12BA-49EB-B21A-D0347E1B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B1A-39B2-4118-93A2-537017A5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013A-1D69-4AF9-AAFD-500039CC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EBE7-57C0-4BAA-B9FD-EFEAEAB8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310A-C994-4642-AFC7-C84E581B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755-3839-47A2-BB49-A0E45AD4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3B66-F220-4DA1-95F2-1F906064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9896-7761-4DA4-A8AF-228D22FF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EEA2-73DF-4C5F-92C3-49339F09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3DE3-7DFF-435C-8EDA-1664F6FF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4B8E-65A1-4E59-A777-B1010DAC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CDF31-76AF-494A-A05C-81236016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7DF5C-3034-41E4-9371-4FF9F984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3223-537C-4155-AC82-C9A16BFB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7A82-8A93-48E6-9D9D-902CD7A1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A1E-E69D-4679-9E44-5C0AB91C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0F9-A310-4962-9C85-75C4F334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54B-8172-4CC2-8C3E-A615B934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551-D670-4F9E-8E7F-31DC8447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7A5-AF4A-4E0B-B937-BD0FF5B9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E5C1-B516-40DA-A8CC-CD779E970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ECA6-52A8-436B-9CAD-BAAC35A0D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B8B5-E319-4C06-B550-E9B594209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ise Up, O Men of G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P. Merrill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aron Williams (17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ise Up O Men Of God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600" y="64882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ise Up O Men Of God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ise Up O Men Of God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1600" y="64882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ise Up O Men Of God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ise Up O Men Of God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600" y="64882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ise Up O Men Of God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ise Up O Men Of God_arr2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1600" y="64882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ise Up O Men Of God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7:24Z</dcterms:modified>
  <cp:revision>32</cp:revision>
  <dc:subject/>
  <dc:title>Slide 1</dc:title>
</cp:coreProperties>
</file>