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205-C996-4C05-805F-DE5D4A82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7B1-E9A2-44D0-998F-DE7292F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76A-8714-488A-940D-FB30B9C2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D97-ED97-410C-8F83-78E1BB3B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5EFD-AF32-4133-9FB2-6858031E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6F53-0F35-41A6-9F15-C5A5F23E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0CF-5A97-4F8E-BEE4-A5BBF71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78C8-0237-492F-9051-1704564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84E-5483-429C-868B-1D289C16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2B3-9CA5-4D08-8853-D8DF9E8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A326-AEE6-4221-808E-BAB1954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BCD-4590-4CB4-8D53-9CA3633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F998-0592-47F5-98E1-8179FAE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D04-E836-4A1B-A183-435C31D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A553-36CA-43F9-B371-FE9C850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8984-8A54-4919-81EA-B1EE09C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BED2-0361-4B2D-8414-6CA7D45D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F56-364A-4373-9725-DF235224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64CA-1840-409F-A20B-E5352ECB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5CE0-A582-44E9-911C-56505A3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D386-982B-4C59-86A3-1C978636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3E7-34F7-40E1-9BF2-8247555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2F19-D4D5-4087-8481-1EFFD1B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F67D-54CE-4C86-90E3-2556FA03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8666-562A-4596-9A19-C1309FC0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A48B-4B5D-483E-8459-9BC4A82D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B6D7-15CA-46DF-BD6A-FF1E9F4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DBD8-715C-40F3-8A48-234C23D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A287-FD68-40F3-AF05-3FD7524E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5EC6-989E-41BD-9EF7-A2DE4CDE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16A5-1BA4-4906-BC2E-C3651E1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12E-628E-4D45-947A-08B4F60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1ED-CB16-4CA6-8E68-24B6AEC6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23D-2C72-40E1-A264-E6C12CBE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81D-BC8A-4AD0-B13B-C3B8AD1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621-A387-4FFE-8A32-CA77BCF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CBDD-9A86-415F-85C8-823BC68A3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C5B1-8A28-48FC-AE3B-B8B50311F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E3D-0BB7-4627-A96F-4D1713A5C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scue The Peri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scue The Perishing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scue The Perishing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scue The Perish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scue The Perish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scue The Perish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scue The Perish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scue The Perish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scue The Perishing_v2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scue The Perishing_v2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scue The Perishing_v2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scue The Perishing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scue The Perishing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3:02Z</dcterms:modified>
  <cp:revision>32</cp:revision>
  <dc:subject/>
  <dc:title>Slide 1</dc:title>
</cp:coreProperties>
</file>