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045-A3B1-4788-81BB-FD5F7690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343-F777-4CEC-ACE2-C80A7E6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DDA-52E1-4848-B6F2-32A1D16D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A08-68D3-4A27-8042-08EA8E8C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E83F-754E-40F3-89BA-E661C030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5C1F-1E6C-47AF-95C6-08E93CA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E5BF-D390-47BC-A1B9-55A43174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0E53-FB4A-4103-8003-1582A750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3B8D-DF74-47FE-8021-56DF334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4BE7-A0A8-4489-BF55-661CA7E3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CC5B-2E76-4D60-9592-D8ED2BD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807-8B95-4799-8F5D-1FF95067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DE7E-D654-49F6-A500-A3F2FAB4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90E5-A446-498E-AD89-B8A68509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1D34-2827-4178-AFCD-C827889E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7C8B-C2D0-4ACA-878F-3406343D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1F29-BE3C-4C8F-9151-B2549FA1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17B-3088-483D-8530-FE3A310B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F52C-DF92-4CE1-9421-60FFA0EA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9253-D42B-4DEE-9517-CC40A30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33AF-7C05-48B3-BF44-7A5C206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E21-5098-4346-A629-A662E6DC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6A40-2C90-44F4-94C4-11B852E3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9A5A-DABA-41A4-A26F-38A6B62D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D578-18EF-4CF4-8E58-D83CFC38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6C80-4FCC-4298-ADB7-FFA7F7B8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7FC0-9E09-436B-92CD-A89B565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356D-891A-4DE0-B3A1-F48223A3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5FB4-41C6-4860-9E62-45EED2E5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33420-C4F5-444A-9493-99761D90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6C26-8A6C-45E3-899E-518B184F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28A-4B95-4CC1-A26B-997A2830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4B9-47C2-4CF2-A148-3C1DFCBC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09C-A113-4AF7-AB88-000D3694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36A-9710-49B8-BC9D-60A485AA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501-9B37-4DF4-A661-E9F175F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B906-966A-4156-9961-032A1B8CB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FFC8-97DF-4777-8033-81EA38D61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7193-F922-410E-A7A2-54672C427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ock Of 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OP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gustus M. Toplady (17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stings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ock Of Age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ock Of Ag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88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ock Of 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ock Of Ag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ock Of Ag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288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ock Of 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ock Of Ag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ock Of Ag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88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ock Of 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ock Of Age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1:14Z</dcterms:modified>
  <cp:revision>35</cp:revision>
  <dc:subject/>
  <dc:title>Slide 1</dc:title>
</cp:coreProperties>
</file>