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968-4D74-4BD2-A91C-2F4D6055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1BE-F8FA-4E0A-A2FE-06506299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1FC-8A5C-41E8-9795-86BDE41F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9D3-B758-48A8-8885-184485BF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3F67-1D2C-43B5-8ED9-C5B3D6C0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1A72-35E5-45F3-A5EE-0DD8A5F0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C121-3226-4ED9-AE69-C4A4B289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B316-7387-44AD-BBD0-DF4193C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93C3-12C2-43CA-9C97-CE119792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1EE-7DA7-4CD2-8BAD-0A448D1A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E11-F92C-4D8F-99AA-C20F5BB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037-8C5F-429A-91A1-E68BB1AA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9AD7-AD75-49FE-8726-A1177FDF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DDD1-5D86-49B7-B6ED-484C90BD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555E-9907-4CA7-9229-ADB58FEE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1EE4-8607-463E-9309-29858EFA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7477-BA8B-4160-B1C3-6A009FF2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3EE-9785-49F6-98DA-DF8163CD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CD50-283D-4172-8496-36930A48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260F-2784-4774-A0FF-D2110883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29C2-9203-4855-BBBC-B4290100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FDB-67C3-4416-8533-F2DCF44C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A39F-6E00-452B-9C7F-7E75911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80CA-C5A9-48E2-B7F5-04C71672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F55B-7A3E-4FD3-B099-CF448B88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837D-6AAD-4FFE-85BE-41B8953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CA1E-61B0-4B58-A6FF-967A231B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9A64-8FA2-4BCF-98B4-FDE025C1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F916A-33E9-44A3-9B26-07C5BF0E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42D6-24E5-4D14-BFF2-48D9AB9F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C53A-C27B-4E35-B50F-15E77F6C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D99-AC8A-4989-8531-37431337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961-63FD-44E7-B01D-07CE5BCA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5D4-8824-402C-A7BE-C77C2DE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065-4B8E-4E00-AA19-A4DFE78D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6FF-EB58-48F5-8ABD-7E8D75D8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CDA2-700A-466F-9A32-B2C7EBE17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0BC4-BA1E-4816-B328-5A40B7C56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02B-7844-4146-B5C4-99E2FF599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Ready To Suf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 + 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C. Palmer (1845-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ie D. Tillman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ad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5800" y="6488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ad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ad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ad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Read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5800" y="6488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Read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Read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ady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ad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5800" y="6488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ad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ad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ad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ad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5800" y="6488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ad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ad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ad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48:14Z</dcterms:modified>
  <cp:revision>32</cp:revision>
  <dc:subject/>
  <dc:title>Slide 1</dc:title>
</cp:coreProperties>
</file>