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6444-6F3A-451E-A277-7E34F1CA8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8DF1-6208-4837-9D5F-2F0A028D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CBE9-575C-4BD0-B539-DDD971983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7A1B-48C7-41B0-A733-025186C81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C9D9-C472-438A-8355-460EDD46F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4D11-E808-440D-A389-FF88CC31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B053-7773-4E8E-AB9B-C2983EC9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91B5-047C-4962-AFE1-4CEF3981C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3012-1B59-4D43-8BED-F335AE52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C50F-CB3E-4B21-ABAB-39E96C4E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D4DD-B0E8-4249-B72D-7B9CAF07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A8C0-8506-4990-82F5-43AC8996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E9C4-AD69-4F29-AA80-160AA749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028C-6CD7-4856-99E4-83A96497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C29D-56F1-4A2A-885A-05CD3D2B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E124-B361-4FD9-B080-5A459B6FB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E4D7-D609-46DF-B136-16990B5D3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659D-4186-46D0-848B-D7F40AC3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A5211-5C0E-4A5B-AB39-C4898E911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C76A7-9BA2-4C06-8CEC-C60D558B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9B65F-ED50-4558-98FE-E1718429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7557-4EB0-4D5F-935B-C91CFA37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20310-316F-4CE3-84C4-B0D03269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E03A7-2320-434D-8CF6-D88DB586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B6CF5-5C8C-4DB8-A0BB-4F8F8AE9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4082A-506F-4017-96C3-2E8D5DBB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28D6F-58FC-40AC-B4D9-CA0046EE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B6C24-B658-4CF4-8850-6A972341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2B85C-2417-42D5-A9B3-A85FEECF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6E4D2-D57E-4C0D-AA70-820CAEAD1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ECA15-FB3C-41A5-8D0D-C488792CE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E2E6-F43D-43E4-909D-62633D98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665D-8270-44AD-8EC0-2EE6790B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8A66-5F5C-491D-9901-92EB484B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BA1C-DAAA-4517-A9CF-C5C92DA0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38EA-010D-422D-9230-AADB49F7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32F0-DC27-46FB-B83A-D38627F090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E77D-4EC0-45B1-AFB1-16762C2C4D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F275-2093-4B19-98EE-AC7BCDCB4E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Ring Out The Me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Rowe (19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amuel W. Beazley (19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Ring Out The Messag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Ring Out The Messag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Ring Out The Messag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Ring Out The Message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Ring Out The Message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Ring Out The Message_v2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Ring Out The Messag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97200" y="6488280"/>
            <a:ext cx="332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Ring Out The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Ring Out The Messag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Ring Out The Messag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Ring Out The Messag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Ring Out The Messag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7200" y="6488280"/>
            <a:ext cx="332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Ring Out The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Ring Out The Message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Ring Out The Message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Ring Out The Message_v3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1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Ring Out The Messag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Ring Out The Messag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Ring Out The Messag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Ring Out The Message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Ring Out The Message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Ring Out The Message_v1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Ring Out The Messag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97200" y="6488280"/>
            <a:ext cx="332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Ring Out The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30T02:55:27Z</dcterms:modified>
  <cp:revision>32</cp:revision>
  <dc:subject/>
  <dc:title>Slide 1</dc:title>
</cp:coreProperties>
</file>