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837-FA34-4F00-8712-B1A2238D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ECC-A8C7-4F71-97DF-0F43155F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BB2-89DC-4CD5-8E83-7BB8181B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8F2-E0B7-4590-A750-759D0C37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0455-83DE-4ECF-AC69-63002A5C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4FEB-6B30-4275-865E-252DF678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FBF2-B5E5-4476-943E-196AA1BC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57C2-D853-4E55-A323-3BE235BB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AF62-54BA-4925-A053-FD724A81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F660-F658-4576-AF1E-D20EF098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7265-A2EB-4968-B8F2-7258ECBD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2A7-33BE-4FEA-85A5-65B663BC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1974-5D3E-4270-B64E-8EA35DB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98CA-EC47-449A-BC93-AB59753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7DC2-9A16-4842-9078-076F477B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3BEA-67CD-4B9B-BA14-E96FCAE2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301C-E42E-42DD-A008-73CAF7C3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169-028D-49DF-927A-66110203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DB24-358F-4EEF-B1D3-FAD669FA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37F3E-6EE6-4C86-A70B-BD718448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E209-C522-4BAD-B6DE-C846E67C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DF4-4C65-4D23-808A-BAF4A893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3B55-17A4-4113-B9D1-250A31C5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EA0D-A9A0-495B-A740-4B37BF79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CAC9-5CBC-44BE-89EE-B3E5F326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D66D-3C3B-4A26-AFF2-506F390B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CD781-6885-4EE9-8BE9-AF8A1F31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2803-286B-4A6B-A967-0F5A8B6B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119D-F051-4516-95C5-B2EB61B7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4E34-E25D-462A-B43D-2A9EDF37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A13B-1CBB-46F6-A50F-A7E49C65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65E-2C9D-44EB-A365-897D8223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CF2-038B-4538-9C88-F231B256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CC6-B7EC-4A42-9540-F29E4E0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FDD-319D-4298-B478-B17BCC08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7F0-E891-4F94-8919-B4A66A7C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56E3-8989-4D0A-8165-00A0B15CB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6385-3960-43C1-BDDD-972640EF0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EBD0-30F5-4935-AE26-AA6673200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dee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’m Redee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A. Ganus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deemed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deemed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edeemed_arr2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edeemed_arr2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Redeemed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Redeemed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Redeemed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edeemed_arr2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Redeemed_arr2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Redeemed_arr2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deemed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deemed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deemed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deemed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deemed_arr2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deemed_arr2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deemed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deemed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0:11Z</dcterms:modified>
  <cp:revision>33</cp:revision>
  <dc:subject/>
  <dc:title>Slide 1</dc:title>
</cp:coreProperties>
</file>