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10B-6BBD-4950-84A3-5F100885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491-F6E3-4443-8D2F-5454F4FB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DE4-F5B8-41E3-B79F-4BCF40D5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3EA-1E95-49D9-BFCB-F18F7F63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07D4-AC5F-49BF-9CF7-B8DE3EBE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56B0-7B7E-4B4F-8F3C-62082EFA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7679-FDFF-4A2C-B208-AB9CC128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6EFE-E85E-45D6-A6ED-F244865C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ADD3-045E-4CD8-A2AA-A97B77AB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E1DD-4425-4DF0-8B49-8CA7FC08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40FB-8B8B-49AB-88A1-7F199823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B42-F22D-4317-BA4E-BE4AEBD4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F150-67A7-4AA9-BEAD-AA2DD66A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65C0-EA8C-46D7-AAC2-415125F2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E582-E267-4EF8-BA7C-D9297554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4C86-7C07-443D-8762-71876F06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8416-A8A8-44D6-A7CD-F3CD82DB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FEA-7828-48E6-93D4-A94521AA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C007B-78AC-4D54-8542-751736E7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5408-0D72-4245-9337-1D77409B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E197-83E8-4606-A64A-3E078EC5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1B3-3A18-48C3-9265-B1414FB4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8E69-CB4A-4591-AD2A-1A9ED61C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B61C-C83F-4CEB-8BED-AAB3DF05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E365-9B67-4BC9-B04F-FCFD3FDA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8E9E-131E-4118-B02D-DB5BCEE5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16978-AB01-4B03-9CE5-6BA46A7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F853-2B8F-499F-8823-2E0426F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13EF4-EF1E-47CA-AC73-F2715FF8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B0B9-10C7-4F88-9149-BFF070BC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80250-1010-43AF-BEC1-38AF44DB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BF1-46D6-4380-9BBB-7F489293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3C7-4160-47D4-A078-50023970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EA3-1EB8-4D09-AD72-1F3B769E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A78-9E3B-4A4E-9A58-B13FE1C1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99D-FE16-450C-82BB-1AA569BA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5FA6-8A54-43D5-8718-987564B54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F8D2-47BF-4AD8-8D7C-C78386C92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94E0-7E43-4354-A8B1-BD396DBD5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dee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: Fanny J. Crosby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deeme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deeme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edeemed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edeemed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deeme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deeme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deeme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deeme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deeme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deeme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deemed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deemed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49:10Z</dcterms:modified>
  <cp:revision>30</cp:revision>
  <dc:subject/>
  <dc:title>Slide 1</dc:title>
</cp:coreProperties>
</file>