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41A9-2F3E-43A4-9A5E-EC8B8456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1BE-70EA-4D46-B283-D4A0F9E9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0B35-9A0D-4D95-A6F8-54857A16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1207-E407-42F6-9839-ECC22BAE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B98F-20C0-4038-A22D-4A16247C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29BC-DE9B-43D2-9CA3-86050FFA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2D2C-7983-48AA-B3D1-8A8A2A5C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65F4-339E-403C-8B78-CEDCFF66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9C7F-E3A2-46BE-A3D8-FE075E9D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BEA8-4F2E-409F-8789-ABCB0736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12B8-D4C5-4CDB-BDDA-6631996A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A7D4-F105-499B-9A3C-5D728931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323D-1EF2-4E87-954E-6B3F3C43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DD20-1302-4974-A561-D426840E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5089-6829-4BEA-B748-ACFE76A2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0297-6891-4E31-B144-BCD63A12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6101-C554-4253-A7D7-C659702B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E264-A27C-4BE8-97FC-F49A26F6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DD080-5DC1-451F-9A4D-311D639E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FAF4C-8643-405B-A69F-F723E5B1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33336-0D84-4D30-AFBB-742EFE8A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E57-AC56-4B75-B41E-82A4D66C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CCF06-6D25-4259-9361-CA519EA9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3637E-C062-47CF-9EC2-38A16AD4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873AA-D110-4B23-81EF-9413129D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08C3B-3A6F-4551-A1F4-0B305E88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570EE-E4A6-424C-BCFC-46B61D23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4030D-6882-4540-B526-E480D597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2F2DC-FC34-4306-9175-70316C04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C0827-D67E-4B8F-AA94-B4770B4E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C2346-C4AB-4E5A-8052-0A166F0F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141E-C501-40AF-A87F-0DF8DDC8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DBA-A7D0-4B97-AF72-1FA029D4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1FC-6B23-46E2-9520-1A3EAA1E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9B7-D6A2-493D-B577-0FA91F0F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D579-085C-4DA9-8A6D-AB991148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AA54-58C3-4456-B711-C1AA61769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98D5-2025-4272-B042-3344D21E27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7BA6-DBB8-42AF-878F-7D27F0123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Revive Us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e Praise Thee, O G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P. MacKay (18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J. Husband (c. 18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Revive Us Again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6400" y="648828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Revive Us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Revive Us Again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evive Us Agai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400" y="648828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Revive Us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Revive Us Agai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evive Us Agai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6400" y="648828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Revive Us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Revive Us Agai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evive Us Agai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6400" y="648828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Revive Us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Revive Us Agai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Revive Us Again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6400" y="648828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Revive Us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evive Us Again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30T02:53:54Z</dcterms:modified>
  <cp:revision>18</cp:revision>
  <dc:subject/>
  <dc:title>Slide 1</dc:title>
</cp:coreProperties>
</file>