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A0D-A0ED-47CC-A6ED-12CA2AF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839-15AC-4A83-A76B-39CB20FA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770-9E4D-4D6C-9A3D-B7456BA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4A1-DF69-41FB-933B-5E5DBF69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0E1-D135-4AD8-A4A0-3ACA37E2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A657-8722-42E1-8637-3B5F54D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59B-F1CB-4E2F-B3AF-A87623AC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472-84D6-45A5-BF7D-54D4B63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9FB-2159-458D-B429-02CB89B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6A50-B14B-42BF-B79C-900EB8E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5D15-9F5B-4FCC-9FE2-19C4126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BB1-D8AF-4C77-A7A5-7D22B41B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2EE-C945-459C-8050-3A6EF30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631-9C0B-4D29-8546-EE01A3E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02A7-4DE6-48AE-B909-013EF6E6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AED5-63A6-4885-BFAF-28280707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1B92-0DB8-405B-8F4B-5C81B43B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C2B-4701-431D-8F3A-4FAB696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6C95-BE93-42D9-B524-DFD870EE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57A9-F69C-4A51-9566-4261EFBD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1E1E-C473-4CA2-92C1-41F2D23C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E6C-AB1D-430B-993B-FC2C08E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6ED9-A2B1-4B4B-9E1D-4474DC21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F863-84D3-463B-B4D1-8632DC0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14A3-DE26-4C90-A2A8-6C09522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C86B-1F2F-4874-8854-71B6E71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D133-EB26-48F3-B5A5-FFCCE84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8227-40F6-41AE-8C97-94551FA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9B7B-5543-4686-A6DD-74424D4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315D-B7E1-4780-A5F0-40DF93FD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F812-640D-49F8-B36E-B843A8BF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B38-E441-4A60-9B30-38D94D3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F72-AD8C-447D-900E-CCB2EBB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800-65B3-4571-AF9F-ADBEFE4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F3F-689B-4597-8952-CDCFE47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8A0-8E0E-4F47-B638-681DE77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FDB-B25A-4D2E-A59F-8FD1EE2BF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B72A-A427-4ABD-A2E1-BD876679E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275-C380-4B7D-AFDE-BA4E6C01C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su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F. Morri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B. Mos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surrection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surrection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surrection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surrection_v1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surrec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68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su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surrec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surrect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surrect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surrectio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surrection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surrection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surrection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4:40Z</dcterms:modified>
  <cp:revision>31</cp:revision>
  <dc:subject/>
  <dc:title>Slide 1</dc:title>
</cp:coreProperties>
</file>