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08A-4474-408F-A758-053B2B6D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9A3-B9C2-4F7C-AA27-B873FD0E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1D3-8F35-4DA1-B677-0305FB5B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725-FBA1-4C38-912D-33A257D1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15ED-C3E4-401D-B68A-771FA28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A00F-3D0B-4A99-8895-77A62C22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F33D-6979-4285-BB79-C11BD250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CE1A-D42A-4F98-BC82-43A097A8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9C46-9FCA-48CE-8E08-CC0A11B3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89C8-4B95-4CCF-98F4-692CB796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AD0C-B374-4169-BBC0-A5F27F51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DCB-E363-459F-B19C-2C87BF38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71B9-9F2F-4312-902C-5CF3F1F1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C184-C6A5-41AB-AEF0-F9DEBBA8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6C23-9634-4661-9B20-CE5F2943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5DD4-E2D3-4939-85B2-F20B2DB6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3033-BE8B-41B4-B6B5-26353852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AE6-DD9B-4B73-9DF5-8109B7C6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5BD6-0221-4174-849E-9B14A504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E5D0E-5F67-4F22-AA9B-DF887E9B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D0BE-F732-4713-B4D7-CD18333D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136-FE01-4045-AF16-3CDC11DA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0FFF-F72F-4FFE-AB7E-BFDF2C23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2AC1-3537-45B2-AE55-4B41A468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B658-87F0-4A8E-A798-7787FA0E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0EF3-E263-48BA-B91D-51A2C6C5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70DD-8DE0-461D-BE49-523BDD3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BA2B-CC0C-4033-A98E-8520055D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1A74-F9CC-4DA0-9D81-63F51D7B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194A-0DAE-4D29-899B-A7B34FE2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17D1-CA93-4943-A97A-7B6E12FC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E80-4FD6-4E1C-B052-9D6D937A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D36-E014-4ADF-994E-EF0D91B3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9AF-5A01-41AF-97FC-C864EC39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EC0-1D17-4B42-A72D-FF15B5EB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468-2524-45DE-BBE2-4E94E28A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D01A-BBE4-46B8-96E8-840526B6A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451C-AAAE-488C-98B6-F69F257CB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DA17-D2FF-49BB-8DF0-85C9BE0CA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ise Up, O Men Of G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FESTAL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P. Merrill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Walter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ise Up O Men of Go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88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ise Up O Men of Go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ise Up O Men of Go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088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ise Up O Men of Go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ise Up O Men of Go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88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ise Up O Men of Go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ise Up O Men of God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088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ise Up O Men of God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6:08Z</dcterms:modified>
  <cp:revision>31</cp:revision>
  <dc:subject/>
  <dc:title>Slide 1</dc:title>
</cp:coreProperties>
</file>