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F0C-740E-4536-99D8-409CCA2D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462-E497-4215-854D-0EDC20F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3B8-D17C-4F87-B2F6-3A385B6F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12D-41B9-4CD4-B2C5-52FD51B3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2090-D3CB-4C57-B9E4-2BAF4A8F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85B5-9014-4712-938B-90B80A8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B061-BD4E-4443-848C-C26BCE9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B77F-FB7E-4BAC-8FFB-F4B43212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978-3BFD-48F9-93DD-E0D4A653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061-9F96-4C1E-80CD-3B09037B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9257-90B2-4720-8C17-07E85A6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3D-8109-4E5F-92B3-7ABC30AE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5C15-E41D-4B85-A1DF-FB65133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67F-3640-43BE-9AAD-2E9CD211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9E7-800B-4F15-8EE0-B6B9D15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956-2EAB-4865-A23F-FAD4AF27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499F-88E6-4834-88FA-BBE1567E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676-AFC8-461A-902D-E862A79F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AA10-4D1C-495F-99FF-67030281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D758-8DC9-4AE0-B048-9508DC5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8C2C-E433-486E-99F7-5C8F6A4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8AC-D229-462D-84FB-E3D5522F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639F-4300-4FA1-A97D-0DF0B9B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164B-A11D-4C29-AADF-8BBA94DB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6FD5-77BD-4355-973F-452B50D3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8861-1C08-458F-B9A8-B2E018A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B490-16FF-4374-A6F0-024298A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A2FC-F8C8-4C80-A6B4-A9F0BF3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7457-76B8-475B-BF47-A0655478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2973-5BAD-497C-83D8-83F57440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3A74-2561-461E-B0F9-6DCB5918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8E9-6D9F-409C-8E38-C9C9E70E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36A-84DE-4AD9-850F-A89AE3E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944-11D3-4517-8775-CAD259C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7C8-3C52-41E9-B763-D3951DD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12D-9D7E-402C-8A82-3B2112E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4B3-591E-4EB6-AAE9-73F2021DB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992D-C340-409A-8852-EC6954B65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694-7615-407B-8E6A-C6A383AAF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pare To Meet Th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pare To Meet Thy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pare To Meet Thy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pare To Meet Thy Go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pare To Meet Thy Go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epare To Meet Thy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epare To Meet Thy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Prepare To Meet Thy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epare To Meet Thy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epare To Meet Thy Go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epare To Meet Thy Go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pare To Meet Thy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pare To Meet Thy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pare To Meet Thy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pare To Meet Thy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pare To Meet Thy Go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pare To Meet Thy Go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pare To Meet Thy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pare To Meet Thy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9:42Z</dcterms:modified>
  <cp:revision>29</cp:revision>
  <dc:subject/>
  <dc:title>Slide 1</dc:title>
</cp:coreProperties>
</file>