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C6E-2D4A-4580-9DCB-F103A0C0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A7A-8801-4B8E-8017-40F1EADC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704-F649-499E-B11F-68B0D15E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D51-486B-4098-8B6C-674A86E2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782B-30A1-4F15-BF6D-6FEE0EE2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4262-7CC4-456B-A3E5-2C42EC2B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429-0FB8-49C8-AF75-EB0E9CFB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881C-1890-4804-A51E-2D3C08F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C9DB-6D33-4185-A4E9-493C4029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6295-0350-4759-815D-C2B8B337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8325-25DA-4093-B337-2B20C4F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8C4-2F0A-45DA-A3FF-B7182AF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9ADA-14CE-44E3-B6CB-CE55595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2D73-411F-4CAF-A1C7-23967E6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0EA2-71B2-43D4-9692-120344C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18AB-407C-4AA7-BA92-BE68CE4B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19B6-2838-4387-A027-3163579D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EDF-7688-4922-8CB9-3ADF981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2B82-0A2A-4B2C-B983-E8F5F1F0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74C5-7BA4-4843-8212-AEAA8105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6BB3-4528-4477-8EF4-935AB45F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2FB-CD3A-41C2-BD42-52306CCF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856E-BB20-49BE-8200-0624A12D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834F-C8D7-494B-AFB2-6552FBD2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64F6-830C-4C45-B5D2-D3CDC3B5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23D3-A0EF-4C90-8E11-C003464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B3BE-F015-444D-BA10-7A3F56B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1282-809C-4D07-82D3-45BB0D7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9E06-ADA9-494B-B415-BB97A381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5049-61C0-4871-BEA4-CD2682F6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7429-03BD-49F0-81C0-896E4496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FB2-41F8-4EA4-8C3C-393122B0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D44-6310-44BF-A332-A3CFC89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64D-97B7-4E2F-B930-7288151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BA0-2C52-4CDE-A0FA-751201F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CFA-B4FB-4D28-89BF-D8767049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614-B8A4-4265-9440-CE691181E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18C-59D1-4EEC-9C9C-191B050F9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5AD7-79A6-4DAA-94D0-3E0E1E23F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G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G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8:51Z</dcterms:modified>
  <cp:revision>31</cp:revision>
  <dc:subject/>
  <dc:title>Slide 1</dc:title>
</cp:coreProperties>
</file>