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81E5-0550-4F3F-BD9B-2E15218D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19D1-4663-4707-884A-5C91FA02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691-182E-433F-8BB0-3363C87E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0516-6798-4EA3-9D36-354EB2C7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64FF-1C35-484D-B654-39C021A0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7135-E0B2-47DB-BC1C-CBCC859E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6552-1253-4FCD-9A8F-1DB7BFAE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BE30-B42C-4A6B-AB5C-822F5D16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AB9C-1B5D-4734-A67A-A6933F6A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8F98-2B37-4A0D-A9DC-AD06D374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58D7-0580-4A0C-A9E2-FAEC819A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832A-E01D-4208-AF6A-2CD2395A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2023-D85D-43D8-B950-3B9757ED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32BE-92CB-4377-AF7E-A360B14B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33DF-8AEA-45BA-8CAC-4CDAD093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1069-9E79-4EA6-8CC6-81474441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3926-643E-4832-AC41-03A67A8A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96A9-7BEC-4D28-A979-C4CD9BEA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6BA1B-7ECF-4B04-B336-7963DCA8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F14AE-89D3-4D6F-8823-2ECE76A0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A8069-AD3E-4841-9697-67931744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795F-C0EB-4902-BB60-1BA9E2C7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FF24E-EF2D-4852-84D0-1988BB70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E1CC5-A4E3-4176-A792-21587652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E7CC8-FBEF-45FD-BA30-701A89DF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30367-6974-47AF-BEBA-9F3A2428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281E6-757D-4BE7-B87E-834B189F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35D80-8EFE-48FB-BDD1-36A155CC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8B290-9263-4B9F-8B1B-86C8E8B7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0776E-57A7-44EA-ABCF-66DCC4C1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58A00-1694-4FA4-85A9-8B5773AB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7D0-C8F5-4BE6-911B-CEE63C41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EBF5-A1CC-4591-8412-7B91FA1E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D5E1-0E3A-44E8-8867-F907A4FE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2D24-F934-4D43-951C-0E2A64B1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AF6-F699-407B-8087-9710F320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40BD-6527-4ED1-A17E-1C4E3C156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8A32-BFD9-4DFD-8458-37702B7CA4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B2B9-D9EB-4BD1-B5AC-0B595E1DC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raise to God, Immortal Pra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PLEYEL’S HY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na L. Barbauld (17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gnaz J. Pleyel (17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aise To God Immortal Prais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720" y="6488280"/>
            <a:ext cx="41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raise to God, Immortal Pr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raise To God Immortal Prais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raise To God Immortal Praise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9720" y="6488280"/>
            <a:ext cx="41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raise to God, Immortal Pr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raise To God Immortal Praise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raise To God Immortal Praise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9720" y="6488280"/>
            <a:ext cx="41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raise to God, Immortal Pr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raise To God Immortal Praise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3:03:21Z</dcterms:modified>
  <cp:revision>31</cp:revision>
  <dc:subject/>
  <dc:title>Slide 1</dc:title>
</cp:coreProperties>
</file>