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6A5-DEE5-4B83-9240-A2CFDF39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6FA-C6F1-41BC-BC2C-01E549A7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196-52D1-459A-960C-E3CAC6B2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A41-F8C0-4D28-ABDD-02268C50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D2DC-1FED-4AFD-85BE-EE6487EE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B2F8-1A03-4B9A-8C10-70CF5A1F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118E-D1A2-47DC-8512-A49D26F5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5B50-3C5E-4F5D-B628-B616081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2F1E-BD8D-40E8-88C7-1479224B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47E6-DC3F-43C4-A832-70A2571C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60FA-CEBE-439D-9A10-5CAFAD40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016-EB99-43B6-A49C-0AD1503D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08DD-FE84-417D-80DC-85850D3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4DE0-DD72-490B-879A-4F1BE4F1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818C-E0B5-4EFC-8149-B7612432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D8B1-0DEE-494E-9016-46FD52E0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4393-A7CA-4081-83DF-9435CD38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10B-D39C-414D-A352-9E8C5C89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14B5-A3EF-437B-909A-CE0393C7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E761-DD4A-4812-9EAC-94BEC094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7FEE-E2FB-407B-955B-E114C1B9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2A9-313A-40C8-BCF7-E06D77B7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40DC-55EF-4A79-A4D2-E6BEDC96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4C3E-9C67-4BC6-ABA4-969C2FB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4787-2B66-4151-9207-60CC9AAA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5AED-2365-43EB-BD98-D6D14367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3DA3-C773-4482-A80B-41245561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743A-8C5F-4FD7-97CD-EFE1421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C08C-C567-4A79-9AAD-52F4DCFA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35741-1C94-4E97-9A30-EEE1BC21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D3BE-4613-4474-B7C3-7369D64C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09D-1EDD-49A7-9393-95DB60A5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393-98AA-491D-842D-1F5FE4FE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8FC-E2B9-40FD-A6E4-C5B35780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DB9-A56E-4E87-9D7B-7A415FDC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C39-D8D7-4F35-87AC-6013BF1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93FF-CA0A-4542-9EF0-4FC8F2749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10BC-6758-4D32-BE5C-CF5A50C56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13DF-D8D0-4E9B-B3AE-86014730F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ecious Words (Precious Fore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Loula K. Rod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M. McIntosh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ecious Words_Precious Forev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8280" y="648828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ecious Words (Precious Fo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ecious Words_Precious Forev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ecious Words_Precious Forev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ecious Words_Precious Forev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cious Words_Precious Forev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ecious Words (Precious Fo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ecious Words_Precious Forev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ecious Words_Precious Forev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ecious Words_Precious Forev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ecious Words_Precious Forev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8280" y="648828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ecious Words (Precious Fo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ecious Words_Precious Forev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ecious Words_Precious Forev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ecious Words_Precious Forev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7:47Z</dcterms:modified>
  <cp:revision>30</cp:revision>
  <dc:subject/>
  <dc:title>Slide 1</dc:title>
</cp:coreProperties>
</file>