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2E6-A7E3-4736-B7C6-73D9810D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FBC-27A1-4C54-A23C-2E8E1935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D10-5946-42F4-8885-FE348AB4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0DA-F329-4BDF-803B-08B95BD8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225C-2B38-4DA7-AEF7-997B0028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00CC-59BF-41D0-9756-039004F3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AFCD-E417-4839-B646-799141F8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62A8-97A5-4781-83BE-724A90C6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C27C-F998-4D5E-888E-A037E30A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1E32-A8BA-4FF2-82B5-82BB3B3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594E-F39B-4F05-BC26-1ACFD87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4DE-1CC6-4CC2-B6BF-F87FB9FD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C51E-7F0F-4528-9BEF-200F549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B0BB-8C45-41AE-8B41-7A9C0AD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B200-89B9-4954-8F24-E53175E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3A2D-B68A-4ABA-9870-9F6A0C30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099-06F8-4FE0-BB28-12CE0068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4FE-D561-422B-8556-9C986EF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950C-2404-4932-B1EA-9FC5A8A1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89AE-FD2A-4F6E-B54D-DED7EE2C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6780-F8CE-495B-B571-2B3DBA5F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D1F-7486-4BB0-8DDF-B8BB5367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2EB4-B235-4581-B6AA-C9F8D8B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5247-CA0C-455D-9449-ACF88177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7154-1615-4305-9730-5A091BF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0458-6695-4D16-A986-B2E7212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70BE-65C6-474F-9765-86B1A167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E640-2EBE-44D8-B01A-697AF85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329B-FD05-4437-BFD2-74D3DF53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F7A5-7646-4DDC-9006-02C7DDE6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E265F-513C-46E8-932C-1C60BBB8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AA3-DB8F-4F42-96C9-5B634974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470-98C6-4D2C-9DC5-D5168417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CA1-BF3B-4BE6-8387-C9D4CE0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B11-53DC-4334-921D-B87FABA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86A-DB2E-456D-8322-3559F5A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A4A-8A3F-4E91-B2E2-8CFBFB17C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E1A8-50A1-4861-8258-0D5BC4E6E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10B-D4B6-417A-8F67-478C6D7E8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urer Yet And P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YNDH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Von Goethe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J. Vail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urer Yet And Pur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urer Yet And Pur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urer Yet And Pur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urer Yet And Pur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urer Yet And Pur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urer Yet And Pur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2:20Z</dcterms:modified>
  <cp:revision>30</cp:revision>
  <dc:subject/>
  <dc:title>Slide 1</dc:title>
</cp:coreProperties>
</file>