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852-9C3D-4844-A181-4F15C5CA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E3C2-C368-4448-BD0A-1850C89B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BB00-78DB-4A2C-ACF0-8AC7DEFC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FCB1-5502-4F94-8BFB-1148F5BE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59EA-5823-4E04-9CC3-FABDDE96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45E4-35D8-465D-87DC-2EE050F1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A348-8E02-4FAD-9B2A-DC34ADF5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B329-0573-4687-8C67-54013C97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F715-6D4D-4B1F-8E8D-E2F43C40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4EFE-02C3-4E83-BFDF-A02044E1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09FE-FC48-4404-B4C6-69ABDA93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CB9A-5D53-4213-AD09-DBF9CB3D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27E5-2F62-4F99-BBC0-2B9D3653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B894-2CFC-43F3-9822-CD16EB98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5158-EA19-4D10-A7CA-312A31B6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7C77-4A03-412C-B755-93B5DC5B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7318-C71C-4FCD-A717-F61059176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562E-310A-4067-BA03-AD8AE2CB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B58BE-8010-489B-93D7-897CB262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DC38D-6AB1-4E54-A444-349D8019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D2F79-B035-49E6-8720-33B729E8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04D0-A95F-451D-9135-3F14A4D5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3B480-C9B7-479E-8998-4AE502E0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74190-9FFD-4172-93C4-AFFCA11A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3BF99-2026-4C21-85B2-D27DBF6E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17F59-9422-428E-B2FB-FB516B9F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919E6-CC7B-408B-9E6E-5BF03F9F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BD095-3FCA-4DE6-87B4-82BC8508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6A0AC-646B-42E5-9ADA-4A181086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22A56-F4D2-4342-BA48-7D9E55E6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F2C8D-2CB3-46FB-93D6-E8F0FA60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F72B-CF0A-447F-8D2B-3F7746FC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BF09-9159-4875-B9E2-D4CA721B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657D-0BDD-428C-8C9E-BEF71E0B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A51F-9459-4054-839D-2871ED19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2EAF-04C0-42B3-BF28-F4BBB31E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EA81-2C9A-4BB7-8FBB-E9C82FC74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DE19-59D8-4381-9CD0-3D8C540CCB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0506-096D-43C6-87C3-EB5681C2F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raise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PE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Kempthorne (17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owell Mason (184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Praise the Lor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Praise the Lord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81720" y="64882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Praise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Praise the Lord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Praise the Lord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raise the Lo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1720" y="64882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raise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raise the Lo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raise the Lor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raise the Lor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81720" y="64882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raise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raise the Lor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raise the Lor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Praise the Lor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1720" y="64882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raise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Praise the Lor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2:57:14Z</dcterms:modified>
  <cp:revision>17</cp:revision>
  <dc:subject/>
  <dc:title>Slide 1</dc:title>
</cp:coreProperties>
</file>