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9441-0D37-469E-909A-30BE5A31B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E9D7-9295-4780-9038-DD449191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F91C-5F5C-4FD2-A387-AFAB4C100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4CAD-C55D-4A60-A372-26D6A422A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D5C3-7E55-4118-8320-E0F3F87E4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0217-35FC-47AD-9ABF-2FA0655F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CAC4-FFA4-4D50-BCD4-B6C723AA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7104-9367-4256-ACD7-82317A12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F12A-F323-40A9-A90E-44076F74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7A1D-2D69-4C44-8E8D-385F4B6B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9773-04F2-4E5D-B663-5AABC83A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70B4-BCFA-4A3B-99A7-7193EDFE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A2AA-2CDB-4A84-B560-2FAEB517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F671-C50A-4A14-8CA1-B4BB6DC7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E09B-D1B7-409F-8E08-368084BD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CE52-DF13-4EE6-97A0-2E4978452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7DCA-3AD1-44C9-8E7C-1290D264D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36A2-06EE-423B-9359-B44514F0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DA879-55A7-4C2B-BBE7-485F78EDB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10A7F-C2A6-463B-B688-715DE710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D00BE-D7D3-4236-994C-119E260D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713A-A832-4138-8A66-264BBA24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5E54C-99A7-4AC7-8B1F-2D48E1DE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E431C-177D-42DA-8565-42205AB6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5C918-83D8-413B-B241-84D11210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DD5DA-C637-42B5-B445-B6C556C0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8C19C-5AAB-49B0-8DCF-DFD46249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5F0CD-D82F-4624-ADAB-638CFF30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05E8F-DAF3-47F8-A65C-2FD9F4F4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EFAB1-5DE2-4331-BBED-EABCCB449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CD95F-14CB-45C9-BD8A-57EC1122E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11CA-7802-4582-9DA2-037807EE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DCF8-6D0A-48BB-8961-DE7ACA45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AFCE-BF4A-4920-9923-F7010E14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609B-CD3F-4BAB-AC14-4AD5D552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544D-02C4-4D8F-AD5E-6A1CA107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2B2D-B562-4866-BB49-85B320365B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BC3C-1D2B-4A4C-ADAA-C0C4DD4030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7709-A047-4D8F-AE8B-6BC4E087DD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Pass Me N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C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anny J. Crosby (186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H. Doane (186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Pass Me Not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Pass Me Not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63720" y="6488280"/>
            <a:ext cx="22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Pass Me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Pass Me Not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Pass Me Not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Pass Me Not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3720" y="6488280"/>
            <a:ext cx="22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Pass Me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Pass Me Not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Pass Me Not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Pass Me Not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63720" y="6488280"/>
            <a:ext cx="22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Pass Me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Pass Me Not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Pass Me Not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Pass Me Not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63720" y="6488280"/>
            <a:ext cx="22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Pass Me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Pass Me Not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15T20:51:01Z</dcterms:modified>
  <cp:revision>30</cp:revision>
  <dc:subject/>
  <dc:title>Slide 1</dc:title>
</cp:coreProperties>
</file>