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21A-C617-43B7-81EF-74766A6A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A8B-B053-46B3-AFC4-56B3E9A4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237-902D-4E32-90DB-23E47996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06A-1940-46F1-8051-E054525B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4D2C-458C-41F9-9825-858B454F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644A-910B-4E73-AA5F-0877149C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40B0-B509-417A-87D2-80F23C2A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1AE7-50B4-4BCB-B440-9901F732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8B91-C4BD-48B9-B8B4-C998CC99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1691-3E1A-4E21-A020-74F9D852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6C08-DBA4-4B0A-BC8C-EDD6049B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004-E6E9-4608-AF4F-7FAA5A92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9AAB-6017-491C-AA17-308E1E3B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F86A-5064-4DAD-ABAA-85DEE8BE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A479-7007-43AD-B231-10012C57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A37E-7069-42ED-97D5-CAF19673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45E5-83FF-484E-B7AF-19405CCB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0BF8-7A2D-45E4-AC0A-C8E3C6DA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AB12-89FA-4529-8A5E-F84B0FFA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571C7-4282-4BB1-932E-1C9EB768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6CC23-7963-4F31-B80E-1E4E74DC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863-1C39-4717-8492-C2C07995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48543-E8EC-4F4E-8E8B-B3C209D7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53C3-CEDD-4B04-B8A3-8144E0DB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4C85-BA0B-49D9-9540-E0ABE8BB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BE39F-4718-4B46-A3A7-462CB812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63E00-74BF-42EE-AB28-BED5648B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D502E-1227-4167-B2EB-821AA4E7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9B9CF-EF03-46E9-B9A2-9F0CE666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793A3-BF34-4E4B-8BEF-880035C7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0014B-A6EA-469F-A72C-0E5BA643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15A-FD2C-4785-816D-0FEEE6E3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F53-1D7E-446B-945D-B8F008C2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D03-67AA-4E0B-8797-88B68CC2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838-27B0-4836-A8B9-CCEB7BE8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4B6-DC1A-4B0E-A554-CCF5C080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CE53-0766-43F9-B355-881224B64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0D9B-F6AC-48EC-874E-B7CCFF3899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3D87-BF01-487F-B8EC-0075627B1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urer In Heart, O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GRA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4.6.4.6.6.4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A. L. Davison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more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urer In Heart O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360" y="6488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urer In Heart, O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urer In Heart O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urer In Heart O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1360" y="6488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urer In Heart, O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urer In Heart O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urer In Heart O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360" y="6488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urer In Heart, O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urer In Heart O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1:18Z</dcterms:modified>
  <cp:revision>30</cp:revision>
  <dc:subject/>
  <dc:title>Slide 1</dc:title>
</cp:coreProperties>
</file>