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D48-F02A-48E6-AA81-F4ABC36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1D7-AD5D-497C-A283-022DDDEE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92C-FA3F-4229-849F-7B50A25C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90E-8A30-4F22-8F3D-0E0880EC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4D08-6814-4E03-B7BD-9629CA47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A9C9-A626-4942-BE66-3E8AB729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34B-6BEF-47C3-A2AE-1003BF19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7016-509A-489E-8299-6F62CCB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E982-A903-4C63-9691-0DF7B71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E822-32F3-41B9-B781-E87B269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9BBC-8940-46AA-AC06-E974A52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817-5CF7-435F-A355-EAC2F3A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A3DB-972C-4B02-A110-A548202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B3FC-14FD-49EA-BC6A-8832AA8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FCC-9506-4C17-9E89-BA6444E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235E-A505-45D3-A734-74C0BACF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FAF-F9A2-403B-B8CA-CEE670D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EF5-B0AF-433F-BDD4-6BDDCE1C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03DD-B982-4701-8888-2ED1079B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8426-26DC-42B9-A740-CE140C4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D4A9-06D0-4A57-8DB1-50853669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002-F0A4-4709-B707-EAA447D0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F885-3E29-4338-B045-93221308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6066-3EBF-4ADD-8E7E-5BB6CB3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FC08-2E08-4A48-BB09-7C24BB22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7612-B083-4C55-ADE8-B3430133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1BB3-274E-4D4A-A6BF-E6E4A67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9316-97C2-4BD5-B424-C1653A4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B811-4AEC-4945-AD69-BB5E401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ABFF-9E09-4416-8B5E-EFD93488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3127-D121-459A-9B4B-AEDD7EB2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ECB-D339-4B8E-9102-FFB0D261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9B4-E04A-4E32-A312-733B00B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4DC-253B-483F-988E-98FC281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A89-EFC2-4325-9CD5-2F9BFA6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8D4-797C-48A4-8C3A-E19CCC6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F59-9D97-4643-A14E-CB2B5B9F9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5A5E-420B-4244-8ADC-5F363DD00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638-0662-4BDE-832C-F1E2FB9A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he Lord! O Hea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USTRAIN HY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Foundling Hospital Collection, London (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Joseph Haydn (17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he Lord O Heave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he Lord! O Hea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he Lord O Heave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he Lord O Heave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he Lord O Heave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he Lord O Heave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he Lord! O Hea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he Lord O Heave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The Lord O Heave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The Lord O Heave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7:54Z</dcterms:modified>
  <cp:revision>31</cp:revision>
  <dc:subject/>
  <dc:title>Slide 1</dc:title>
</cp:coreProperties>
</file>