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77F-F695-4A60-876D-E8416187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AC0D-6A1D-47E4-A01A-9B392E48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3D0-E7B0-4BDD-AAD2-77FB4F2F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901D-C043-425C-A0D4-FA434BE6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7FDB-96F4-4067-89BC-A5D45438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2D96-F2E1-4CFD-A37B-EEE3BF18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6D07-1F26-46B6-BD73-558CA17F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354D-4A0E-4903-8F36-6AC820B5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5F64-04F6-4E5B-8018-C67A94CB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F381-60EE-4932-A2EF-B29232E4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E5A6-76BC-4444-BB85-9C3F8E71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323-801D-4207-83C8-7C825C9B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9F62-08A0-4BC6-8CF9-CDF44EC4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D0EB-0FA0-41EC-A76B-8D497910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8A23-7D01-4517-9F89-00345D35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EF2E-B6C0-498B-9DA2-6D9CC870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A7A8-40F7-49B7-AE4D-AB7D93A2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55D-43A4-4008-ABF4-235EB958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FC21C-452F-41B5-B225-8E746D3C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66070-B24A-4E8D-99CE-FAC867F8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669BA-1AF3-47DA-9A8D-23D0156E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4E0-A36E-460E-A6DA-07D4E57F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C5418-631D-461B-948E-B40F69B5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26B7B-DCFF-4270-9DA8-9C4C6C1D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FCC41-CE46-42B6-9D9D-5C3001C6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C5A60-95F5-43B2-9163-BB0E9BDD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35C40-B904-4DA4-A0F1-7B4F801D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E3F7A-849D-4351-B748-72FF4B94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082DB-345D-49FD-A66A-83D764C1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17F5A-5241-45A4-B39C-A5D6ECFA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20808-A1E1-4B40-9415-7D7C4E0F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5EB5-7FEC-44F9-A5AB-38621BF3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B723-D193-44DF-A9DE-809505F0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51A-8223-45DE-BF2B-C39D0764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3095-EA06-4B77-8546-07D32829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FE87-FB92-4B09-8721-D8B73027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A518-7982-4E9D-9BE0-24A623605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3737-B1B7-4A98-9972-8D8AB8382F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2315-A0A5-4C54-9BAF-A7E95EEDF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ince Of Peace! Control My W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HAT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y A. S. Barber (183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T. Porter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ince Of Peace Control My Wil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4840" y="648828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ince Of Peace! Control My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ince Of Peace Control My Wil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ince Of Peace Control My Wil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4840" y="648828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ince Of Peace! Control My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ince Of Peace Control My Wil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ince Of Peace Control My Will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4840" y="648828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rince Of Peace! Control My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ince Of Peace Control My Will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rince Of Peace Control My Will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4840" y="648828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Prince Of Peace! Control My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rince Of Peace Control My Will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3:00:21Z</dcterms:modified>
  <cp:revision>29</cp:revision>
  <dc:subject/>
  <dc:title>Slide 1</dc:title>
</cp:coreProperties>
</file>