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079D7-6718-41BE-9CA5-88E481A42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29A26-4C48-4CC4-9853-974AE3E58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B7360-BA53-44BB-85F7-96187DDD5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089FC-1BEC-4D32-96E5-39722B017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FB8BD-17D2-4C53-8D9E-BD3058447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D00B5-0D8D-4978-8D69-21B8E50C0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972A3-902C-48CE-B65A-9B9C7A8B9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531DD-AD6C-4195-B7FC-B83551F89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7B0A5-3740-4CFB-B88F-5176F3E31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13796-FF2A-4561-8F74-F24FC2D10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84348-14BB-42F1-A5DD-35C3C70F3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BEB65-4734-4E84-8EAD-D89EC1570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E104F-C363-4E27-8D39-83FCC6548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F0F0B-FB6A-42F2-A66D-1FA200CB7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C889C-26AD-41B7-9C9A-04F66D615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B099F-12F6-4B7D-A7AC-1FCD2218B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B601E-44B8-4F80-8266-570A58B36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6EEFF-965F-4F4B-A236-468D23D1F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7057F5-99E9-4F7D-9DB6-4B7510AC7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5323FC-BBF9-47C3-B31A-A737E4D53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EB73DB-4701-4395-A820-0A23A38C0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FE525-F0DB-4426-BC9C-68495AD2E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5FFF64-C8FA-4FCD-8DB1-F665F6375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AAB326-F41F-4DA8-A21C-5C2CF6D54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59EE96-581A-4A58-A2B9-E9E608231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A95F2F-929A-4B00-B122-532B77ADD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0B9BDE-E28B-4225-8848-716A36318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27BD38-5A75-43BF-AEE8-283B1955F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B0D71B-1A1D-4813-B912-4E15A3288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E6F3DC-DFF5-46F1-BB88-4E7F9689A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C146C0-62B2-4895-A9EA-41F04C3D9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450E5-D4C5-48C7-8510-C6158F2AF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026F6-408E-4749-85DF-B62AA9DDC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D845B-04A9-4E7F-9BB5-B3EC80674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0CF53-36EE-4982-96B5-23E6AA951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2FA87-7020-41C1-92CC-8136C9D7D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DF6A4-1E02-496B-839A-D0E964F703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75060-4008-45FA-A998-155D47F4F05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1D23B-C8C6-4859-92AF-256D4BFD63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3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Peace, Perfect Pea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PAX TEC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10.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43200" y="4902120"/>
            <a:ext cx="1308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C/G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Edward H. Bickersteth (187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George T. Caldbeck (187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32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Peace Perfect Peace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70200" y="6488280"/>
            <a:ext cx="312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Peace, Perfect Pe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Peace Perfect Peace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70200" y="6488280"/>
            <a:ext cx="312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Peace, Perfect Pe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Peace Perfect Peace_v3o4o7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70200" y="6488280"/>
            <a:ext cx="312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Peace, Perfect Pe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4" descr="A picture containing timeline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70200" y="6488280"/>
            <a:ext cx="312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 ~ Peace, Perfect Pe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76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9T22:54:56Z</dcterms:modified>
  <cp:revision>37</cp:revision>
  <dc:subject/>
  <dc:title>Slide 1</dc:title>
</cp:coreProperties>
</file>