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2AD-3E9F-4900-92DA-A3775924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29F-2DEA-49AC-9E42-89AD14B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0BA-06EB-407E-BAD2-A635B97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9CC-0629-430A-80B4-DBDF6DF6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32AD-7884-4761-A794-FF0CAE1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1979-D5DF-4AA0-B7F0-4500B318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FA0-1CEC-4911-881A-162B4C2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918-6B3D-497C-9261-A9017E19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30B1-F905-4125-9D62-3925A71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906-5E6E-485E-BDBD-3B4F995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17D0-8AEC-41A2-BACD-09550D0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DE2-2B28-48F8-A728-BF0945B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93C1-72F6-4DF2-8B2F-391B153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C18-626C-45C3-A239-3969DF64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178-1D30-413C-985E-0F17FB2D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AC8F-857F-45CB-9CFA-3ADAB4EB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4BB-5886-414B-ACBF-322C9A6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D66-1586-49A9-B5F2-82DF5512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D3A0-5ED8-45C9-AF1E-1894FC5E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96F6-02B6-468D-9478-8CBC559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4DE7-EFAE-45B5-8424-EC7B80F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718-D054-4705-B580-D9B058F1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978F-01A1-4373-B362-746C4FE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4446-DE17-40E1-947E-27FF0990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4CD3-81CA-45F5-AC82-DFEA9475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FBC9-AB2A-4948-B2C2-143B3744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030A-71C4-4729-966C-E2F6DD6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E228-0743-4929-86B8-FC25B9D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BE62-858C-4393-AB57-4A6303B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A92D-CE90-42B8-AA4A-953CFD51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E727-1913-4360-BFD8-B555596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AFB-698F-471D-8EB0-20A2EEEA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45A-730E-48E8-8B2F-7A1D3A71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341-ACB8-4FCB-97D2-411B851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D9D-F66C-4A2B-B60A-F4D18C3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755-ACF5-4A42-B0BB-05D16A8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B057-152D-4A1E-BCF3-601A3E0B5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50A-129D-4297-9C98-ED9AA9466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F467-1420-49C5-AA50-2C8D21407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Him! Praise Hi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ester G. Alle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Him Praise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Him Praise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Him Praise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Him Praise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aise Him Praise Him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aise Him Praise Him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aise Him Praise Him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aise Him Praise Hi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aise Him Praise Hi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Him Praise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raise Him Praise Hi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raise Him Praise Hi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raise Him Praise Him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raise Him Praise Him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Praise Him Praise Him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Him Praise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Him Praise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Him Praise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Him Praise Him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Him Praise Him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Him Praise Him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11Z</dcterms:modified>
  <cp:revision>18</cp:revision>
  <dc:subject/>
  <dc:title>Slide 1</dc:title>
</cp:coreProperties>
</file>