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739-0D99-4043-BB22-581E8536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B6C-81D6-4361-A440-FA3F6DE3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D58-2557-4984-A4B8-2AF5E131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2C0-77EC-4F5A-B8EE-E2A3025F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E31-41CA-47B6-9319-D1C07711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46A5-F7FB-4181-8516-62D94B3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CF87-498B-413F-8453-C1E1EEA8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2D03-91C6-4EE2-82E9-F43364B6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C37C-35DC-4C5B-93DD-5876524E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485E-E218-40DE-93F5-0C950EFA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05B6-E2C1-4501-91E2-6D12B34E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972-B520-4753-B8C1-879FC5E2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BA7-CEF6-48A0-83C3-09CD3BC5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BD2-3B3C-450B-882C-B0729121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460-A93A-4201-8294-E99D9C5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990-357E-4E1C-9B7D-DCADC3A1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7152-25E7-44F1-811A-5577EEE4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DDF-0667-458B-90EF-7798A26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7368-51B0-4932-BB82-0BEFA7BA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5F9D-CE89-4E1B-8C85-21C3161E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2346D-57ED-47BE-BF51-87E566DE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835-936E-47E8-8F1F-AD26F9DB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A020-6FB6-48A7-A5E7-4F596661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01BE-7389-45DA-8F02-9F410298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211C-0849-4F81-9D6B-0CB169E8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3AB2-0248-4C37-B2AE-E836CD1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6477-9AC2-442F-B60B-851ED01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0252-48C5-4178-84A4-475FF3CB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9AC5-7ECB-4861-8197-AFBDE43F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A06E-531B-4884-A48A-23739CC6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5A97-8882-406F-BB4F-67A401F4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049-F323-454A-ACA0-0AEAC1B4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6A1-6DE8-4553-9A43-0DA78BC7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DCE-92F4-4AA5-B4D6-38264029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68E-D3E9-4646-BC2C-ED6C61EC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A80-9DA7-430E-9611-3CDC72A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E90C-5F13-464F-A037-C9782D782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3ADB-E56C-4443-A077-4D86C4B54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363D-C65A-4BF2-9067-92C0D40A4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Nailed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Frank A Breck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rant Colfax Tullar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ailed To The Cro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Nailed To The Cro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Nailed To The Cro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Nailed To The Cro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ailed To The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Nailed To The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Nailed To The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Nailed To The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Nailed To The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Nailed To The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Nailed To The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Nailed To The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Nailed To The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7T23:03:38Z</dcterms:modified>
  <cp:revision>17</cp:revision>
  <dc:subject/>
  <dc:title>Slide 1</dc:title>
</cp:coreProperties>
</file>