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65F-5EE3-4531-9976-717CAF98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D43C-E7A8-4EAE-97DD-11C91F3F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9C9-53D1-4AC6-B8A8-862CAA83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A930-24AF-47CA-B599-445CBE46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DF04-8479-4437-92E4-E89FFE1F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E3AD-F24C-41DD-A557-31C1D9A9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C69B-31CD-483E-A60E-6FC49C19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1368-933D-4DBA-BC5D-6E9C64D7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AA95-78BF-4577-9D77-CDCB0064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5DCD-6F38-4F81-9896-FC4A0E1E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85B0-1B6F-4919-AC52-C05EFC07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8DB-1DA8-401B-B3BE-B102F3D2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039B-529F-45D7-BD91-D9CD3CCF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623B-E6D8-4201-94E2-154C50E3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5333-FC0A-4250-B631-7C45E1DC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C330-7602-46F9-9B23-24E1B670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8689-E085-4F44-B225-732019CD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7205-E186-44AD-A5D8-11ED607E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BB438-2D27-4ED7-884C-BADCE357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5769C-08B7-44F9-86EE-AA1222C6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AA729-87F1-4577-A18A-4CB6EA2D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69F-EC83-4366-8ACA-F071EB7F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56BF5-1000-44B7-BD16-8192C924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C2D1E-D79F-4010-BA72-94247816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9279A-9BA7-496F-AAD3-58CC28F9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F8A43-ABA3-40CE-BFD8-9A2BFAA2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ED1BC-47B9-4B60-A175-C922D9FA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FF543-8BD5-4C94-9BC3-0FB85BE9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DD922-1A99-4A4B-8B19-DA021364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5D092-626A-4EC1-8A23-B7A5F712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6EC61-2497-48E2-AF97-4BC3D663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042-0816-4FEC-B8A2-87203992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EA8E-8C1D-4806-A1CC-B6DED02F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AD0-7755-4C6B-9E29-9EC8D8A9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7AC-2F01-4CEA-A0B6-6CD4437D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B04-4968-4CFF-A1D7-A332BA74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6996-35F3-45CA-BBD5-68D96CFB9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5CED-2908-41BC-9FAE-A69E7B316E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A528-532D-4BAD-B83E-B6DB1E834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earer, My God,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ETH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4.6.4.6.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rah F. Adams (18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son (18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arer My God To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980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earer, My God,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earer My God To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earer My God To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980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earer, My God,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earer My God To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earer My God To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980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earer, My God,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earer My God To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9800" y="648828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Nearer, My God,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earer My God To Thee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06:38Z</dcterms:modified>
  <cp:revision>33</cp:revision>
  <dc:subject/>
  <dc:title>Slide 1</dc:title>
</cp:coreProperties>
</file>