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0A28-E674-4B90-BC2E-3280428B7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B980-A66E-4010-AB17-CA2EC8C5E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EA58-8E4E-4D77-9E13-382CD3CDD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5C89-42BE-46BB-9FF8-50A6A5EC3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84B47-7ADB-4C09-B754-46F200B91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98425-F105-4AD7-858C-B089B4AFB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A9635-9800-452D-994E-9AA50064C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02400-DF33-42A2-8CFD-5415E770B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7CBD2-B778-4630-8646-F59F4CEB9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661C1-B980-4105-88E1-F1F6CA7B9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35A7D-96CB-403B-A40B-41236785E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B22D-B69E-4331-B6F8-BB9323846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B1FFB-A610-4705-884F-A7E6EB62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9534E-5A84-482E-B505-B7B804E8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7C2D8-8408-47F8-9C75-4AD2A0A67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D71DA-63D1-4840-B51A-B34848401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74E04-449D-417E-9133-6CEB0E46A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FCE7-5A9A-4EF8-BA37-3EEF40F2E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AC0A4-E11B-470B-8B77-1BA9F67EB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6CA4C-54B5-4E8C-9F27-F5AD23705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9141C-459D-45B3-BAE4-FF99C9D3E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9F0B-3FB4-4E36-8FF7-3666D1D80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2E4D4-6AFD-4AEB-912D-080CA2A2E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A13CB-448E-4339-BB6E-FE26D6899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0F5BD-34F6-4356-9848-B6A0F4A67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869E6-70CC-4CDD-BCBD-3DF600B4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C0949-5DC3-49E9-A644-F3CA418ED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DA735-E7C9-423D-99AA-B08D4113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0AFED-0A55-4C91-A289-6D181CB4C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250E6-D3FA-4A78-9439-07881053E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A7CE4-2A6C-492F-AEC2-CE4620797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E95D-87D4-45AF-99EB-88B3D1A3B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698B-E9A2-4E9C-813B-49045B6B8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0053-C470-4CC5-A739-7D2F48E1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DF25-D2F0-498D-89D5-23EB6936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80EC-541E-4515-8580-5C603F16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D6B4B-A391-4CCB-948B-86BAD00731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4FD1B-1793-41E7-8FD6-7A419DDF71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CF2DF-BEFA-4424-BBAF-2877FC3747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Nothing But The Bl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F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Robert Lowry (187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Robert Lowry (187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7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Nothing But the Blood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85320" y="6488280"/>
            <a:ext cx="336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Nothing But The Bl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Nothing But the Blood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Nothing But the Blood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Nothing But the Blood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Nothing But the Blood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5320" y="6488280"/>
            <a:ext cx="336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Nothing But The Bl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Nothing But the Blood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Nothing But the Blood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Nothing But the Blood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Nothing But the Blood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85320" y="6488280"/>
            <a:ext cx="336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Nothing But The Bl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Nothing But the Blood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Nothing But the Blood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Nothing But the Blood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7T23:07:27Z</dcterms:modified>
  <cp:revision>32</cp:revision>
  <dc:subject/>
  <dc:title>Slide 1</dc:title>
</cp:coreProperties>
</file>