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9EC-7E3B-438B-83D4-20E2ED2F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F0D-8A24-46A7-ACA8-387E9C4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166-6200-4155-A6DA-75FAE85D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7AD-91D0-4165-B62B-63C8168D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1081-2195-485C-9824-D84D2274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E930-6B84-4CDD-A42A-15C81C7F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E010-C2FB-4D4B-ADE4-FC254C7E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DC65-3AF0-4105-8C56-A0B5F6D8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C540-B085-44E1-9722-AEE3FD39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8076-7D69-42C7-8746-C047F4A6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4F29-B029-4C62-AFA9-E45F694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121-6403-425F-8685-81021A15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80DF-B9D5-4F9F-86A1-9C9B4937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D0F4-84AF-417F-8772-D4D3198B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3A74-1879-4EEA-BFC1-84453A05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A285-FBD9-476D-9215-0A208857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B689-6176-487F-8130-F47EA249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638-3AE1-4429-86EC-2FD1F00B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6F12-C8E2-49E8-B14F-A82EF9E5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24CBE-38DC-42D7-A614-E43A05FD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0266-315A-498A-A601-F190FF58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2A1-E0B1-4900-8AC6-6C95E5E4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4C70-65D1-48C9-A87E-AD1DF4E3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5ADDA-832F-47EA-B06D-E0355986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436F-6D26-4433-8F79-4B0AAE5B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50BF-4EAA-4715-AFA5-7AFA37F9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4DEC-6114-4593-9775-65895352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FE27-7204-49D1-A996-0EB7774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78CE-B216-4063-84CC-0CB48CBB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4A80-8081-45FC-AF4F-30FE0047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7A39-4CB6-4B10-8CFF-C820677A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DED-65ED-4BB9-9FA2-0F3836E2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037-125B-40F7-B17C-EA059DB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BC3-81A7-4F57-A6F6-979C5859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30F-D189-46F6-A61D-077EB0D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04B-B21E-4996-A5B1-14C83707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A7A3-E74F-4FD2-813D-44D31B056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FA53-FB37-4236-B00F-623B4423F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95F3-FDA6-4424-8A4C-54FE146CF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body Knows the Trouble I S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H, YES L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Irregular w/ Chor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uthern U.S. Spiritu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body Knows The Trouble I S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4480" y="648828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body Knows the Trouble I S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body Knows The Trouble I See_vEnd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body Knows The Trouble I See_vEnd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7486200" y="6519960"/>
            <a:ext cx="1660680" cy="338040"/>
            <a:chOff x="7486200" y="6519960"/>
            <a:chExt cx="1660680" cy="338040"/>
          </a:xfrm>
        </p:grpSpPr>
        <p:sp>
          <p:nvSpPr>
            <p:cNvPr id="190" name="TextBox 2"/>
            <p:cNvSpPr/>
            <p:nvPr/>
          </p:nvSpPr>
          <p:spPr>
            <a:xfrm>
              <a:off x="8539560" y="6519960"/>
              <a:ext cx="6073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4"/>
            <p:cNvSpPr/>
            <p:nvPr/>
          </p:nvSpPr>
          <p:spPr>
            <a:xfrm>
              <a:off x="7486200" y="6611760"/>
              <a:ext cx="103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body Knows The Trouble I S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body Knows The Trouble I S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body Knows The Trouble I S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4480" y="648828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body Knows the Trouble I S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body Knows The Trouble I S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body Knows The Trouble I S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body Knows The Trouble I S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4480" y="648828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body Knows the Trouble I S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body Knows The Trouble I S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body Knows The Trouble I S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9:20Z</dcterms:modified>
  <cp:revision>34</cp:revision>
  <dc:subject/>
  <dc:title>Slide 1</dc:title>
</cp:coreProperties>
</file>