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318-788D-47CC-97BF-CEE21298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D3A-10BC-43F5-A2CA-3B4989E3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374-0B26-41E5-AE1C-64A7B5FC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E68-ECFA-4015-864F-E158A8F0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32BF-C1C0-4DE4-881B-B335E26A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8B65-5955-44C0-9EC1-74E1E4FA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AD76-6501-4C3C-9EDF-2E952D42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2531-9F88-42EF-ACDB-1F961F4B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E83F-BF7E-4737-8B19-3B68A176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8818-A79E-4F3B-BB68-41C23604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4DFE-5D1A-4DD6-A6D2-468DB6E2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2AB-BD2A-4BD2-A265-C17F7109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908C-85B2-48B6-A55F-CA99367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B64D-1D08-4F0F-9A8C-E89D7796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9405-3ACF-4206-B9E2-2B5CF35F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7F2D-11F2-4866-9D80-29F24B19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FE16-D5D7-4B03-84A5-34BB2479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27C-2FBE-448C-8D51-9283BF38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AC6DA-A0B8-4A88-AD6E-337C4168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B7A70-16CE-4AB9-B95C-A784EFA2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20A2-8686-4380-8FFA-80451864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CCB-74BA-427D-8857-AE4C7594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2E11-C887-42AE-AC88-27F6C2BA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EEE1-C827-474E-AD63-337589FF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1718C-EE6F-43AD-83AE-0C4D56E1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E47B-CF4C-46D4-9835-FAE8268E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140D-6AFC-4926-9A50-7F1E5260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9AEB-2E37-45DE-9B44-AF01244E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6317-F343-4CD5-8DE5-18438797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4F81-D6A9-46F7-AF8F-E152EAAA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AAD1-B33C-4C45-A08F-7E3BCEE7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F5B-79DC-400F-8DC0-5C963758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F1F-2FD0-4063-9148-1EE8FA13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268-5C5E-43C3-A169-A9932666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3C4-80A6-4025-9F86-77322E9E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459-7A67-4F5A-9D9A-EEF9649C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A395-123B-4B90-AF08-528CF1673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F5B9-0589-45DB-8F6E-3F8D08925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D2BA-6FB0-4258-8305-DCDF63FD7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 No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Not A Fri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ton Oatman, Jr.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Hugg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 Not O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5520" y="6488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 No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o Not O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o Not O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o Not O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5520" y="6488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o No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No Not One_v5of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No Not One_v5of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No Not One_v5of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 Not O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5520" y="6488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 No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 Not O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 Not O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 Not O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 Not O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5520" y="648828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 No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 Not O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o Not O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o Not O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1:28Z</dcterms:modified>
  <cp:revision>33</cp:revision>
  <dc:subject/>
  <dc:title>Slide 1</dc:title>
</cp:coreProperties>
</file>