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D75-529E-4921-A117-DA1102D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4CC-6E14-45FD-89F0-85916BF2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FAD-5E00-4A3F-B068-5AE697F3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3A8-1F50-47E2-A7D6-33F2B2C8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44A6-D3AD-4457-B8AA-4CDEE885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5468-6118-40FA-9885-BCBB03B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2032-DBFF-4D41-8334-EF7BA93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2E21-F0F2-4EFF-BD1A-6885E3C2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02F0-5399-48D4-9273-07B0381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BC7E-6AD8-4E8D-BA3D-C8409C6D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8E53-3F56-48C0-BEE6-A26350A0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1A3-9B07-4363-A45B-DDAFE09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2638-273D-4AC2-90A4-9561A88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A08E-7B1D-46D9-B18A-7E2D574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299E-9B73-420E-B4EA-76BD3C6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F9DA-5D54-4FBE-B4AB-A0E591A4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7389-A397-4C2B-9937-5AF3328B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B786-7020-45D5-8CC2-BE065F2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2002-72C3-4FF2-973E-FEDCD527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CC36-A0D2-4215-A287-E6D56F6F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FE38-04E4-43A0-A5D7-B57664D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E20-CBFE-48B4-B152-3D0C0B7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2AED-2567-4672-BB85-BDE36046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55B6-AE59-4BB6-8FFE-84AC9BD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93E7-3E5D-4B3D-81BD-93FFAD88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570C-03CA-4329-B92B-238933AD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10DAA-012F-491B-960E-15E182F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213A-A929-4CCD-BAAF-8991FB7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6FD2-8C7A-452A-8DB9-BD13263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2B5F-0C22-4E30-9B58-07358DB6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9A41-B2C1-4F09-963C-19016D51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01E-1E8C-489C-8BCF-6711197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24F-356A-4257-89B1-2259ED5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9D3-9DD1-492D-A679-04F91832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D65-515D-4B66-A3EF-6C6168F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C32-C618-4641-AD65-AFCE8AA2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E25-BC38-47C2-9AAA-F398294AC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79A-99C9-4321-8057-372135153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C351-C151-451A-BF39-B1F16967E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ight, With Ebon 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O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7.6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. H. Jameson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P. Powell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ight with Ebon Pin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ight with Ebon Pin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ight with Ebon Pin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ight with Ebon Pinio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ight with Ebon Pin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ight with Ebon Pin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ight with Ebon Pin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ight with Ebon Pinio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ight with Ebon Pin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440" y="6488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ight, With Ebon Pi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ight with Ebon Pin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ight with Ebon Pin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ight with Ebon Pinio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44Z</dcterms:modified>
  <cp:revision>29</cp:revision>
  <dc:subject/>
  <dc:title>Slide 1</dc:title>
</cp:coreProperties>
</file>