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E48-B994-48E7-89B7-397153C9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607-76FD-41B2-8444-FBBD5EF8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E01-0D2E-497E-A3AF-F2D4A203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DA1-1110-4D3D-B661-B188E18B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9EF2-C819-4164-BA0C-8F8B17A3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3D0E-5563-496B-84AB-A24F36C2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B6A2-84EE-4805-96F2-A0F29A17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BFB5-8F81-4FAF-9EA5-7F39BB9F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FFD6-B6E5-40CF-89F1-21D0F8B8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413E-D608-44B5-B85D-84BC7818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45EA-AC6C-4B6D-8380-6CFE5F9F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7B7-3012-4DF0-928C-BBFE831A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0111-83DB-4DA0-A9A1-55501CB5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5808-1471-4C33-9140-7109BCCF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7E53-2E9B-407B-9192-DDB23649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C32A-5D2A-44DD-B078-F4456688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6013-66BD-4B69-AE03-D9987268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559-A02A-490F-957E-83861C36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BF35D-DF32-4DE9-9329-43F8CECC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C49D-1473-4169-A5D8-BEBC66DC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FC40-B81F-4A21-93DA-E12495DA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A9D-A2F8-4F76-B0EA-2001DFAA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A03BD-0A34-4670-A4E1-2E6FA731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04DC7-5182-4FA8-9211-C9F17AD9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C1CA-978A-4406-99C4-6E1D018D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78ED4-9F4A-45A9-BF3B-FFE68886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ECB64-811A-4C1A-BEF5-EDD8F342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1DD9E-FC1F-4641-8D3B-8E9C5F5D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EC668-A560-4086-A0FD-B52B44A7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DF62-B2D6-497E-89BC-9334D82E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B356-3D3F-4AB3-A99E-2B2B7785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DE5-5FE4-41BE-AFE7-6FD4BF0C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1D4-14E8-4DED-9B19-AE4BA988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5C2-0C29-4C3D-ABA7-903D70F7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35B-B3EF-4DEA-AC84-E30D2154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223-E395-4836-BDE3-03F63A1C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0C49-7F10-4338-A94B-24145C318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1806-FFF9-4DF9-984E-EEF210ADC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8B65-60AA-444F-BC68-19F4FA811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w The Day Is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ER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bine Baring-Gould (18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eph Barnby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w The Day Is Over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440" y="648828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w The Day I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w The Day Is Over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w The Day Is Over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1440" y="648828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w The Day I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w The Day Is Over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440" y="648828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w The Day I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w The Day Is Over_arr1_v5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2:59Z</dcterms:modified>
  <cp:revision>37</cp:revision>
  <dc:subject/>
  <dc:title>Slide 1</dc:title>
</cp:coreProperties>
</file>