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AC6-5B16-430D-90A6-0EF1B3C7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DD8-3A0C-4743-B23F-55F83A61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7CB-C91E-4DD8-A37E-1524484A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4E8-2479-4B12-9F18-B4471A65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9589-246E-4721-B9E9-9EE6D1A0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B29C-0FA5-4D97-AC19-57C7D8C4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6514-939F-4B82-B6AB-38B988E3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60F6-B282-4497-9FD1-3C83717E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3D01-A5DA-4ECE-8B3A-6A39BE5B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086D-DDBE-442A-A657-D2572DEF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D87E-A803-4817-8D87-8388914D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9F7-AA94-410B-B150-11E1C017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CBBC-DD15-412C-B791-5F6EAD17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1BA7-12A4-4A7D-93D2-F72EED5F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F06E-4FE4-4DA6-B555-A6B6BA6E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AF91-3BA9-498F-B2E6-CF7AC703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263E-1598-45D2-85EF-13A197CB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A2A-50AB-4A47-B774-E0B8EE48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7F1D1-E5BF-439C-A413-2F8D5AF4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C9B6-F3DA-42A2-9107-E3E0DFD6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40E66-8265-4E66-AEBA-B16DD8D0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F4B-DACD-4FC6-9DD5-08F95710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B0475-E3F5-4D75-A11D-E5791EAB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3EF7B-826A-407C-9824-E63756DB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A5D76-6797-4083-B111-6FAC3F9D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9501D-F38F-463B-85D7-85D62556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57C5A-81C3-4E35-BBAE-11696982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70AF-2596-4C3D-93B2-F1DBD71B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BEA00-1E38-4918-97C9-A3EC0873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DCC90-4893-41E9-B61F-E3192AA8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068E6-3880-4BAB-8E86-3D838315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B8D-6626-43D6-B570-9D0D2B37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9F8-8A46-4ABD-AE89-0FCBD697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FF5-8FF3-4715-AACC-107E65E4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1A0-B1AF-4824-AA57-E958ACAE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C0D-2655-4FE6-8F6D-A35E3B76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3E9C-A5FB-48A8-BF65-FC0EA49A3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4124-5D67-470E-9109-67F50D819E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B6AC-2F0C-40D2-9F6D-A5F241F82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ear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Jesus, Keep Me Near The Cro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Doane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ear The Cross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8200" y="6488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ear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ear The Cross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ear The Cross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ear The Cross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Near The Cross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8200" y="6488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Near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Near The Cross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Near The Cross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Near The Cross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ar The Cro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8200" y="6488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ear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ear The Cro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ear The Cro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ear The Cro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ear The Cro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8200" y="6488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ear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ear The Cro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ear The Cro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ear The Cro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4:29Z</dcterms:modified>
  <cp:revision>27</cp:revision>
  <dc:subject/>
  <dc:title>Slide 1</dc:title>
</cp:coreProperties>
</file>