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388-B5AC-41B6-A90B-2C4D56DC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40C-AD75-4AAC-92EC-47C74729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730-9A7D-4BC7-83F2-DB3AAB8D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B3E-92BA-4450-9E02-BF1B778B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45E2-26C3-4EF4-83AA-F8AFD31E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614D-97F8-452D-BEA6-D106B95D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5E4F-909C-427F-A667-7594CC9E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710-8E4B-4F7D-90EE-A9B5769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3B9-6AF3-4438-AE9C-52381FB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8EB-4EF9-48E6-88EA-777E4CB8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6D2F-CD54-40C6-943F-DAC4F56E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BD1-EB18-4351-AE2A-BC8027C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4049-7954-4CD0-A27B-9FE8B1D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725A-56E2-49BF-B2B5-8C3D61A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6219-406B-409F-B9CB-AC39D976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825E-68F1-463A-9B2E-374A7B1B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4B10-FE83-4E54-986B-6B438057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1E5-1131-4654-A7A3-BC8879B1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27A8-D9B5-44AF-94F9-4D140A27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E89E-AAA0-4D73-8DEE-4234D9AF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17C5-96EE-4A69-BFA3-2DCC9B0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3C8-1CF0-4E76-B9F3-0F47779D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AE89F-DB2B-4FED-B7F7-613215A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F816-36D7-4EEC-894A-A6AB887C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E90D-5C15-4D82-BA07-08A41CC3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8D85-B122-4020-B8BC-6FB370D8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1A80-23FB-4411-9EBC-9E1CFDE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3442-B0C5-474B-9337-8129552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6A46-D475-401D-8EE7-E223019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7271-E7AA-4557-BB5E-F43949FF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7D25-C711-429D-AC9B-C33F832E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49D-B1FA-491F-B7A1-CCDEAA18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59A-DC95-40D5-A6F8-AAE8573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210-9C07-4A39-B8FB-322DD725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B17-5D43-4056-9AB9-802D4771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BD6-5032-40C6-8C60-3D50681D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5FB-75CC-4323-9137-C4DA417AD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FC87-EC2F-4F16-A960-F0557B364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076-C3D8-47FC-A29F-C5E5A31D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er, Still Nea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.10.9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lia N. Morris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er Still Near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er Still Nearer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er Still Nearer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er Still Nearer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er Still Near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er Still Near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er Still Near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er Still Near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er Still Near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er Still Near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er Still Near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8840" y="648828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er, Still Nea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er Still Near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10:06Z</dcterms:modified>
  <cp:revision>27</cp:revision>
  <dc:subject/>
  <dc:title>Slide 1</dc:title>
</cp:coreProperties>
</file>