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1AE-F48D-4CD8-9810-29DED6B7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85F-0DB9-4CF6-8F9E-ED1096F0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E5F-AF2D-4BAF-ADF3-C4C78ECC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80D-1103-4FA8-A85A-C8A7B8CF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C4FE-A3CF-4BC7-8DA4-FA20447C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8BFB-028D-4139-B1F4-6A6824FE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D1C4-74E0-4B4D-98E4-9F5277C3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CAA7-24AB-42A3-847E-876A29DE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4627-D0B6-4B1B-8A11-3BA7697B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E9DE-6324-4380-99FF-E99E75A2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39B9-7E31-45B0-A2F7-C582560F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E93-0532-4A54-9165-AF8C5BEA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3788-BFAC-4AFF-B451-B8716D9D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DCE0-95A9-4B2C-ABF9-CEB9D553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0A87-FBE2-46D9-B248-6D569250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C80C-4151-456D-8EAD-5C819B76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E84-82EF-431C-ACAB-4629394D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2E9-FF64-4398-ABAB-3E038876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C066D-0731-4FA4-92CD-EBE3DF9D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EE0B-8DD5-4E4A-B249-C762EC52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EE32-388C-476F-B01B-FDDC197E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829-AE82-47C0-8087-3F6AD1CD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DB03-909D-42B8-9468-903BB31F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E6EE-1AA4-4C0E-9E7B-51B25611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8C83D-7300-4F10-9EF1-10EBF83A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67AD-CA9D-43BD-9352-6353AD53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AD26-FCE6-4D08-9D09-38F9551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DACC-2574-48D6-829D-518CF964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B64D-1AAF-400D-A831-F0DE8B06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F7B7-CE0C-470B-B742-93364A18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0096-FE85-467C-B485-933C088E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CEA-5120-43B7-BAD6-4D8BEC34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2F1-3F5C-4BF3-9EAC-10317995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C3B-CC5F-4D15-980C-EE6E97B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CBF-3EEE-4E1F-8083-38E05B3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ACE0-456D-4C8E-A49F-63AE362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E389-EA6F-47CD-9923-66B71C8A6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395F-F2F7-4D2E-8452-B364E767D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9599-9B93-4485-839E-CC68BB6F3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ne Of Self And All Of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Monod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ne Of Self And All Of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ne Of Self And All Of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ne Of Self And All Of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one Of Self And All Of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None Of Self And All Of The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one Of Self And All Of The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None Of Self And All Of The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one Of Self And All Of The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ne Of Self And All Of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ne Of Self And All Of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ne Of Self And All Of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ne Of Self And All Of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ne Of Self And All Of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7880" y="6488280"/>
            <a:ext cx="39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ne Of Self And All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ne Of Self And All Of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ne Of Self And All Of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ne Of Self And All Of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2:17Z</dcterms:modified>
  <cp:revision>34</cp:revision>
  <dc:subject/>
  <dc:title>Slide 1</dc:title>
</cp:coreProperties>
</file>