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AF1-C568-4245-B71E-57015FBD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519-38BD-4EBE-9919-BF607CE0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F63-9645-40D5-A720-EFC9DF54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909-A838-41BA-AFE2-E16061A6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24DF-7C2B-4A01-96AA-2A6AB3A6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9CF7-53B4-47D4-A215-FD06754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5FED-C661-4008-A936-A502D777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BD77-B04E-42A2-BC1A-104EDD5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ED3-7BF6-44D1-A1F4-FE097C8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E112-F1BE-4053-951F-4DAD4DF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0EC-2D30-4E2D-BB56-E58063A6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989-63FF-4C25-BD19-ADF685D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224-003A-4A71-98E5-43395C7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8EF-96C4-4E39-8C8D-EDC0691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3FA-797E-4C48-B81F-76DB05F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CEB-1F35-4352-A9D5-F0A1B2D8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A411-33F9-4C57-B59B-5589FFAD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F47-84E0-4A7C-B93A-0ABDFB3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9135-623D-4630-BD1B-626BAD83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132C-261A-48DE-85EE-48B2379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8B23-1ED0-4939-98EE-8CE9772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BF0-612D-49A6-AAE4-CE2FA66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4973-8645-43EB-8AB2-3BCC810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EF1C-E639-4318-91EA-3222D29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4199-E257-43D5-ACB7-5F69719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163D-5927-486C-A08F-5C9DB4C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14D7-8CA4-46EA-88F0-6AB8C47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A99B-63C6-44C9-81C7-B5453FA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1A41-3ED7-4370-A193-CB73C28A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A5EA-F139-45C6-BC2D-3F1F1B0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39C1-0D44-424C-ADDA-2A4EA73B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29B-DF86-4175-B77D-990193ED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D27-918A-4A9E-A9EF-83DC785F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A5-3C43-41B6-ABFF-BB4E97B8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BA9-D00D-45AE-B8D6-0A8E9A2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8BE-477C-4934-8738-5A5C5A3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1FBF-A1C7-4A17-8276-DB41BD945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9C32-6873-4141-9054-1F2EA9FBE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3736-73BE-42CC-ABF0-FDC7CAFE9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o The Heart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. B. McAfee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o The Heart Of G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o The Heart Of G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o The Heart Of Go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o The Heart Of Go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o The Heart Of G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o The Heart Of G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o The Heart Of G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o The Heart Of G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o The Heart Of G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6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o The Heart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o The Heart Of G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o The Heart Of G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o The Heart Of G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5:53Z</dcterms:modified>
  <cp:revision>27</cp:revision>
  <dc:subject/>
  <dc:title>Slide 1</dc:title>
</cp:coreProperties>
</file>