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349-E179-44BA-AFF5-9EB26346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6BD-BEFB-4A2F-87E6-E10A39C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DBF-877A-440A-9DB5-C2A329DD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707-119F-421C-B337-61D56F5D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A933-66DE-45F7-9450-A2E9BA17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57CF-D6EF-479C-B184-0FDBEA8B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887E-4910-4619-AF97-527B653E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6BC6-D2AE-470A-82E6-1D628FDD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28FB-CDA4-4273-8563-3028870C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00EB-9CE3-4C86-BC9E-47FD27A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D8E9-1C5A-4129-94DF-CC9222C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5A6-78EC-4EA2-81E8-05F633B0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CC60-C64D-433A-A22E-E53BAFC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F42A-EDF4-497E-99FF-4EBA181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6C65-F9CA-4483-826D-33EF84F3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B21F-1F62-4F88-87DC-E3058D8F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5366-8611-403F-BE28-DED3B4CB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4D1-03E5-490A-878E-2E87B984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8DC0-A0AD-4920-BBBF-258EA253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8EDAF-684B-4943-B83D-B09E1B90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E77C-CDB8-4591-9471-CB24C9D7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68A-8731-42FD-BCF1-801C960C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11BA-6E18-47F7-9BA3-92A60360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6FD8-C81C-46B6-A796-617D3350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6DA04-9DB4-4B54-BC9F-5344E2C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98662-1F74-4267-88DA-6BBE1CF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EDDB-3BFC-4158-964E-462A30AC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81C8-D654-4422-9942-89F775B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64E8C-3BF3-4C25-A7ED-7FC0899D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8D88-FB90-490F-A65E-3DEBE826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C7F50-022E-48CB-9EFA-EFE7F387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36F-E34F-47A2-9999-4DDCBD25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7CA-91D1-4287-B14D-D08165DF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540-9F2E-40BA-BF9C-57CA0A1A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E13-98A2-4F43-AAEF-EB029AB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2DD-2E53-451F-A863-C6DE6787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8F29-30DC-4E7F-AF00-800DCC967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4073-4F6D-45BC-9B4F-3C79021E5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8F17-FA77-4063-84BC-8720C0D0C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Paid It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. S. Shaffer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Paid It All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Paid It All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Paid It All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Paid It All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Paid It All_arr2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Paid It All_arr2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Paid It All_arr2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Paid It All_arr2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Jesus Paid It All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Jesus Paid It All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Paid It All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esus Paid It All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Jesus Paid It All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Jesus Paid It All_arr2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esus Paid It All_arr2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Jesus Paid It All_arr2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Jesus Paid It All_arr2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Paid It All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Paid It All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Paid It All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Paid It All_arr2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Paid It All_arr2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Paid It All_arr2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Paid It All_arr2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5:36Z</dcterms:modified>
  <cp:revision>26</cp:revision>
  <dc:subject/>
  <dc:title>Slide 1</dc:title>
</cp:coreProperties>
</file>