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0C0-BE27-4A11-888A-4F5F041A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4D40-291D-40CF-B4FD-87C54AC5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5F9-4A8A-47A2-A79C-096B0FEF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363-52C5-4338-8619-5A0A4AFF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3D55-265A-4EA3-AC60-CFB221CC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4EA3-5CC0-4FBA-A828-7D6DFF11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97B1-0263-4A17-8593-0CDEBF32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8433-CDE7-44B2-843E-408F5B4B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3CC8-C90A-4B8B-B0F4-CF95F775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621B-C217-4BF1-AFD2-D2475D60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890A-2D94-4168-B96C-F7161F43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2DF-AC0A-4346-A46A-521431BA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39DE-C0F3-4814-9AD6-D7035855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B259-1D84-478D-BF21-E9566D45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189C-3B87-4C55-84BC-3B743624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1EC1-933C-465D-866E-0B5546C9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A296-BF13-4617-BF1D-64213208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1ED-1FE5-4419-8DC0-75528401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83AA1-152E-41F0-B0A3-DC329A4F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D00F-A795-4065-B2D4-5BA1F166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A5D68-B7E8-47C0-A6AF-DA9F8426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6C4-43B9-4A70-B067-13218322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D42C5-933D-4505-BED1-F75A8573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01C2C-403D-409F-A81D-1DADCB2B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ADBA6-DD50-4F95-A5D1-EAF7F4B3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067D2-6A82-43CE-BC63-E8B24516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4A669-595F-4826-A0F6-565ACEDF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2BC0C-BDF3-4388-904A-219A3B47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6FBF3-0997-4CC9-974D-887A7D40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0D5CC-77CC-4721-9815-BF6ADEBB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D0F8D-22A7-4BE0-B82B-C82BA941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94E-B943-4FDF-B076-5446E34A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BCA-66DE-4F65-8182-9D4FBC34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7B8-D0D2-43FF-AF2C-ED69BE1B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43C-1F80-4998-813D-4C4D318A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456-FE10-473C-BAE1-A8CF0102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3A79-A029-4DD5-B760-8622E510C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2FB3-46E3-410A-82CC-65CFFB1487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7AD1-F1C2-4F56-80C7-B6B5BF475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, The Loving Shephe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A. Ogde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esus The Loving Shephe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The Loving Shephe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The Loving Shepher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The Loving Shepher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Jesus The Loving Shephe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6280" y="6488280"/>
            <a:ext cx="38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, The Loving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Jesus The Loving Shephe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esus The Loving Shepher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Jesus The Loving Shepher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Jesus The Loving Shepher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Jesus The Loving Shepher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The Loving Shephe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6280" y="6488280"/>
            <a:ext cx="38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, The Loving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The Loving Shephe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The Loving Shephe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The Loving Shephe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The Loving Shepher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The Loving Shepher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The Loving Shephe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6280" y="6488280"/>
            <a:ext cx="38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, The Loving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The Loving Shephe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7:52Z</dcterms:modified>
  <cp:revision>28</cp:revision>
  <dc:subject/>
  <dc:title>Slide 1</dc:title>
</cp:coreProperties>
</file>