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979-E313-4EE0-BCB3-2FB31343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3C4-B35E-4F7D-9331-E8761313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941-CAD4-4B9B-9F33-23A75C4E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30A-0EF6-4BCB-964D-EE35FD6D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40BE-5988-42EE-873F-27AA88B2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4CF7-47B2-4D84-A529-08563804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EC6C-B855-4674-AC0F-69B85104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F72-CED3-4589-A94A-E4C0E7BA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40C-13C5-401E-B8A9-68827BD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7A7E-CCAF-41B1-B2C9-92B7E3D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B856-D5FA-4698-86B3-F84F5BE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D44-64C3-4005-8782-9C2CDF64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16C5-766F-472D-883A-3F142B8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820F-CF26-423F-8198-897EDAB7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2EFD-B7B6-408E-AF85-A12DAC88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3C5B-9956-4CA8-AFC3-729F8F14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32BC-A137-41CF-A06C-BBAE1536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1C6-9177-4C46-BA72-3DDBE89F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9DC7-FFBE-4425-B3F3-E3EF190D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6F7B-316E-41FE-8E1C-D558D36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8E15-51E0-4463-B9B1-C517851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C2A-B8E9-4E99-90F6-04D8B524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E417-8509-452E-9B61-576F041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DDB5-4950-4FEC-9282-ED40E3E2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9D79-56AA-44A4-BEA9-0087F15D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F1FB-0448-4319-8B35-B7B83FE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B22C-C321-4A68-9D68-07947BD5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C867-B7FD-4F07-8159-E0839C92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5CA6-EFFE-47AE-9607-AA53BD34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14C5-0C29-4A14-96F0-F00CFC3D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BDF2-35F0-4DF8-8EE5-855B9024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7CC-3D1B-44C2-B7B4-4EBE9EF1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049-CF62-4634-A994-1F4D0CB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CD9-653D-4EAA-BB0C-58F6FAA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321-14D6-4F1B-ACC2-9A38975E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3F8-B7D1-4F17-876A-587775B3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6A50-DD14-4575-B76B-2AE438C24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8AF6-3993-4028-BCF9-F6D1919AC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327F-4A11-4920-8125-225899C6E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Savior Pilot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Hopper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E. Gould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Savior Pilot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Savior Pilot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Savior Pilo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Savior Pilot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Savior Pilot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9000" y="64882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Savior Pilo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Savior Pilot M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Savior Pilot M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9000" y="648828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Savior Pilo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Savior Pilot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7:08Z</dcterms:modified>
  <cp:revision>35</cp:revision>
  <dc:subject/>
  <dc:title>Slide 1</dc:title>
</cp:coreProperties>
</file>