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677-9E98-492A-B809-AB226F3B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2F5-FB7F-4607-9015-83B1F835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2C8-B349-4C5B-82DF-92AE55BC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7D1-FB38-4E00-981C-571CE0DA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C60-E135-482F-A985-DF55D7B6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ADC1-A078-45CB-A3AF-B707E0B6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3E0A-290D-4BD3-9138-2E216FF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748-FB1B-45FC-98C2-EC98765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CEE-3752-4694-908B-0E76FAC9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7CCC-4255-4BC5-96ED-032FC1BC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822E-7B96-4A68-9E8D-17BCB58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B39-1024-4AB2-8389-B9FB2A53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B61-4812-40B1-A249-222B5CC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376-562A-4DC7-A029-6EA8A8BE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6CD0-8212-4946-AD3E-B90A54C1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7ED4-53DB-42DA-81AC-B4E36EB0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A10-169A-48A0-9EC3-7CA6CBF8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093-C702-4335-AEAC-ABDCCCF7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00430-1844-48A5-A810-A2671A8A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0069-9DF6-4648-943C-DEE60CE8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6AF2-917A-4103-8B5D-61077E1D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F5D-5F7E-409F-A2E9-975F15F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8F9E-375B-4772-81D1-2574214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A017-B347-4B9C-8D6D-7AB2321D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77B50-A576-4662-B2D8-6C47C6A1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C352-F9DC-48E2-8150-70B4F38A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7774-5AC2-458C-8A94-0B3B726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1E9DF-6D35-4455-85E5-3D429354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64F4-AD47-491B-9BE3-4B524BF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2664-B1F7-49EF-B6BD-7169CDF3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6355-7595-4C54-AE8C-9D06F9FF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03D-AA7F-4469-AA82-5ECB040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BE6-EE8A-49BA-B343-36FD601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47C-1067-4B26-B18C-4EC9076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8287-BFCC-4ED4-9C67-23FA7207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9EB-B54A-4D19-B562-15FF0F4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08A-B9A1-4B0D-B29C-4B3D858FD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6B7D-71BF-4EEA-9225-7CFF6BE4F0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9FC3-C9FB-44D5-954C-30DF19C2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e Very Thought of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AG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rnard of Clairvaux (1150); Tr. Edward Caswell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Dykes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7" descr="A picture containing tabl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The Very Thought Of Thee_arr3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The Very Thought Of Thee_arr3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The Very Thought Of Thee_arr3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The Very Thought Of Thee_arr3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The Very Thought Of Thee_arr3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The Very Thought Of Thee_arr3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The Very Thought Of Thee_arr3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3280" y="6488280"/>
            <a:ext cx="430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, the Very Thought of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The Very Thought Of Thee_arr3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2:37Z</dcterms:modified>
  <cp:revision>35</cp:revision>
  <dc:subject/>
  <dc:title>Slide 1</dc:title>
</cp:coreProperties>
</file>