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8EA8-18BE-427E-9499-429D0A4F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C27D-36FF-4F8A-BCE9-6AA17607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6331-DE3C-44C9-A366-B9B6E5A6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E712-BECE-48EF-8DF6-0AD9E0BA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B0B0-4E1D-4516-8261-8AF427A3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5959-DA7A-4982-BA69-04387A9B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DEEA-E2E3-45FD-831F-31CDE558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7CF5-3675-4C4A-9170-FBF85C6A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E019-27A1-40B6-AE9C-B59456D6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245E-4106-4D8E-A56A-D541B23C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BF66-16E3-4E6A-B3D2-5438A82D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4A08-1A06-43E3-989A-65B81CE9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84FA-3C84-4F8A-A904-2A1CF047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6049-9A6D-464D-9F97-0EFBBB3C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568A-B9B0-4ECF-AB68-39936D10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8194-B1CB-4B26-BD87-F822F18C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45DF-3647-4699-94B6-3ED39706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76C0-C33D-44A4-B2C5-FAF771BE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BAFD6-ED2E-4E1F-876F-F99C975F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267AB-4D5A-4CB4-B70C-2D341EEF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AACD1-1DCC-4EDD-9864-FAD120D3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80F4-02BF-423B-9426-805BC873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50F85-96AF-4F82-929A-B1983442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54852-C443-4876-82AD-95E6C561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7AA1B-A2D0-4539-B322-BF008AC2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BBED4-FC58-4EC0-9F1D-35C0E804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F5C97-110D-448C-B39A-322903E6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545D2-43DE-4275-B6BB-FD0C4A78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E123B-2D5F-489F-8A7C-A1757099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0C7F7-B143-4251-B8F2-DC11A9815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31BEE-3706-4271-B391-480DBC82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B074-878C-4AAE-B41C-DD9515BB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E37F-5EE7-445A-855B-007C66EB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B5A0-6415-42F0-B30A-E8BE0725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AB03-233C-4D17-BA9C-8FAD3208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D25C-9808-414F-BBE2-4F506EA9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BD37-0AB0-4C49-8922-E998ECE58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4451-B853-4B7C-856F-D9A16F606D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80FB-7474-451C-9697-1E31387F0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Jesus Calls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GALI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ecil F. Alexander (185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H. Jude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esus Calls 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6120" y="648828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Jesus Calls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esus Calls 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Timelin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6120" y="648828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Jesus Calls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esus Calls Us_v3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6120" y="648828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Jesus Calls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Jesus Calls Us_v4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7:54:55Z</dcterms:modified>
  <cp:revision>38</cp:revision>
  <dc:subject/>
  <dc:title>Slide 1</dc:title>
</cp:coreProperties>
</file>