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821-EA36-415D-82D4-860E85E6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DF3-F47D-4063-8418-96FC66AD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CFB-4930-45BA-95D2-CD332379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91A-69DF-4EA6-8661-12433E04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80CB-54EE-4BE5-A2EE-DABFDEDA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D358-3534-452A-BEB4-31D2CEFD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57E9-4739-4AC6-BE2D-250E5FB9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E767-55F3-4045-BA1C-72844E94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53D5-F84D-4663-AC13-60639504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5565-01B6-42B4-B2FD-D02F171A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0CF8-EA8B-496E-AD16-58041BDB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168-ED5A-433D-8464-B0E879A3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E51B-4D6B-4B24-B2C6-E75CB308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A9DA-FC6E-4821-A7D4-68E15FA1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3008-9157-44FB-937F-7471B170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88CF-BE3C-4102-8A62-4E0033B7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41FA-BE02-4F3D-A4E4-AB4EC8A1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8DE-FA65-4F51-A316-D110E6A3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05664-22A9-4482-BFE7-AD726B47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D9614-4D3A-43B0-8480-2510B50A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0479D-2AAD-4BAD-A706-A0551AFC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7D7-5CBD-47D3-9DF3-456243DE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9C2CD-3B77-4FD4-8EB4-E3038F3D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FC5F6-C804-43E0-B921-77D3060C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0784-72E5-49E7-825C-D906AAB4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DFAF1-0462-4312-94E2-23999064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89C85-AC57-4C6C-8628-ADCF6189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A8F78-913A-4A6F-A25C-1A588DC2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8720F-51B4-48F6-B083-DEEF693F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887AC-8D88-4A1F-9322-64DBDA27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B0612-69D5-4BBD-849E-6824BEF2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0B9-B6B1-406A-89FC-A4D3CD44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9C2-E2B6-482F-BA9D-C2344253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CECF-8985-420E-BC0D-B0D8DE24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503-D148-4A02-90D6-65A9BBE3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4341-FC71-4F78-9FFD-923E348C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0A9C-60C0-42D6-98F7-465B385E9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8F74-5399-4D24-9D09-B68A0D8C73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30C6-6627-4D17-AD75-9BBAD1A19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Is Calling, Calling, Ca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almer Hartsough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more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esus Is Calling Calling Call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68120" y="648828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Is Calling, Calling,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Is Calling Calling Call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Is Calling Calling Call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Is Calling Calling Call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Is Calling Calling Call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68120" y="648828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Is Calling, Calling,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Is Calling Calling Call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Is Calling Calling Call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Is Calling Calling Call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Is Calling Calling Call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68120" y="648828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Is Calling, Calling, C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Is Calling Calling Call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Is Calling Calling Call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Is Calling Calling Call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5:03Z</dcterms:modified>
  <cp:revision>32</cp:revision>
  <dc:subject/>
  <dc:title>Slide 1</dc:title>
</cp:coreProperties>
</file>