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41D-F35E-4CF9-B84E-35FCEA15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0C5-BE9C-418B-9983-873FF852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7EC-A8BD-4982-83D1-F13EFE05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AAC-9BF5-42DD-84FD-FC909D9A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ED01-FE88-4EC3-8086-47D3E205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1270-3E7E-45C4-8D5A-E75854A0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0E4A-5C0D-4CE6-962D-114A2D95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D74C-EE8C-41AE-B01A-102610A7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3C4C-DB16-4A19-AA40-2404967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793A-0DB3-472E-92B5-EFCA472E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2707-A063-4549-9B98-618418E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5D7-5492-4742-9000-36621689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38BD-7166-4A09-B636-81E76135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3BA-81FA-43B5-96CD-B2FA72F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484-628B-4288-A2AC-62CB8180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15E8-2137-4380-9290-366DA19C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6C6C-CC23-41DB-B258-168DD265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179-D184-4449-82BD-3F3107EE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A92F-E977-4819-97C1-E61B1986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FD2F-3803-4121-ABDA-2D59577B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9A47-55F3-40E9-85BA-4CDA31EB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A32-524E-4B0B-AE31-C8DE88AC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AA4B-E47B-40C3-8005-5A866816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701A-92DE-4F70-A76E-3271730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8C75-7B7B-4DAE-9A9C-7C1FD66C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009E-0DBF-4F68-A2A1-DAB0001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C7D5F-61F6-4A4E-A3E3-131325AA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F879-4C85-4532-8CA2-ECB78EE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04AC-BBFD-4F06-BAAD-AF012765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A0759-51D1-4CFB-938B-BDE2CDAB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F160-6CE8-41FD-B417-E6B16243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529-3E01-4047-A80C-0A992098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DA5-E72B-4E9D-B201-9BF36A6D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F92-A264-4358-84FD-4B963B3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70C-6E91-4122-94F1-524A068D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D5F-EFB2-496C-AFE3-797B2F93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5099-72A1-4C84-AA6B-D4908C76C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8779-B061-4AAC-99F4-057BFBCB2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425C-4FAF-4B00-9515-2E83D5023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C. Bonar (18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E. Perkins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3800" y="648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Mi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Min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Min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M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3800" y="648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M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M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M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Mi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3800" y="648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M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M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M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5:34Z</dcterms:modified>
  <cp:revision>31</cp:revision>
  <dc:subject/>
  <dc:title>Slide 1</dc:title>
</cp:coreProperties>
</file>