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5D9C-92EC-4513-940A-C434B239A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EC58-1480-4D8A-ABF3-2238F467F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B997-09C6-467A-92CB-B9BF1684A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6346-F0CC-44BB-87E3-F67C0AE11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E5A11-B52C-4808-BE9A-71FF6E35C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2F30C-D4AC-4646-A0ED-4FC3B6887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F7000-524D-41AA-872B-FB7489BC6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1F411-F9CD-4B25-9679-C96974D13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6875D-A642-47E5-9C20-25EA37181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9B138-39B4-49BD-BE0E-E625D3301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31B9E-F36C-4F7D-898A-79D83FE2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39C2-0F22-4003-89C0-AE5AA9062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6B67D-0EAC-4637-9F25-0776C2B9B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8AAC9-282C-4BBF-A718-314E2E4A2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3FA57-C4F5-47A0-B53A-8AAD0701D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D1E66-4525-49F7-A377-521204C3C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91248-337E-45B0-AB90-C8083C3B9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DD59-D180-4D2C-A21C-33062F0A5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3DCAD-E3F3-4112-8EA1-458BDF67D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20540-14A2-4292-9927-146D9FB66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BFFE6-52EF-4901-8D2C-963BE43CC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4C63-32AB-4E54-A2A7-96BB6D32B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2D560-4336-4508-9234-17E5A92E7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A57D1-2D3C-4D33-91AD-7143EC405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35F14-753E-4076-BA46-58D7134CC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5AFBE-F767-4970-B976-0E2219614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5DA9D-9DE6-4E68-9020-F9A3E44F3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4271D-9B02-45BF-BFC4-384C3E755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A3ACC-FBBD-41BD-A228-BEF7FDFF4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F6C4E-DFF7-4D12-8981-4A6F238B0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1EC2C-8E13-4F37-875C-4A7AC72EE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4DA4-4AF7-4C00-B4E4-29DEF3B3A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24FE-D77E-4857-B548-44A56525C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AF64-70A5-4121-95B6-1371E0A3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163A-0DA4-4EBA-B0F7-5C9CBAC50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A348-9908-4271-A0B5-701EC143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0679B-0D29-41E1-A3A3-C9B1EE2896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C656D-49B8-4F24-9704-83D25B7082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3F694-B1C5-4602-ABDE-2BF88FFCAE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Joyful, Joyful We Adore Th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HYMN TO JO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8.7.8.7.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B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29096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1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Henry van Dyke (190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udwig van Beethoven (1824)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rr. by Edward Hodges (186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3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Joyful Joyful We Adore Thee_v3o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24920" y="6488280"/>
            <a:ext cx="39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Joyful, Joyful We Adore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Joyful Joyful We Adore Thee_v3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Joyful Joyful We Adore Thee_v3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Joyful Joyful We Adore Thee_v3o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Joyful Joyful We Adore Thee_v4o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124920" y="6488280"/>
            <a:ext cx="39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Joyful, Joyful We Adore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Joyful Joyful We Adore Thee_v4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Joyful Joyful We Adore Thee_v4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Joyful Joyful We Adore Thee_v4o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Joyful Joyful We Adore The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24920" y="6488280"/>
            <a:ext cx="39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Joyful, Joyful We Adore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Joyful Joyful We Adore The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Joyful Joyful We Adore The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Joyful Joyful We Adore The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Joyful Joyful We Adore The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24920" y="6488280"/>
            <a:ext cx="39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Joyful, Joyful We Adore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Joyful Joyful We Adore The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Joyful Joyful We Adore The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Joyful Joyful We Adore The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3T17:50:28Z</dcterms:modified>
  <cp:revision>19</cp:revision>
  <dc:subject/>
  <dc:title>Slide 1</dc:title>
</cp:coreProperties>
</file>