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697-DCAE-43E6-BF29-C660C89C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355-89A2-404F-8521-85F46859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7E3-6FFC-40C8-B1D3-43CF2078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A35-4742-4373-81E9-60231F4E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8D14-1F53-4F7D-8BC4-4864ED72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B8E4-4466-4788-BBFF-B1EA8FF6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BFCB-85F9-46DF-BD93-40C01EB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8610-E050-4F13-A33A-DB671F16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99FB-499D-4911-ACF1-E5E2AEF2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A07-6A98-4BFE-BABF-5729143E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E55D-9F6E-4530-9288-F55F2750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E28-45C4-452A-91BA-A313BD86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E40D-89CE-4092-B45F-0FFF5E61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B183-CE59-4DCA-932B-461D9167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8528-4227-4F19-B5F2-6964998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7F9F-B2EF-489E-B3FF-F6DDE9BB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19D2-BEE4-43CB-BC0F-80FA7B28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791-EE3C-4BFA-83EF-E3C8063E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0F983-D142-4C44-B7A6-21E73614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72B66-CF9D-40A2-85E3-E745ABAB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4D26-4E4A-4E0F-8402-9A0B0FB7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80F-B123-44CE-A2F3-4E66005D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B2F3A-99BA-4C5D-B8F0-1A991934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EC7C-F41F-4D9E-BE78-45F87432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802A4-9278-49FB-BFD6-4A15A712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1BFFA-9394-49CB-9F21-F47E10D6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4084F-BDAC-414A-8F44-AF0B774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E1CE-8E5D-49DE-BB87-14D8171C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8978-CA43-45F2-B6EE-A0EB70B4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E91D3-9781-4AE1-BC55-BE678D5E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3E9B-8502-4B4F-A4D7-71CA1DB5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961-DD95-452C-8BAD-9BD1C7B9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CF1-FC8F-4C96-A859-5C720A0A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17A-E8D2-4126-AEEA-BA0522FC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2B4-2622-4A95-B396-37A5858C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1D07-6C4B-4878-AE5A-7BB1EC93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8EA4-38A2-48DD-A098-C69AAC4F7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888B-8DAD-4A56-B5CC-CAF5320E4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2663-DC13-483C-9EB6-AA981F0DA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Paid It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All To Christ I Ow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vina M. Hall (18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T. Grap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Paid It All_arr1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Paid It All_arr1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Paid It All_arr1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Paid It All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Paid It All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Paid It All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Paid It All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Paid It All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576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Paid I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Paid It All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Paid It All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Paid It All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4:03Z</dcterms:modified>
  <cp:revision>33</cp:revision>
  <dc:subject/>
  <dc:title>Slide 1</dc:title>
</cp:coreProperties>
</file>