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E0E-9E37-407C-B188-AF193876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DB5-E162-48D8-9363-91CFF276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7EB-677F-46DE-86B1-D227855F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238-13A0-4C1E-BF2D-7C1127A9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1A79-0995-46ED-A497-2EFD849B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8955-132D-4A66-8D90-26BF0047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F2CA-E820-4D47-B110-3B1635A7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20C6-3B84-4CAA-BB90-51913CAD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7082-99D6-4E02-BD1C-F24631ED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E513-F32A-4A09-8509-65327C0C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0D81-2967-4188-A245-9E38FCB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E70-664F-47F1-BA0E-BB14219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BC8F-0BC0-4677-9A7B-4D311E19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CC8F-72DE-42CB-916D-AA883D2D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B44D-74EF-42BD-AB56-3610B2CF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1100-2B26-43A8-8224-06C513FA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0BF1-0877-4A71-B79F-2AA84CA4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78C-2FCE-4D2F-B64A-47F1FA05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A9B07-E7AA-49AB-A97F-0C6743D5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778B-92E3-4122-8ABA-15CF1BD2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A9DC-9323-4C5C-86AD-58ACA1ED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44A-12EA-4226-88D6-653D95FB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07B4-1161-469E-AE4F-C720B3D5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E42E-DE9D-4BAC-93DD-A336CDFD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42FC-A58F-4C7C-9184-CA8C6437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108D-7CFB-4F61-A3DE-40AF0F48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5C3A7-EE31-4D42-ABA1-A8F2594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7EA7-937F-49B0-B844-A4472C3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32F2-830B-4E36-8717-CE47B44F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32B9-EB6C-4D19-96B1-8E91C1B6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CDC11-2085-448B-AB11-AFEE48BE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F8D-217A-4A3B-9C56-8CA0725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2DC-496D-4D34-9012-A668D4C9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377-6F40-43E8-8A8D-E2361DB7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B5CD-354E-404D-ADB8-F3386772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E7B-0144-4853-BC72-8B523F2D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DA85-1E6E-4B7F-B0F7-C9714FCD7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0ECD-9885-4540-8517-69F72259B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3E97-8BC0-4E92-8A1F-806527A25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ust A Closer Walk With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Hy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, Arr. by Mosie L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ust A Closer Walk With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9240" y="64882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ust A Closer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ust A Closer Walk With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ust A Closer Walk With Th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ust A Closer Walk With Th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ust A Closer Walk With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240" y="64882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ust A Closer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ust A Closer Walk With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ust A Closer Walk With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ust A Closer Walk With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ust A Closer Walk With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9240" y="648828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ust A Closer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ust A Closer Walk With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ust A Closer Walk With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ust A Closer Walk With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51:02Z</dcterms:modified>
  <cp:revision>30</cp:revision>
  <dc:subject/>
  <dc:title>Slide 1</dc:title>
</cp:coreProperties>
</file>