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EFD-5D03-4572-9107-3C23B96A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567-0FC9-4010-A105-26DBA770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4674-5320-41C6-8A5D-89A9EF76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D68-65D5-42DD-B9A6-A59C04A9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9394-F702-42CC-B119-B385D71B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1FFA-7ED5-4413-AEFF-7DC50B98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5F78-C228-4377-AC6C-C524A9D1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EDA5-FC82-466C-901E-0A53A2F2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602C-C581-44C3-8A24-24B63431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F600-77BD-4E4B-AE38-58BCCC23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AA21-CECC-4E61-B942-626D776F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2928-5E2A-4633-B42F-902D3CDC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C81F-1907-4BF4-A5B8-C65933E1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83B1-8D3A-4D97-9B67-95F26B5D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E386-1FC4-478D-8C9E-B3754C03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2819-F6D5-447A-957B-E3FB4B9C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994F-53AE-42FF-993F-AB77DBCB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8CF2-CD5F-46A5-9B6F-3941A89B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14BCA-8B92-4624-A5B6-A5934637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0A8F4-37AC-4899-B063-12196E69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4CD78-860A-4548-9609-C299FAF7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1F54-A8FB-4C11-AED0-23A35374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106A-302B-4ACA-9F43-22D9FF10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9A138-C7DC-40DA-A228-7E93005E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AD087-35D8-45F8-A24D-97651019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BB15A-64F0-40D1-B845-B48035DC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91916-04A8-4141-9BA8-CF7D0731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79850-C90B-470E-9B97-210FBDDE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06FD1-392A-4039-81A4-1936CB8A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04A75-02E2-4836-87C0-9972B10B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44D46-6160-4DAA-B4DE-DB5C6CEC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8C3C-28FC-46D6-97DB-F6C4A44F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A212-6738-41E7-B7F5-33EBDE15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15F6-9D32-4E19-A267-00FAEE63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E03-E5CD-4945-9F91-6BA310AE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B6B-EC79-466A-81E2-F4426A4C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FBE8-CAB9-4DD1-AF8E-01186EFE7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A3ED-7B15-4540-A5C5-9F1699D2FC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FADD-518B-481E-9E74-4BA82662B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oy to th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NTI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1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ac Watts (17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nson (1848) based on Handel (17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oy to the Worl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oy to the Worl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4240" y="6488280"/>
            <a:ext cx="26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oy to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oy to the Worl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oy to the Worl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oy to the Worl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4240" y="6488280"/>
            <a:ext cx="26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oy to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oy to the Worl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oy to the Worl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oy to the Worl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4240" y="6488280"/>
            <a:ext cx="262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oy to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oy to the Worl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20:34Z</dcterms:modified>
  <cp:revision>34</cp:revision>
  <dc:subject/>
  <dc:title>Slide 1</dc:title>
</cp:coreProperties>
</file>