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2A68-7CCE-4DEC-8548-657C74DEC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814D-1128-4ACA-8D3F-FB3A90D65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3C3B-7467-43BE-95CD-78CDF1494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32A3-DB90-4497-8BA7-1B172CB32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2494C-ED88-44A8-890E-BA256330B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D44CC-6565-48FA-AA89-159A2A03A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16F15-7C1A-4A5B-B230-3578D15DC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E07A7-C60D-4D6D-A0B3-D6652EFBB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23988-7578-47B5-96C7-EDE3CD08A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0EC13-3ED2-4994-966E-E1AC73ED5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46AD8-4530-4DB2-B13C-571E8CCE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B6AE-0982-431D-8551-5D0F57BDC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27479-04CD-4035-B593-DDB331C2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0871A-2707-4800-8896-492FE453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DE5AB-168C-471C-A0BB-2801AA5A8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549E6-67A9-4FA2-8E66-44962F86E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6A858-C8E8-4251-9C68-E79B5E839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5C99-A074-4A6C-B8C0-70008A4D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706C1-C2E2-40D3-B3A1-5CECE37FC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C2103-0E9C-41CE-B775-8B51FDFBF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5F449-5CFE-4593-8D33-3954A2F88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0AE1-428C-4BBA-8F5E-EEA28E85F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55F49-7156-4CD1-9A38-9000F33A7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7AC41-17CA-4272-AB7F-E6D1314A1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F62A7-2B27-4EC5-9BFE-B64007FFE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09741-3213-4D41-BBE3-A353BD1A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44F86-35BB-4F41-949F-787C6B5D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12AB3-ADE9-49B9-AE73-3F5B10C1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6A356-56E0-4E09-9C4B-5B48E431B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81C71-1883-4BA8-A7D1-95C1803C1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3222A-9AB0-48C1-B5D7-50930BC50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8A89-4C6C-4EFA-B1DD-021A54931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70DB-DB91-4806-A849-74188DE77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4161-8F60-4072-BC18-2673520E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0D78-A71D-4DDF-89CF-03DAA07B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9E8E-1694-465D-A549-48AE474F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574D4-5A60-4473-96E8-AACBFDDCEC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D4807-22AF-45FA-BBDC-C376157F7B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D625C-D218-45EC-AD19-F956789295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Jesus Is Tenderly Ca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G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anny J. Crosby (188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eorge C. Stebbins (188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Jesus Is Tenderly Calling_v3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20600" y="6488280"/>
            <a:ext cx="34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Jesus Is Tenderly Ca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Jesus Is Tenderly Calling_v3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Jesus Is Tenderly Calling_v3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Jesus Is Tenderly Calling_v3of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Jesus Is Tenderly Calling_v4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120600" y="6488280"/>
            <a:ext cx="34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Jesus Is Tenderly Ca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Jesus Is Tenderly Calling_v4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Jesus Is Tenderly Calling_v4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Jesus Is Tenderly Calling_v4of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Jesus Is Tenderly Calling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0600" y="6488280"/>
            <a:ext cx="34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Jesus Is Tenderly Ca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Jesus Is Tenderly Calling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Jesus Is Tenderly Calling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Jesus Is Tenderly Calling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Jesus Is Tenderly Calling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20600" y="6488280"/>
            <a:ext cx="34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Jesus Is Tenderly Ca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Jesus Is Tenderly Calling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Jesus Is Tenderly Calling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Jesus Is Tenderly Calling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3T17:38:30Z</dcterms:modified>
  <cp:revision>29</cp:revision>
  <dc:subject/>
  <dc:title>Slide 1</dc:title>
</cp:coreProperties>
</file>