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858-F056-464B-A122-6AEF2353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7F1-8F76-44DA-B47F-670B25E7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49E-C930-43F5-92DD-1ED319B3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634-040B-4B79-BE7D-99125091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720-028D-4CB4-9F77-E6655492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C75F-A26B-430D-819E-B7A19F7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B35-BE3B-4CCB-B1EF-3954F9C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1CEA-3CD2-405D-80B0-CF312A08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B41-4D8B-4E96-8D51-17D98AA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CEBE-AA76-45E3-B66B-23B7E22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D38-757C-49A7-BACB-F5A4659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7C6-6A04-43CE-BB8A-C5C6A78C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5B45-4049-40E1-B156-E0CFE7D8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ED4C-EE8F-4B98-A8A3-8AA8345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3DF7-C788-462D-93CD-7DC7EEA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19AC-FA8D-4356-93A0-C59FE336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A3C9-562F-437E-865B-A6014B3C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194-1BC0-431D-82DD-AD3A709B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7061-4545-430D-BCD8-6250D1BC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ABEA-F4D9-4BF4-B917-17DF31C4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88DA-D30B-4A9B-BBB5-852F7E10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B0E8-E53C-4C14-A829-B4695502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ACBB-C398-4DB0-8281-C93CDA4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0651-61D6-4098-85EF-3934F051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C968-BEAC-499E-8420-97F55BE0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2D27-0ECC-4438-A2F8-B7FEDC0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6AA3-6FBF-4BC2-B2B6-4881C35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60AE-ABE7-4C40-B3BE-961A2D5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7084-D1E1-4057-BDE4-46C07805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FA58-8378-4301-A6FA-D4D9D23E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2B77-E2FB-4377-B683-54D460CF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B40-BB87-4B42-8B15-80B5D09F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677-F28F-483D-9AF3-96E6673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3B0-6143-4653-BEED-328C40A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5E4-50FB-4026-A3B8-54543B0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1D0-EDA6-40CC-89BB-24D54033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9584-F8A2-4E3F-8D92-95BE2B660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2AF5-2551-4DFF-8DDF-FD04BA76E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B1F9-3626-42AB-B257-026485FED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Loves The Little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larence H. Woolston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F. Root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s The Little Childr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0040" y="648828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Loves The Little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s The Little Childr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s The Little Childr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40:47Z</dcterms:modified>
  <cp:revision>30</cp:revision>
  <dc:subject/>
  <dc:title>Slide 1</dc:title>
</cp:coreProperties>
</file>