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5BB-25D2-4FB7-8357-6AC07064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BD6-F61B-41C2-AC97-5A24227E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F16-EE58-44F9-B8B5-E0C09210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3CC-74DC-45B8-9590-2BA7E416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6A65-EAAE-4BFF-9C7F-658412B4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E623-4A54-46DC-9075-E513657A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84BE-DB1F-430D-87DF-6CD2FCD2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2ADB-22C1-4C2C-8B75-6779EE65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6C30-B03C-432C-9C99-8F1A39BA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A833-A3B7-4035-A70C-1DC8ADD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A1A8-B97E-4DE0-B716-5AEEEB00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A9C-F6BD-4C08-ABF2-64EECB6D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4A79-F95D-4F7F-B66A-1B4DF7FB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42D0-18EF-4CBE-B490-6388AFB7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ABF-5408-482B-AB17-D7DABC08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0F70-E668-451D-8E2B-16D7CE12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A6D4-9E6D-4439-8322-54A21EB2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6D6-8A38-4CF2-B1E9-7596C891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8050-C847-48E2-9F27-F4CCF686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89ED-4324-4E2C-A7DC-093B7736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6D7C-82AE-477E-A15C-B1A15392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099-4103-4E53-ACF8-2C561662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8D27-2F42-4704-A734-A0FE905F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FBD3-CC3C-409A-AEF3-4C33F7EE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8BDD-CF26-496E-B62B-A3E291FB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6ED6-888E-4322-9965-8B445F0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26B35-B29A-4BA6-BE5F-A0F530B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CCE29-0DC2-4FB3-AA0E-A9AF2E29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4DAB-B55B-4504-8511-333555A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9102-CD13-49E7-9463-C73F386E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3B59-4DB6-4494-A7CF-DC92637B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942-14F7-4FB4-8B05-2D5EDFB0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1E1-2221-49A5-B1D2-4E5D827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911-C072-4E01-9D0B-830A06A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A9F-0227-46E4-A01F-9DFF5093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CF7-D96E-488A-9E06-F5D2262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EB24-D06F-42A2-B089-011F3E478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400A-53D0-4022-9FEF-390BDCA04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DD42-D673-4A81-AD91-8A3F0C009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, Meek And Ge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OWSTON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R. Prynne (18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larence Hudson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Meek And Gent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, Meek And 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Meek And Gent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Jesus Meek And Gentl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5840" y="64882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, Meek And 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Meek And Gentl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Jesus Meek And Gentl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, Meek And 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Meek And Gentl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32:15Z</dcterms:modified>
  <cp:revision>31</cp:revision>
  <dc:subject/>
  <dc:title>Slide 1</dc:title>
</cp:coreProperties>
</file>