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14E6-AB17-4E29-B60C-BE9568F2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6FE2-0716-48AF-B378-EE2C5715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04D9-DCD4-484F-A55B-7FF73559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884-BFC6-40D5-8591-ACB808A2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9617-516C-48F6-80C1-5AB91E95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CF31-17BA-4A0C-8557-720DB9BC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2AA8-4458-4733-BDAB-23F901EA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9089-EE4A-4F2C-A207-6A4B7E77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6BAC-245F-4648-925E-A0B64C34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9C6D-1BC7-459E-8590-150E61EF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1D1C-1AE2-48DE-A550-4705B52D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5589-39CA-4AFC-92CD-DD455947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3BE8-7AFF-4A19-92EA-9EB96DF6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5464-C65D-4897-818E-F9608219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9F05-85AB-47D9-A57D-2EFACE3B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AC1C-EEFE-4A20-91A3-F9313904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E661-F18A-420D-993D-4CBDEE0A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03BC-2301-49CC-87D4-9115D401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9ACBF-85AE-4725-A458-4D030179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2275E-69E9-4B7C-ADD0-342113E6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DBE56-9D81-43F2-903F-31BBCDAC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DDEE-4669-4479-8599-E49BEF63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BE08C-D07C-4BEA-9669-04E8186D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ED4F0-1993-44B1-8638-40D5A6C2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4C4F3-F7C6-492E-9496-CE2CEE98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FD7D8-692A-4021-9FC8-1571D9DA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6BF25-70F5-4819-AC5E-B0E2B61F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69C00-0786-481C-B0C3-39A3A954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5B129-E89E-48B1-81F9-C5E309CB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87685-CBCF-4E81-A364-ADCE78BD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F0816-7B44-4B22-A05B-1842ED02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24A-70DB-4335-9602-9A0E9A08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0E41-7033-4E18-B9D4-72E206A7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27E8-D0E9-4063-9BD8-AB3050A8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8D66-AC30-4ADF-AF81-2B3A9EEB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ED9E-CA40-46FA-908E-932F2C30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793F-8800-45CF-92C3-E7EFC7FC1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BFE5-636F-4858-9775-D8A19A2F71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DD5D-5FA1-4DF8-84A2-5E3685F2B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, Lover Of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REF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Wesley (173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P. Holbrook (18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7640" y="6488280"/>
            <a:ext cx="34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, Lover Of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Lover Of My Soul_arr1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Lover Of My Soul_arr1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Lover Of My Soul_arr1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Lover Of My Soul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7640" y="6488280"/>
            <a:ext cx="34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, Lover Of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Lover Of My Soul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Lover Of My Soul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Lover Of My Soul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Lover Of My Soul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7640" y="6488280"/>
            <a:ext cx="34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, Lover Of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Lover Of My Soul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Lover Of My Soul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Lover Of My Soul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39:18Z</dcterms:modified>
  <cp:revision>34</cp:revision>
  <dc:subject/>
  <dc:title>Slide 1</dc:title>
</cp:coreProperties>
</file>