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804-42BA-47B8-B512-A3ED69D2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668-E2A3-4A1F-ABA4-976CBA1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F5A-B0F8-433F-B235-8F18656B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59C-C565-4F3D-B245-C5462755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1C9D-28FC-489E-BD6C-40938BBB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52D-4608-43EC-B060-9331082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8775-4F45-4124-9530-00B5A616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0DD3-D18F-49ED-AD66-0EACE6B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FF9D-4A8A-4F16-8E27-E1C1AAC4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8BF3-7C0C-42B5-9970-7BB2B205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1286-62D5-4C19-ACF4-7331390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72B-EF67-4E48-99B5-52AC5CEE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B6E-8733-4917-9E1D-3407A4A5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FCA1-99DD-498C-8A85-723E1C7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5E8F-E1C9-4F40-B5A5-59BE0F1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9D87-600A-4CBE-B981-6B1E9C70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255F-B996-42D6-B39F-A6446757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661-ED42-492E-A318-C2D4FD1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F88C-F14D-44BD-BFD6-D41130CB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33F4-0D11-4A2D-A5DF-FAF82788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011E-3B89-4986-A0AD-0EB6F557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D1E-D8C4-4478-AA07-41B112D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F65D3-89C2-4BDE-B76A-E79A2F7C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C416-F4DC-4913-80B3-6CAC1977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68BF-6A78-4CE9-B61C-F6E28AA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C806-E67D-42F6-B4CE-90D21F0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8971-66A3-4122-BF21-5977E5E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82E77-5289-4FCB-B144-CA6C35E3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1D27-27AC-437D-92DF-6145DA94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97F1A-5578-4C87-B374-1BDBC033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47BEA-E485-40C9-B01D-2765988F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0F4-5A90-4239-B700-C1017AC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3A0-E014-4240-8A7C-4279265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C56-147E-4F79-9520-27DC8078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848-DF1A-4EE8-8C26-042ACDE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E07-E945-4898-A861-695F9D1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2B61-2836-490F-A421-F444BFCD7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3400-CF64-49C4-826A-093F1D4BE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360F-3CED-493E-985C-7A13B311F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Sav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e Have Heard The Joyful S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riscilla J. Owen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Save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Save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Save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Save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Save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Save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Save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Save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Sa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Sa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Sa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Sa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Sa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Sa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Sa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Sa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Sa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6:20Z</dcterms:modified>
  <cp:revision>28</cp:revision>
  <dc:subject/>
  <dc:title>Slide 1</dc:title>
</cp:coreProperties>
</file>