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A32-D4A7-40EC-ABCB-65601990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D43-3CEF-440D-AB8F-229A1AB9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3D8-6AD7-4B48-93A3-E2AFADA8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454-4273-4056-9A20-EEC0B544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2484-033F-41C3-BB45-FEE3EA54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7ACD-EE8B-487C-8FD6-0162B5F5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CD58-C792-418B-9D0C-86B7C47C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4232-A772-4C52-94D6-F4A1F948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C3BE-6A5F-4E59-831D-1D0C0E46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FA60-5548-4CD4-9D5A-C9A0D781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939E-AD40-4849-A8F3-007BC99B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BB9-8259-4F24-94D3-B4D202E0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B193-5F5A-4E8E-860F-6DE53607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5724-5F04-441C-A704-F9753431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9AD3-DEAE-4AF5-8485-31A825A9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51FF-0E26-406C-9FEA-74F9DE61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DE3E-2366-4DF1-BE40-C63CAF44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68C-5008-49CC-8C91-4C607771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1A2F7-B8E8-412D-BA56-2FD13C9F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5A60B-42CD-4F9C-A2A8-265CE1B3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2E6B4-140E-45CD-96CD-5BC70E26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B7D-A81F-4AA0-BE3C-FB4286BF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6F9D-B168-498F-8FE5-43988BC2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A724-8751-4ABF-8D7C-8E4FCB10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07DD-F108-44A7-A718-C787A96F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940F3-0411-4EB9-9D34-6C0110F8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C579-6F71-4C82-A655-61068D16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6F915-0AB1-4852-99FA-0BBEE637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B63B-4B75-44BF-8376-1787BE88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C7CEF-C08A-4454-B77F-33202AD4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DF8A-97E4-4231-AB84-758C7C48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B16-6C20-4495-978B-EC39D343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B75-FD3D-4B08-A1CE-D158F2FD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CE2-FE99-4124-ADB4-D11709FA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190-B070-43C9-8F12-EFF769F2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99F-363A-495A-BEF4-9E26AA40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2A57-05A5-4E82-8F16-7685A9C1D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FEE8-319F-4075-9FE0-16F59F390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7345-764D-4C8A-B017-C896E34D4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, Love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ART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: Charles Wesley (17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. B. Marsh (17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7640" y="648828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, Lover Of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Lover Of My Soul_arr2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Lover Of My Soul_arr2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Lover Of My Soul_arr2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Lover Of My Soul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7640" y="648828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, Lover Of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Lover Of My Soul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Lover Of My Soul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Lover Of My Soul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Lover Of My Soul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7640" y="648828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, Lover Of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Lover Of My Soul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Lover Of My Soul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Lover Of My Soul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3:16Z</dcterms:modified>
  <cp:revision>33</cp:revision>
  <dc:subject/>
  <dc:title>Slide 1</dc:title>
</cp:coreProperties>
</file>