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605E-7252-456B-A7F7-55A79229B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EB6E-4E14-40BD-BAC4-B37ECE9B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673F-944D-4DBC-A9AE-360ADD99E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C14F-DE50-4552-B984-45DA1B5AA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0A28-E415-4F24-9313-21166B3ED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2BF5-B195-432B-9364-BE50779C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4A52-D799-4BB4-BB10-A825FDB5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04D4-0DB3-4850-9866-B04593DA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928D-1E2D-477B-8BFD-C230D276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5E2D-9508-440D-94B2-81D9EBF6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7E62-8813-4AD6-9EAD-0AAEF36D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25CF-41D2-4F29-89E1-9C16AF8F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7BA4-8590-4A52-80BB-92946217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5B23-DCB3-4501-9A26-E3319D9E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FCAB-FCC5-40C2-92CE-EE290ABF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01E9-A324-4228-AC0B-FC1091410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81E5-E6A6-46B5-8074-826621758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35F3-8BE1-4BFB-A3E7-45406A56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D67B3-649A-4518-91D2-A821D49A6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69881-3CA3-4054-9E3E-BB46DEB3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85B4F-9BC0-40A3-8386-BF0DBCDF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D12A-30CB-4842-9320-E30248DB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841DB-0B19-4A95-A874-CF68343E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852F6-B97E-4CD2-B1F1-80F43D2A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6D656-6B7A-41FC-BD25-8BB59960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DA698-C79A-4A29-B63C-F15002D6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64C1A-501B-404C-BC6A-79C3D5F6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7AF1C-8FD6-4F7E-8C1E-C5C0280A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72651-838D-43E3-B803-7A4A408B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D6FF0-625C-4089-8CE4-221E3F770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1186C-2469-4F6E-A12D-7961E5146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DDC9-6869-4448-A601-FC91190A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AE14-C422-474C-BC47-4CCB16FE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E77E-F7FF-4C7E-97A8-FC5F33E7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4A5D-556A-4BBA-97AA-4AA26F52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7269-6F60-4B2F-B7FD-BD7813C1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F99B-E010-4118-A674-E3E0CC8C0C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AF6B-B1C2-42B7-B733-ABC9149397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82EC-DDE6-49CF-B918-4FF9554B90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Just As I 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WOODWO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8.8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5160" y="4902120"/>
            <a:ext cx="132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otte Elliott (18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B. Bradbury (184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ust As I Am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3960" y="648828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Just As I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ust As I Am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Just As I Am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93960" y="648828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Just As I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Just As I Am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Just As I Am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3960" y="648828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Just As I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Just As I Am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Timeline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3960" y="648828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Just As I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Just As I Am_arr1_v5o6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7:36:52Z</dcterms:modified>
  <cp:revision>33</cp:revision>
  <dc:subject/>
  <dc:title>Slide 1</dc:title>
</cp:coreProperties>
</file>