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A1A-3E9B-4ABD-BC94-53F4C80B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987-FA00-43F3-8ABF-70918B17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AF3-70A9-482F-BEB3-A321FF33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778-31E6-4E0F-B5FE-5696188C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0EC4-9A08-4338-B8B9-791737E1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47DC-623C-4B05-A9A5-E64742E8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8C4E-292E-4526-9EDA-A3B482A9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F451-B3A1-4F72-9D6A-728FA9F0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8549-D596-4021-B2C3-DD64ABF1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D325-FC9E-4A79-A4E9-6F8CEC70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E028-CCA1-4FAB-8504-F90C492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09D-0105-464F-9AF4-A4F36C26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F599-0DB1-42D3-A124-98EB7D27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74A8-2430-4A23-B853-0220222A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2D7D-2343-4974-A1CA-B94A1F9C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F015-540D-4FD8-9683-21685BAA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36A0-C6A5-47DA-8B31-8BB63C3E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0D5-66AF-4DD5-9B5D-66B7C1A9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A900-CF89-459F-A7A2-0136AB16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E2182-E7EC-46DD-AC8B-63636A8A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67CE-A59E-40C3-929F-A0BF9030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357-7ECA-4EBC-9381-98E88780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3C29-FDEE-47EF-9549-9D67A830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BCAB-AA82-4BCC-99B0-5C825D10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B2E2D-82A7-4FDF-B5D3-DA9DE8AF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3212D-45AD-4AD8-B4A8-0BED17BA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61F0-059A-4BFE-BCF1-347FBB16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8C25-5EFC-42C4-82AC-958FE76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9117-1485-422C-BD0B-05F0D6B9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0997-D382-41BA-B7DE-23DB5820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323B-537F-428D-94CE-F91FF62E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3C7-248D-4D7C-94A0-EB543144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9EA-1EAA-4E36-AB84-5C703F45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866-F83D-46A6-9858-2730DF75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245-5695-4EAE-BA0B-8CC4EB8B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9BF-D9A9-489C-A584-796B2B2F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4834-4929-4C69-A2D8-A26534B57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E5AB-BF51-428E-A13B-FAEAC1491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5641-1EF7-4E87-9D00-A4B59E000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Loves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a B. Warner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Loves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Loves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992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Loves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Loves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Loves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7992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Loves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Loves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Loves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9920" y="6488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Loves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Loves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7:16Z</dcterms:modified>
  <cp:revision>29</cp:revision>
  <dc:subject/>
  <dc:title>Slide 1</dc:title>
</cp:coreProperties>
</file>