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08F-6C48-43D3-8DA4-0CD47034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2ED-1A3B-4B36-B48B-E92F68DF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6B01-7F89-4EA5-8804-6F9EE7DD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487D-029D-42FC-9799-234216BC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5105-9EF5-4153-A37C-1EB81440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41C1-918E-4098-AF98-7FCB5A9D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7B0E-2010-4636-8764-6B7B5000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325B-57FB-472C-9697-F4BF4BEC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C5FF-F679-4CBE-81BC-F0F43487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719D-1186-465E-8170-9FDA29C8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7145-7C6B-4D16-A578-D28BA73F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608-AD05-4A57-9991-C2B66A76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FF8B-9CBD-4855-B266-E05E0D4A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DFA0-E00D-4E7A-A5A8-85D33FEE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56C0-A20E-4902-9E0C-F63C7232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8966-6A48-47D3-86D7-56BBCBE6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4B67-8EA4-4B40-A805-2B3131F9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8FEF-266D-4B22-BCB2-25EFC251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A4E0-A4AC-4F6D-A03F-3C3292DF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52D9-A12A-48B6-8934-738E3B86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7E45D-41F9-4203-A000-F464A5B3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628-A0D0-4EFE-BF1C-3FF90490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55C55-EAAD-45B4-B209-5AFFA3CB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583F1-B89B-442E-99CF-A622A3D5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77F9D-866A-404D-8065-6D5217DE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A3E03-FD00-4A8A-9DF4-0D4A4C46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35691-0546-4F13-A557-CCFCD879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AB329-2927-4242-A2B5-EEFA7B72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7EE79-966F-475B-92D3-B4719BC1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8734B-9576-4FFA-A0D3-4BD9444E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A3502-ECE3-40C1-AC9B-59104526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C66B-8A4D-4869-B760-9B7021F9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D90-C8DF-48A8-9E57-E2298311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C01F-59E3-4155-9B24-BEE1308A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3EE-2ABF-403F-B273-6B1C0924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5E8-6808-4AC8-AE2B-8A5361EA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FC9C-C879-4D63-AB62-ED73549A9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916B-22F3-471B-B17D-F0D6C16889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FC8C-C32E-4C72-B134-67F4AD1F8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Is All The World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ELIZAB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6.8.6.8.8.4.4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 L. Thompson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 L. Thompson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2480" y="6488280"/>
            <a:ext cx="39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 Is All The World 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Is All The World To M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Is All The World To M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Is All The World To M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Is All The World To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2480" y="6488280"/>
            <a:ext cx="39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Is All The World 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Is All The World To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Is All The World To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Is All The World To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Is All The World To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2480" y="6488280"/>
            <a:ext cx="39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 Is All The World 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Is All The World To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Is All The World To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Is All The World To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34:25Z</dcterms:modified>
  <cp:revision>32</cp:revision>
  <dc:subject/>
  <dc:title>Slide 1</dc:title>
</cp:coreProperties>
</file>