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9C8-FDF7-4363-B4AE-7C54A10A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F624-06EC-4B64-ADCB-FDF3A095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8A6-B214-4E7D-89A6-6F4E6158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678-4871-4157-849A-791C1FBE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3BEE-40A1-45AC-8BFD-E0F95289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034-27B2-4707-B216-19A7D52A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0411-B807-4F2A-8970-E4C32B61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193F-D14A-43E0-8A69-F9F1D205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7BF4-0350-4F3A-8767-31CDAFE3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1743-9C39-49DC-830F-DB55143B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63DE-F63B-4E80-9430-E5D3BB9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6B0-A4BC-433D-883A-DC89B9F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5209-D69F-4880-94E2-92C5A869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CD5D-343C-418F-B50C-FE56D152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F738-66D6-4436-B301-AA503570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1F94-D34B-4EC4-B9C2-D8E897C3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62F6-9A6D-47AD-B6A7-AF9D43A6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F55-AA68-4F74-8219-410AAF3C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095-F619-47BD-8C69-79CDA741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850-9BA5-4DBB-ACB2-5D50D77E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ECA-B294-4FA2-AE5A-5703513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407-C9BF-4F02-AEBA-EE05438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F59-2570-4C5C-8A99-2B520AD6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796-F102-4681-BCA3-2560A20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A221-EC6C-4411-B779-614B41B0E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F7B0-C93A-497B-A76D-B9F9E7C35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Thou Joy Of Loving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RY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ernard of Clairvaux (c. 11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P. Smith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Jesus Thou Joy Of Loving Hearts_arr1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Jesus Thou Joy Of Loving Hearts_arr1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Jesus Thou Joy Of Loving Heart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Jesus Thou Joy Of Loving Heart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Jesus Thou Joy Of Loving Heart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Jesus Thou Joy Of Loving Heart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Jesus Thou Joy Of Loving Heart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Jesus Thou Joy Of Loving Heart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Jesus Thou Joy Of Loving Hearts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44360" y="6488280"/>
            <a:ext cx="43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, Thou Joy Of Loving He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Jesus Thou Joy Of Loving Hearts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7:41Z</dcterms:modified>
  <cp:revision>32</cp:revision>
  <dc:subject/>
  <dc:title>Slide 1</dc:title>
</cp:coreProperties>
</file>