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3BA-492F-477F-BA7F-F7982A36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B4C-5017-4872-9809-5EBE8800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5AB-0324-4276-BE64-1EA504E4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D8D-EA05-4152-82D4-326D3F12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2D8B-6D2B-4ECC-A114-F6D72056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EED9-CE78-41EB-8060-F5B4089B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FF39-618E-47CF-812E-070D84F5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61FB-50F0-41D6-819B-B8F5842F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9BB3-9E7E-43C7-A084-322B102A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955-4AED-41C9-AE57-23C82D23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376-0F24-4D47-9204-5ABB3B1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3C5-434C-42EB-9C27-9E4CCB2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D139-E16C-451E-89B3-59EED72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98F-0CA8-4470-8A6C-DC67E46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E596-B550-4749-8D35-25FF5B02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F44-D33A-4076-8D1A-37AAC3FD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79E6-FD81-4CC1-9F1A-73A8A59F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31A-3A23-4B30-B0FD-49FDEA8F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93BC8-A17E-4742-8797-9FB5EFFE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D713-CB53-4887-AE69-8F8378BF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8B2C-9EF4-4FA0-85D1-0B53E73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24D-ECDB-4E61-97AA-FFEB2F57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D099-C6DD-49FB-ABBF-64AC0C0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00E2-5BA7-4A08-B0E8-825C123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5372-C6E9-47D7-85B9-6B4D1B0C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A561-D5BF-403A-A08D-56B9B3DE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291E-E7C9-41DB-AB28-BFF978CC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16B7-121D-4C5F-859C-BDF5C28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D557-0812-4479-8B4B-820F05A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E4F6-DDB6-442C-8573-5FC4BD49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A55F-B69A-44A7-937F-02F8D73F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C72-6275-482A-BC83-6F978ADB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C99-94DB-44EA-8AF2-3D174FD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83C-5B77-4DD8-AECF-9BB725D6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855-A004-4C4F-AB5A-E39E306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FE9-AEDC-44E6-A83A-D05B266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23D-FF2B-4A6C-A6AE-1A5FBBED2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A673-2B70-4D42-B7F5-0C0274C4A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0C6A-22FD-40C5-95AB-5A314C259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ust Over In The Glory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. Acuff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mmett S. Dean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ust Over In the Glory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ust Over In the Glory Lan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ust Over In the Glory Lan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ust Over In the Glory Lan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ust Over In the Glory Lan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ust Over In the Glory Lan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ust Over In the Glory Land_v3of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ust Over In the Glory Lan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Just Over In the Glory Lan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Just Over In the Glory Lan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ust Over In the Glory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ust Over In the Glory Lan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Just Over In the Glory Land_v4of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ust Over In the Glory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ust Over In the Glory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ust Over In the Glory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ust Over In the Glory Lan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ust Over In the Glory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520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ust Over In The Glory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ust Over In the Glory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ust Over In the Glory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1:36Z</dcterms:modified>
  <cp:revision>29</cp:revision>
  <dc:subject/>
  <dc:title>Slide 1</dc:title>
</cp:coreProperties>
</file>