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26E-365D-4001-B6C6-9B89ECAB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7E0-E51A-4D2C-9C49-47AF501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4E8-DB4D-40CE-B31D-573924D1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0AC-CF34-4865-B6B7-4FE8A460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7BAC-490C-44F0-8110-08E6F944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7BF-FF0E-430A-B11B-7EC45AD9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5DB-E75E-4146-8063-D239A6AD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4883-0974-4D33-BA12-97596F95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263C-B594-4C7C-810F-418A266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2F6-6B0C-4786-9FA1-FBBF2D49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819-A9A3-4352-A2FE-DEACC2D1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83B-3909-490C-A269-07138D5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A7EE-F719-4CB3-B830-00CFAE1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A3CA-FD90-4D6F-8FF1-05A4349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DC2-E1C2-41AD-8926-BBD905A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ED84-1534-497B-A01A-A03E4845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84C-DF0A-4D06-B801-4986FEED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60E-C4A8-4C75-BB85-975924B2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C5F5D-8A93-44CA-AC64-9B72D873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F42E-F24D-44C5-86C8-BFD06BB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03B37-10FE-4086-ACCB-4CF13FCB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0F2-35A3-4FA7-9F0B-8C0C72DE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FAD65-49B3-45A1-B549-035A4C64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A93C-6BF6-403A-A219-0F413E78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88FA-E6FA-4993-848D-92F6049F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EB26-DB07-4731-ADC3-146DA86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ACBC-C4AC-4DB3-94EE-04B0D29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A21C-7CFC-47DA-ADB8-8E51B888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BC6F-CB60-472D-89E2-84405176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43AA-46E4-4D80-BC2A-A97A564E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0C6FD-277C-482D-8BC9-A5E47A5C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B65-C198-46DB-A1E2-576D94A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034-3083-46A0-B663-F75269C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76A-39F7-41F4-AC1B-E1B636A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DF3-279E-45F7-ABAB-F317BFAD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846-BE33-469B-9F66-A80F94F7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3461-39F3-423C-B23B-727A6AFFB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7860-C0FB-4022-BD3D-91C420D09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76A5-6F75-4EA6-93B5-C778A3B93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Will Give You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ill You Com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113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Will Give You Rest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Will Give You Rest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Will Give You Rest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Will Give You Rest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Will Give You Rest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Will Give You Rest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Will Give You Rest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Will Give You Rest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Will Give You R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Will Give You R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Will Give You R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Will Give You R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Will Give You R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000" y="6488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Will Give You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Will Give You R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Will Give You R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Will Give You R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8:40Z</dcterms:modified>
  <cp:revision>31</cp:revision>
  <dc:subject/>
  <dc:title>Slide 1</dc:title>
</cp:coreProperties>
</file>