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EFA-9669-47A9-98E3-381B439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F90-53A8-4B9A-BE9E-25CCE22E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9F3-8F29-4FC1-8605-B50511FC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FC2-7B84-4497-B8E3-44B7D354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DDBD-F6B1-4BC0-80E0-9E0ECB7D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CD79-76D2-4F47-B3F9-B28785A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4C4D-11C1-4ABC-8BF6-450BF10D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18C1-1F2C-45FC-872D-5A233709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C64F-3DC1-48C5-A0FA-27703D24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5285-A513-4A6D-9782-B151BC5E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8645-3969-43BF-9869-8922846F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2F6-B1F8-47B0-9035-26DF271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9EB5-8CDE-4A52-80F7-34E6314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9BEE-4C65-4660-974F-6E4CE37C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E326-7514-4206-A12E-18081F17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4885-03A6-4F99-BA62-9E29B3C8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BD7E-A370-4F04-8613-DB711EEB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25E-93EB-479E-9523-4AF110B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FE4F-3931-464F-8EB6-60B17D6B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B2117-5167-459A-9A5F-E877668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253F-E840-49B1-9138-7BAF2F35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B20-974B-48FB-BCD7-F5B68ABE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0519-B3BA-4EBA-B071-AB4C8861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07643-0CA5-4C7F-A1AA-AC16DE86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2485E-457D-4CD6-BD42-4F5340D2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37AF-A176-4D82-9622-3AF1AD22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2F62-7128-48C1-8AE6-AF57A43C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DB82-86AF-4542-A77E-38FA53A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9174-6E14-4F20-8223-90F8DC91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5B92-3C05-4F7D-AC57-6435A3FD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06E7-61CC-4FF3-8652-79739244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E43-AB99-4D59-8305-A3EB7EBE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575-5F90-4B8E-8D89-730E4275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721-8B6E-42C8-94B6-416F913B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D07-1D12-4989-A558-5D83F3E1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61D-FC1B-4D12-A573-EDDA387A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58C6-8BC9-4CD0-8D71-100C0B65A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F44B-7154-434A-8CF0-C9209CE2D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C288-FA56-4C65-98C4-B6A2BAE47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I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ut Of My Bond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39960" y="4902120"/>
            <a:ext cx="1265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Sleep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Jesus I Co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esus I Co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Jesus I Co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I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I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I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I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I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I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I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I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I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3:33Z</dcterms:modified>
  <cp:revision>39</cp:revision>
  <dc:subject/>
  <dc:title>Slide 1</dc:title>
</cp:coreProperties>
</file>