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C68-D1A3-4BF1-B843-64208F7F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BF1-D811-4C48-A84E-CC5A27F5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1BF-C632-4D07-B77D-9C350EBF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145-4738-4DBB-BC61-68189465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587C-D852-4EFD-A633-AB6F5E0A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51C-8F1B-4D84-BE17-D69CF31E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7B97-DC15-48DF-A94E-0E6EA0F5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783F-BD00-4793-A441-A9BF05C8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360B-06DD-4183-B7CE-ECE3A0C5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FABC-2765-4991-A5BA-4980E898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EE9C-4533-49C5-B279-F1C88E1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40A-8781-4F88-A7A4-662294A0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E0CE-7E06-4E71-8857-836E7E37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2660-7B2C-4C18-92A7-AD26F4F5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D90A-CDC7-4622-86A7-8B8706C8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E53F-E58E-496F-A703-99FF417A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C861-F179-4BD4-8D83-772910AA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B57-B2F4-40FF-A7BC-33903839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A813-2AEE-4034-B177-F6D9BA8B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7AE7A-BE04-4AF2-93DF-87A92A1A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5E613-42BE-4236-8084-3CD24FD6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6FA-775A-44EB-9794-1AFB0DB3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E59AD-AAD1-4378-BD0C-CF48116A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F126-17E0-40A5-B82E-F11E8291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A644-90E5-4F1F-82EF-517EEAB3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9634-3687-408B-82CE-114389B0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4F24-2A8A-43C9-B301-99D23FCA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C717-E8E8-47B8-8631-AB9155FA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606BE-FF48-4F07-BBDC-9539B3BB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B746-AF8F-492C-BDEB-84D88723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DDCE9-8457-44BD-B2DC-3639C541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12F-4999-4D6E-B759-0236ABC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0B2-818B-4426-8FAE-F9636267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0206-3D33-4FDA-86B5-A62E229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87D-D6A5-4E71-8A1C-74D5D40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958-B7C8-4E6B-91DB-725B69E7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8C78-EFE6-444E-AE31-B6DCDC523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88B3-C9EC-44A4-B2BC-8E182A3856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2A55-9BCE-4C5D-854C-FA9804A47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Christ Is Risen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LAN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ALLELU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tin Hymn, 14th centur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by Lyra Davidica (1708), alt. st. 4 by Charles Wesley (17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Williams (18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Christ Is Risen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400" y="64882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Christ I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Christ Is Risen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Christ Is Risen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1400" y="64882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Christ I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Christ Is Risen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Christ Is Risen To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1400" y="64882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Christ I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Christ Is Risen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Jesus Christ Is Risen Toda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1400" y="64882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Jesus Christ I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Jesus Christ Is Risen Toda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3:03Z</dcterms:modified>
  <cp:revision>32</cp:revision>
  <dc:subject/>
  <dc:title>Slide 1</dc:title>
</cp:coreProperties>
</file>