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FE6-1022-499C-AA0F-8D82DB07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0DE-B422-4B35-9B8B-FB179A9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8C2-0F88-42FA-860E-C964FFF6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8A2-6B57-4FE6-B30B-BA332F4A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A7AD-2990-436B-BEB5-1CE67491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202-EC8F-409A-AB21-87DA34EE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D51-9945-44DF-8496-2DE5ACF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584-2A42-44A8-A1C5-05F2A755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8301-6C31-4766-8D42-5DC761A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B5C2-6868-413F-89F7-3197352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49D-B799-4EB5-AD24-3989DDB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8B2-CFEF-4B69-A8B9-82EDD533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3D2-2440-41C5-8F2D-77B55D8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D5F-1DFA-4C5D-BB11-F0929E1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5EB4-8F0F-4ADE-A08F-69D8CA3C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BF5D-E844-480B-AD4B-93437511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36F3-F747-4B79-AC22-BC45435D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143-A295-4D6A-9524-71F398A1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148D-3F3D-45F9-B86E-8A4B280F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175A-4AD2-4700-900D-A18898B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33DA-2DBF-4782-92EE-4740AAD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0C8-9CAF-4F52-9276-9D7A5292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5D86-0CD1-49EA-B5BA-2D961059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F2F0-8107-4EEE-A594-D222C750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A26E-44BB-4C0B-AE3C-077677D9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E9FF-754C-493D-9A94-CFF2471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F347-45F1-4810-A3ED-FF06700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4E61-74C1-482D-A0B1-1A3C78A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E691-E3AA-4D86-8F4B-DE341FF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277A-C831-4FC4-8966-52A469D5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D730-0686-4AA0-9BDB-7C6F69B1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888-332A-4043-906D-C42638DB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BDF-A324-4390-81D3-03359B63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560-0BC0-4FB0-855A-D707932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B85-4983-480E-AD21-1661814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DA6-8565-41F0-AD9A-1B5C404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73A-6601-4D6A-ADBF-07F8A4562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2DD-D90D-483E-AD4F-9F894445B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796-D533-4553-9190-2CC9326B0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t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t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t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t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000" y="64882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t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t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6:25Z</dcterms:modified>
  <cp:revision>32</cp:revision>
  <dc:subject/>
  <dc:title>Slide 1</dc:title>
</cp:coreProperties>
</file>