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3C1-6919-4443-8982-CDBE27B2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002-B09A-4154-8405-095FADD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7B1-A810-40F9-9924-AF7458A6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BBC-6B62-47D2-A568-F8C60C62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0512-DA17-4CC8-8D5F-8BD6DDB1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A8C3-DF0D-4E63-8DEB-92469E42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F295-BFFE-4F7D-B0E9-81E44FD8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9B6C-F441-4ECC-8081-BA026820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EEDA-4476-4DEF-8E77-378F0625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467D-4824-45B4-A1E2-5232F88F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AFCE-7025-4AA3-9823-D625126B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036-8670-4091-AE0A-CEC1BAF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C493-9352-4F09-988D-4B2AF00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4135-B4A8-4DDE-B991-1FC1960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DFC0-96CE-459A-ABFB-8663A149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B579-EEC3-491A-9670-3BCC608E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B359-6C13-439C-8D21-F537DDB3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14B-55C3-448F-9ECC-349AFD7D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F441-9588-4427-873F-C8C0F730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4420-687B-4CDC-A8F4-6AA1DCA5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6A4C-2CFE-4E0B-8EF2-6CEDB860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25A-9C87-4678-9B67-712A19F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52F9-B0A4-4074-A7B0-BF9D62EF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0443-D096-4A7F-A85E-C4FAD40E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BE32-DCA1-4F4B-AA02-C90827B4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E64F-F271-4134-84BA-ED2F48CB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08DD-9FEC-472A-8D28-F3F5AB3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3B89-1867-4454-B794-7A39715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16A0-8CB2-4017-8B78-D50BAFBF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FC01-A7B3-4FC1-86F1-AFFE339D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A64D-BF49-489D-A3AC-0844BE7F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173-6A87-47D9-A53B-86184F90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A51-009A-40FE-9079-0F3E9099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062-5CD3-4F12-A9AF-02895675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CDF-FB5C-455C-B05A-5140E64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AB3-E34D-420A-873B-2969441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C49D-0902-4C78-8648-4B9C6228D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32DB-8C42-4758-89EF-59C600350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EDE2-CAA6-4764-816C-5AF5003BB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n Heavenly Love Ab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Waring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elix Mendelssohn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n Heavenly Love Abid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 Heavenly Love Abid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 Heavenly Love Abid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 Heavenly Love Abid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n Heavenly Love Abid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n Heavenly Love Abid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n Heavenly Love Abid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n Heavenly Love Abid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n Heavenly Love Abid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n Heavenly Love Ab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n Heavenly Love Abid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n Heavenly Love Abid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n Heavenly Love Abid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3:31Z</dcterms:modified>
  <cp:revision>29</cp:revision>
  <dc:subject/>
  <dc:title>Slide 1</dc:title>
</cp:coreProperties>
</file>