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76E-1B56-403B-9FDF-3D1A6F3E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41C-131F-4056-8ED6-DFA7D0B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F3E-5C7E-4B2D-BB2A-4532917B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A2E-64D5-4E9A-BBFE-D9D31DEB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1790-F44C-4646-AB81-A65C2A57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440-3F3D-4991-9A33-0C7A1F51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C4A4-C039-4672-8B08-E33F744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D23-48C2-4EC2-AFFD-0D8205E2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70B7-30F1-4952-97E7-DA280B6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D331-A658-45AE-ABCE-34A4D03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FCF0-9D61-493A-B7B9-2880126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D93-16F8-4ED2-A0E1-3E5A73E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5EDF-D2BA-4446-820C-B77D51F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55B5-0874-4044-BDCB-E8B4B4F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46B8-860B-4EA9-9718-147F86A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21E-A267-40DF-86D6-95AC53C3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A378-6EC7-44AA-95CA-2E7A4250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469-FBA8-4E43-AE47-77E9702E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459F-7CCB-40D1-993D-AA21A718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4794-93A7-4474-B5CB-F697F402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C5D7-EF41-4B5F-AA5E-312D6D0D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146-AE36-489A-81C3-5D8F7C8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E7B9-D667-4D86-98C2-E36CABA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2CFE-7F28-4101-AF86-FF13148F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261E-110D-4B2B-B4CF-4557C0B1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3BFE-5F28-4EBD-8093-76EB5ED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4EDE-3E75-4107-8926-987768F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FDFF-F3B2-4191-81E0-BAAA8769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F9E0-000F-4FE7-9D07-946C39CF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6865-F704-449E-85B9-30C14894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7A79-F8A6-4417-B4A9-79FF42C9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C05-9C4F-496C-B6CC-E694F270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6C1-F9D7-410B-AB01-229A86D2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A43-D97C-4333-A614-07405C4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1AA-28CF-4564-B0B4-4261ACC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74E-90D6-4088-9697-B9F313E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507-7AF9-4A09-8971-6AD1B8F0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ABB-89DB-47C7-A59F-660BD22CC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739D-35EA-4EEB-B718-7B2CD0FD8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s It Well With Your Sou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irgil O. Sta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s It Well With Your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s It Well With Your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s It Well With Your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s It Well With Your So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s It Well With Your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s It Well With Your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s It Well With Your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s It Well With Your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s It Well With Your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s It Well With Your So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s It Well With Your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s It Well With Your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s It Well With Your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5:25Z</dcterms:modified>
  <cp:revision>30</cp:revision>
  <dc:subject/>
  <dc:title>Slide 1</dc:title>
</cp:coreProperties>
</file>