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31C-B487-4139-83B4-A5FB6F0B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513-EFC5-4719-8BA4-4C7B809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A25-A98A-4A1C-8D57-F2950325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D39-0E10-452B-9CB5-F49B1066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7FA2-5CF3-470C-A9E7-E61D157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C5DB-A9EC-4861-B59A-ECBDDC5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5A2C-5CEC-4ADD-B996-CCD72E1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0D5E-826B-4243-ADE6-FA5C0A8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BC65-6D01-4EDB-B04B-E5A9C43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809F-63BA-4DA5-A477-1C795F9F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1EC7-9CF8-4D4A-9415-7E40576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8A5-8EC9-44D3-A3DA-1D9112AD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5465-F056-49D5-B264-54E2F16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9F50-8A7A-4629-B96F-F4133FD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D4B7-555F-49CA-8B26-AA0B56AD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35B-DF36-4E81-AFBB-082D6685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487-E3DA-476D-9FE8-E2158D16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5B4-F435-4FAD-8849-2D936203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DDE4-DD24-4EFC-BEF4-8C8BDB88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800B-9AA6-4D2E-A3C5-CBD253D2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B426-4920-48B5-9D1E-4F873C5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A37-DD63-4406-BF55-793DC11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0BC1-2ECD-463E-901D-591B497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41AE-BA84-4037-99E6-0F1F80F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E746-B0DC-4B41-B43D-16100D59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F619-760C-43A6-BEB8-803339C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860F-68CF-40B6-9D5A-1193091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D0CF-48EB-4740-8A2B-FF4DCED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C583-E281-480D-B23B-36A208D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6EA3-2F61-4D88-B67D-76A3023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80BD-3A67-4105-9647-E25A5494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157-B52A-4D52-A645-47214BD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4B5-1BD5-4520-ADFF-587F5319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197-1FC7-475C-B3BF-B926478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9C5-F313-4DFF-A112-D9C5E9C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203-306E-4D65-B8BD-9630B39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DBD-888B-4741-90E7-02ABE90CF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A987-61AD-48D5-B986-3AFC533D8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F01-AE57-44D4-BDB2-3D3CFEDE3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hall Not Be 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oa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hall Not Be Mov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hall Not Be Mov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hall Not Be Mov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hall Not Be Mov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Shall Not Be Move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hall Not Be Move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hall Not Be Move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hall Not Be Move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hall Not Be Mo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hall Not Be Mo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hall Not Be Mo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hall Not Be Mo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hall Not Be Mo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240" y="6488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hall Not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hall Not Be Mo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hall Not Be Mo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hall Not Be Mo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38Z</dcterms:modified>
  <cp:revision>32</cp:revision>
  <dc:subject/>
  <dc:title>Slide 1</dc:title>
</cp:coreProperties>
</file>