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D39-2649-494E-B7E7-3AE66366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D69-E420-4D94-84C0-E33E5FA9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D0E-B712-49D0-9538-E307E657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388-547F-47DB-AD53-41AE1E45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74B1-3E93-49A5-874A-6423386A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B43D-07AC-4753-8852-E0994C03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E77-7AA8-487C-81B7-846940D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2C01-BF39-4A12-AB09-A93F07F2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162F-4981-4EDD-8739-A7B78A7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6870-B46C-4744-8C98-65EA9437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92B-4E0D-4B1C-9B14-E8B08C0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209-6F1F-4481-8208-A63C710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F07-8010-4D33-A306-8229D6A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6CA-48E7-43A8-965C-2B88CD0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ADA-B4DC-4544-BCF8-E327F2D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B4C-02A2-4BE9-895E-072C3564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65F-41D8-4F6E-BC6E-1BE66C47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8CC-1D0A-4755-864D-3F560935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4BF8-F9BF-4974-814B-02CE9DB3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F6FB-7CA9-4030-9C04-6ED8B56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C9FE-C32C-409D-B997-F2195B94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35B-3EDE-41CE-B143-888AF6D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C248-CD99-47F7-896B-20134DD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CBBE-A99E-49F9-96AE-5C43357E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BD06-27AF-4314-A7B7-EA5B48E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4FE0E-C0DD-429D-84BF-E79DBEB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0C08-72CA-4737-A741-B76EA8E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317E-5F9E-40FF-989A-47ECE3B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0C1D-5473-4994-B1F1-576DA95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EEFF-7749-451F-A968-CF30D697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E45D-21A7-40E5-B1A7-C9A1085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75B-F62C-4A4F-B9E5-4DBEC5B4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179-64F0-4383-8B52-7F6EEB2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A25-C6D0-45B8-BEEC-A7696CE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316-3013-4BA3-8EE0-8004FF5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5A2-EA82-4E88-AE84-296701F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EEF-1CD1-46C4-B315-3E798625A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D5E-493F-4E26-8AA3-37090790D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D036-A54A-43D5-A46B-40E48CD33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Gave My Life Fo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KE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58 &amp; 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Gave My Life For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Gave My Life For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Gave My Life For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Gave My Life For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Gave My Life For The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Gave My Life For The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Gave My Life For The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Gave My Life For The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Gave My Life For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Gave My Life For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Gave My Life For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Gave My Life For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Gave My Life For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360" y="6488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Gave My Life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Gave My Life For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Gave My Life For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Gave My Life For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3:38Z</dcterms:modified>
  <cp:revision>26</cp:revision>
  <dc:subject/>
  <dc:title>Slide 1</dc:title>
</cp:coreProperties>
</file>