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D65-B2FC-4CD9-9594-AA2E4AF5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D00-030D-44D2-982D-F7BB7F7F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C37-063B-4924-A010-FD93E138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29F-ACC4-422B-8FAB-34D9AE4E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137B-41E4-40AC-BA4C-8AB7F38E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440E-E3E2-4C59-9009-C0376CC6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8CDE-D749-436A-9F74-A84F97CC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C959-1A18-449B-AE5E-554E7925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8E1E-85BE-43CD-A98A-0FAE71EF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1E30-2751-49F6-AFE2-496AEEE8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728B-4A5D-4148-BAA8-84053C22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CB2-BBF0-4E11-8E8B-55799DEB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252F-1F3F-47CE-9EFA-1F8F4FE5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C1F7-FB1B-4969-B71E-C14F3C0E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65AD-A148-4481-8763-9402AFDD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551F-2F3F-44B9-8CB1-4FC9BC9D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7A9D-DC02-4239-AB4E-0B6BB6D3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D1E-72B5-498E-AF5D-79F56563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3828-61DC-4CE5-8969-5E5B2ABC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1321-6C3E-43A3-9915-6167AD34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1E8F-EB59-48F4-BCE1-71E12253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AF2-AD01-421C-9359-EB160D7A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5B8C-BC4D-4A9F-B25A-37AAA35F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D7A7-2B85-4D79-9158-502F1D55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0177-EFB6-4764-9D69-F6414943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9260-4826-4251-A407-6F5B5B4C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EACE-A654-4C49-8157-39854E5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7FD3-A20F-41B1-B52A-E48FDFC7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BF710-2F2F-4289-88A4-14A9ED4F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03AC-3ACA-4253-B3E6-E068246F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12B2-6914-4860-9575-EB401B56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748-9E03-40D5-B96E-F3D5F8A5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615-25EF-4589-B07B-5059B1A4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DA8-78A8-4D12-AAA7-140CC9A2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F2B-ABDE-4226-940C-61BF932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79A-4D6D-4054-96C3-E4669195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BBDC-E9DE-4D65-AE40-010179A4C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B008-E239-4340-92D4-82DC78622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09B5-65C5-479A-BBDE-8C092DDAE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Have Heard Of A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F. A. F. White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k M. Jones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Have Heard Of A La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36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Have Heard Of A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Have Heard Of A La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Have Heard Of A Lan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Have Heard Of A Lan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Have Heard Of A L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Have Heard Of A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Have Heard Of A L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Have Heard Of A L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Have Heard Of A L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Have Heard Of A L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360" y="648828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Have Heard Of A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Have Heard Of A L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Have Heard Of A L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Have Heard Of A L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4:06Z</dcterms:modified>
  <cp:revision>29</cp:revision>
  <dc:subject/>
  <dc:title>Slide 1</dc:title>
</cp:coreProperties>
</file>