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4C0-52C7-4597-8050-EEE6FC82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F8B-0D6B-42D3-B657-6193B16B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B88-11FC-42AD-BD15-E134BFCF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CD1-AB35-4141-BD31-3726987B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BAEA-E33A-490A-8B8D-6BB1FD54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18A0-0E78-4A2E-8289-C303B23C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E15D-846A-4A95-B4C0-9DD08C43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663A-544C-4A47-9D92-BA77CF41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C6E4-58F8-456E-AC6E-C0745362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9D6E-2A4B-49D1-8D83-46BC3AD1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6D71-F4B1-474A-B9D7-DA08CEE4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4CE-4AEB-4E39-90A1-CE47B303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3064-423C-4110-BC3C-5CFD4685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7E7D-FF3D-4EA0-93D7-E5A4F505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1E33-2328-46A4-B397-E92BEF31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A6D0-453E-4722-82F3-17F3B229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5C92-DDD0-4721-8F50-9BE1D78B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00A-4143-4C80-986A-F2ACC1A3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1766-DE11-4D79-AE31-9E704B2C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F400-139A-4D5E-BB46-B2EC06B2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1AAF8-2EC5-4440-9048-00DE7538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C1E-A346-49D8-96F7-2985A35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ED25-9301-4270-94CB-2754D24E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45C5-6E67-444A-B176-14E23790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EA5B-5DF9-4906-B3D0-56BB6352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5193A-CE61-467F-A6B5-9D7396D8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256A-15F2-4799-9346-AEC1445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5D65-0330-4F5E-9EC3-38B7A83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9493-CB0B-4CF7-AB21-6088D7D5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16A2-35EA-4D9B-9978-3DDB236D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CF93-A09D-4230-BCD8-F7B6AEE8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2BC-71CA-417E-9CEA-D6D16220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3A1-7A50-4179-BF37-15BB857E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76F-5E11-45E4-9868-FFE123AE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EDD-6173-4FF0-A02A-7B8CC771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0F4-7719-44A8-9EFB-93FF6A62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F372-0425-4FF5-A91B-206B6B10D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DD0C-704F-4129-8906-8D1F0CEDE7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FDCC-DE43-4BC4-A96D-022CF6211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 Is Well With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ratio G. Spafford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 Is Well with My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 Is Well with M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920" y="64882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 Is Well With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 Is Well with M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 Is Well with My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 Is Well with M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9920" y="64882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 Is Well With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 Is Well with M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 Is Well with My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9920" y="64882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 Is Well With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 Is Well with My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55:55Z</dcterms:modified>
  <cp:revision>29</cp:revision>
  <dc:subject/>
  <dc:title>Slide 1</dc:title>
</cp:coreProperties>
</file>