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8A2-36BD-471C-BC94-68FCA21B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4FF-765C-419A-8E9F-B601CD74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A2C-C4AE-4F6D-80EA-0900D183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960-04E6-48E0-9FF7-94EDCE52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20A-719B-4F5A-A273-397657F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A23A-B3AD-49E4-8C0E-A51B091E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CCC9-D625-49E7-AB3D-4B390B96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7E07-C554-4DFB-836B-49424CA0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3F24-471A-4F1E-AD90-6CF0A49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9F4-D96F-4930-8BAF-B5283CC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1458-8AB4-4FB5-8A68-4B9F081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F52-FEAA-4201-A9DC-1EBBF40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5941-6286-4555-B023-0BB985F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E365-F15E-4376-84C5-30A3BD8A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F9FA-C340-4418-AA5E-143FA5E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31E0-96C4-4BB4-B80E-C6B2C3F9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E31-8F4D-4620-8C70-E40FCFB5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842-7098-4062-A11F-FD2756E2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A03A-02C7-4B8F-9696-2FC8FBEE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8FA3-9200-45CA-8303-778F335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AB80-B2E4-4DC2-9F0D-B5907FA0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F0A-E481-4026-8585-898A0693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D450-CA4F-4438-B9BB-4F547C00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9A7E-B8A5-455E-B859-776A999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BAEA-23A9-4775-AB9E-8B8B157F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11C1-0650-4B44-B07E-18FA4F6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3BA8-95F4-4262-8C59-5385FD3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8E99-C70C-4EFD-8163-CD5FD6A8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4F22-0D9D-466C-897F-77CF993D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372E-D34C-4F2A-B229-DE3D95E4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6BFD-7D29-4B73-B4EA-AA9C54A9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B43-6E8B-49E0-9F92-4FB9FF5D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E81-2592-4F10-AA07-6D35193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CD0-AEC7-48EA-AB36-04D1031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11D-1593-40A9-ADA6-1EFEE27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74E-2780-43FC-A372-2BD3A9B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96B1-CC35-4E8A-94CD-DF0FCA0CA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7B61-FDCE-4BED-A807-F63D84056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1B1-D070-46BC-B6D0-5E39368B1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Memory Of The Savior'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INCHESTER,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Cotterill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ste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t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5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Memory Of The Savior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Memory Of The Savior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Memory Of The Savior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Memory Of The Savior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Memory Of The Savior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360" y="64882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Memory Of The Savior'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Memory Of The Savior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49:27Z</dcterms:modified>
  <cp:revision>26</cp:revision>
  <dc:subject/>
  <dc:title>Slide 1</dc:title>
</cp:coreProperties>
</file>