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8D1-B9F8-4909-B116-9796137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A06-93B4-424B-8974-7225C3AD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6FB-31CD-4BD7-B980-A666F613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A30-771F-48D3-B3B3-FAC0A9EC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E84-F03F-464A-86B3-C430925E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A77B-4B81-46E3-9466-622DFDFF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5853-E1F8-4506-803A-1BCC410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485-E178-4678-A63E-034B225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858-0FCF-4DF3-83E1-82AE955A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87D-D850-4777-AB72-FB0C9967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476F-DA81-4D6A-8C66-6B364C8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A68-9F8C-45C8-B17E-5B47CC1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4F28-0074-4D4F-A2F1-CA32BC0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F38-C6D0-41F3-A1E7-018C78E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AD25-841D-4ADF-909C-BC09DF5D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AB5-11AD-4416-9C5F-7C654301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8E7F-C5B5-47EA-AD63-A2B230B3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C38-A8CF-4FBA-80C2-1547F9B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9CF8-4092-4D14-BE90-901CFACE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E0AD-FFA2-411D-A182-5BF8366E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49B0-DD7D-4E58-8C56-224C225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0D0-0CA8-4296-95D7-143DE84A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D727-20F4-4C75-A8E9-00F2504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8D93-D103-41D4-AD99-2FEE982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D1F2-C3C0-4BDE-9D15-1C27515C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F4B4-923B-4CB8-9516-44A4346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1977-DB9A-4E93-9232-58730DF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647E-67B0-46D7-B63F-E913DA4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E783-68F0-419F-B5FD-602B48F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EF0D-30E1-44F0-9C29-7580924E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C242-2E4C-415A-BDCB-2A8CF67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F1C-8ECB-4BA5-B098-00368793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B53-690C-46B2-B250-316D61A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BBC-9460-4DC3-8C95-6E15893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990-5D0D-4C1B-8432-A66251B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FD5-8B26-4519-A15D-60295A5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4B83-6CC8-4EA3-A166-146308CC8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9E1-362D-42EF-8D16-FE51C3041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96CA-A0C6-4EE0-BE07-490D4F5BF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The 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the Vi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the Vi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the Vi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the Vi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the V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the V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the V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the V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the V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880" y="6488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The 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the V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the V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the V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47Z</dcterms:modified>
  <cp:revision>25</cp:revision>
  <dc:subject/>
  <dc:title>Slide 1</dc:title>
</cp:coreProperties>
</file>