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450-429C-4FA4-9CA4-7A8E1205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B89-0990-4A19-83D9-1B8E9D4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237-25CE-4098-AA8D-17C78392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421-E403-45D8-95DE-7FA9E76F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07D5-1D62-44D5-A4C6-CC204855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57B5-ED4E-4998-B61E-ED329E5F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5D1-3347-439C-AE53-AA01B8E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CEDF-A22B-4E67-B1AE-3780DD9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397A-F17C-421A-9BA6-D9604AF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5A80-D9E2-4FC8-94CD-3B2D89F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62AE-E7F7-4B8A-9CAE-F14B7F45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FBD-2C67-45B9-AC44-0E38A8A5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C2D-55DF-486B-A8ED-8278CE2F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1E9B-87D5-4357-A4B8-DD833D34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19EF-26B2-4A05-AB2F-B5EFFFD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8153-4C55-4034-BBD7-77D8DE70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A6E-C505-495C-8F14-64885364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DCF-26A7-458F-84E1-7E80E51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4FD2-8942-4988-8979-448A46FB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3A50-18E6-4D2B-9FB6-732869F4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B477-4426-4211-B531-F2ADB85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184-6521-4798-A273-46D7C203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0ACF-5497-4C03-B27C-9AC89CE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88DA-11FB-44BB-AEA2-663C4E2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872E-BF5B-4AF9-B82C-995AF7B1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8288-6FB0-4B37-A585-B55DCC3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4BF4-5A21-4B98-80E7-4625B1A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3F4B-09B9-42E8-A19C-ADAFB42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0D4A-29A6-4F7E-8959-8FAE118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F773-DDEA-4B08-BDA2-21367BBE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3CED-00E3-4425-9081-A749F810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9BC-CF9C-4280-B70D-151A66B1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D1D-E6EC-4AB5-8307-014FDF8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5FC-645D-480A-AF81-7236E14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BC2-8CA8-40CB-AF65-CF87EC6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41C-40FC-4D5A-9B0A-59F41CD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ECCB-58EC-4768-A7B1-0EC1F4D15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EF2A-92F5-42E4-85AA-6F42E24DD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E615-DFCC-48F0-B874-0E331D1A5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Savior’s L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tand Amazed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tand Amazed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tand Amazed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Stand Amazed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Stand Amazed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Stand Amazed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tand Amaz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tand Amaz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tand Amaz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tand Amaz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tand Amaz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tand Ama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tand Amaz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tand Amaz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tand Amaz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1:18Z</dcterms:modified>
  <cp:revision>23</cp:revision>
  <dc:subject/>
  <dc:title>Slide 1</dc:title>
</cp:coreProperties>
</file>