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4D0-52D1-432C-B750-D82709D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CAF-D03C-49C4-A751-9282DD62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9BF-DF7C-49C8-9344-0623817B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89D-D389-424E-96F4-AF7F3078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A53A-C8EC-4FC5-982A-7AFEF180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244F-B016-4D3B-AC54-551B8BF5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022-8610-4B2A-9EFE-77AB2BA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2AF-00A2-4D7B-B400-B29C728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A02-D624-4E8E-AFA3-E7AF794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C6E-3CB3-4A82-9AFD-DB9CFF5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912-6C1C-4413-A73E-1203CD0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E13-ADDA-4962-8A33-8F3789B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4B46-6B69-4973-8AB7-FB957D1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DEC7-B4FC-4FC1-85ED-FB3274B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000F-1F9A-4A13-9B0E-D5D4048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A68-CA11-4851-AF1F-A5E74E1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976-C231-4044-8D5B-EB52107E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C35-F5F2-475F-8363-BE1C164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0A71-0412-4455-8F64-85215B56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1E66-21AE-4B97-99C4-6C4DF0D8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FAE0-465E-4572-A436-3BC7817C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267-02A1-4F63-86F5-EED599A4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D3B3-4751-4AB7-90B1-150E243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37A4-9D0C-4535-8E02-C5C6F25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98C1-3172-416B-8756-467B8B34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D7A3-D9F6-4245-B277-05E56A4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054A-8532-42EE-BC82-6FC2302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196D-7EB8-43FE-B442-EECB463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4430-8F6A-4604-9F10-C7E8393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3BFC-E064-449B-8D38-4B505924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E2F6-9533-4A87-9FB0-32962275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000-64EB-451C-ADD8-C334D786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26F-2352-4A00-BF7E-E1737509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41F-5D12-4D88-80B1-F172E1D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271-BAA2-4235-8A7A-F824947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ED1-018D-4E83-AE23-126F2F7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4076-3E41-4769-9503-DF259DB38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55B-0616-4358-ADF0-2CBD064F4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03E7-C370-45E8-92DD-2D8EBBEFE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m Not Ashamed To Own My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Z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Glaser (18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m Not Ashamed To Own My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 Not Ashamed To Own My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m Not Ashamed To Own My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 Not Ashamed To Own My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m Not Ashamed To Own My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m Not Ashamed To Own My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 Not Ashamed To Own My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20:10Z</dcterms:modified>
  <cp:revision>27</cp:revision>
  <dc:subject/>
  <dc:title>Slide 1</dc:title>
</cp:coreProperties>
</file>