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8830-3F40-43D9-BDD9-334282FF2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4CE7-9C57-4A57-9596-7475257E4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085F-DB3C-4CFB-8FED-828686DEB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D828-6634-49E1-AA92-EC22EDAFC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A4317-8546-4B12-8466-DE26762A1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0C9A9-72D9-44DE-90C3-7A7BFE836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387CD-3485-4845-B8BC-403882506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936D7-6B96-4997-9794-7A4CA6D4C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240F3-6F20-458A-BA2B-A7FDF2D81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68F50-F65A-4A01-AFCE-CF6E5AB9A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972CB-D276-4212-BF05-B132F2805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E965-D16E-416A-AEE7-2386C23FC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4B293-5168-4CDA-AE08-9E6EF6528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16221-265E-42C4-A8E6-E2A7AF9DE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1C808-2B47-4C27-B711-55D8E8E79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00482-5917-47A8-B561-271B28882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9D4D7-DAD3-4F5C-9924-AE5692A76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88EA-3465-4513-BA11-8C608F22A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5B4BD1-5A57-4053-8F8E-B62949FE2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53F455-ABD4-4A47-B5F4-0A511ACF2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BC8C4E-2156-4CAB-AEAF-C7F9B1649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B881-AF71-484C-931C-97860B3A2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ADC90E-3564-472D-9525-7AB3237B9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2D0103-7927-43EA-A9F1-F14642644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04DCDA-39D1-46C7-988D-C81F8E3B2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0BA594-287C-40D2-A6A9-6AB79FE6F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E5BC20-AFFC-491E-8A0D-99F8605EE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0AF51B-1056-4CF7-8667-7E2320002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008649-5A4A-4316-B318-BF438CF6B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505689-91BC-44DB-866D-8FD5D24C9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D5FDCE-F0A1-47A6-B4DB-016646C7D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C802-1EC1-4939-B407-2EFCF8232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3CB9-784A-46E7-9729-65D9A7B29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4E03-1C71-4A93-8341-1BB52E7DF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8ACE-B298-45E8-887D-75DFB8F7F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2CB4-1840-4BAB-80C9-8CE6BF6B2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F42DD-0272-4880-A277-E478F0370E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A8B6C-4D33-4A54-B36A-2A4A59E7ADF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12731-D1A3-40C1-B96C-F30192C7A3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Is Thy Heart Right With Go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6/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F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E. A. Hoffman (189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E. A. Hoffman (189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20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Is Thy Heart Right with God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10160" y="6488280"/>
            <a:ext cx="398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Is Thy Heart Right With Go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Is Thy Heart Right with God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Is Thy Heart Right with God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Is Thy Heart Right with God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Is Thy Heart Right with God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10160" y="6488280"/>
            <a:ext cx="398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Is Thy Heart Right With Go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Is Thy Heart Right with God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Is Thy Heart Right with God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Is Thy Heart Right with God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Is Thy Heart Right with God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10160" y="6488280"/>
            <a:ext cx="398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Is Thy Heart Right With Go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Is Thy Heart Right with God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Is Thy Heart Right with God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Is Thy Heart Right with God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1T18:36:49Z</dcterms:modified>
  <cp:revision>28</cp:revision>
  <dc:subject/>
  <dc:title>Slide 1</dc:title>
</cp:coreProperties>
</file>