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27A-A6E7-408B-AA1C-B477019F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2AB-13D3-4C0C-860D-83B0A288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75F-68D0-41DF-882B-148FADFA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88FE-AE90-43EA-B647-923DFDFB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27B2-84E7-4B71-BD62-2C45A8B3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02F3-DA37-4102-9ACB-41692347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E5D6-7512-4B09-BE7D-7B27D87C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2895-8138-45A3-A403-36450A9E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5689-9AF3-407C-81C1-EFDDD5FC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15A3-1D59-4DB3-905E-81E46B33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7995-1D43-44D4-A398-262D2F7D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86A-EECC-4396-80A8-84A449D1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B8DF-EF8B-4E6E-ABC4-707DBFAE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E35F-B418-4A72-9B1A-48CE72F7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94A1-8529-461A-98A2-0D0AC827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AF42-B8E7-4B56-A4DA-33568D09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989A-D2DB-48F3-8BD2-DDFD74DA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B2C4-0CE1-4B15-8EE8-330CB8AC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54CEE-6DF0-4312-91C0-1D0D83C5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6CD82-85B3-4675-B486-A6D72451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59188-7C1B-4334-9054-9903D108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78A9-C299-4412-8FB4-FBE71790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8DF62-B41F-4535-90F3-B75850B0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AF087-DFB0-4A6B-9D06-C43AC27A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B84AE-FF24-4D90-BF38-59CEBA56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7E0DB-6F82-4B2D-8675-6A3B8285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F18DA-E8EC-4A16-9988-F0C55957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BE163-380D-4707-BD34-CB42D5A9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84D0D-F4C4-4795-88CC-F9485666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E1AF9-1981-40B3-8C21-060EEA4D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3B657-5348-4B28-9CA4-B9E4ED02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9F57-7A19-4302-9972-F994CF78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BED-0BCA-464C-AA98-CFBD09A9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0FF1-560F-4FA6-BE9E-C725615A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F178-137A-4A94-8675-08DA4F42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1AD-7A27-4794-9616-F894FDBC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A023-A24B-47EB-931D-718EE924D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2FBC-F239-4A3E-BF8E-A8A5B0A4A2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E926-8CA6-496A-8977-DFF775ED4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f Jesus Goes With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Austin Miles (190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Austin Miles (190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f Jesus Goes With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f Jesus Goes With M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86040" y="64882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f Jesus Goes Wi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f Jesus Goes With M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f Jesus Goes With M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f Jesus Goes With M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f Jesus Goes With Me_v4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f Jesus Goes With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040" y="64882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f Jesus Goes Wi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f Jesus Goes With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f Jesus Goes With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f Jesus Goes With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f Jesus Goes With M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f Jesus Goes With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86040" y="64882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f Jesus Goes Wi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f Jesus Goes With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f Jesus Goes With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9:03Z</dcterms:modified>
  <cp:revision>34</cp:revision>
  <dc:subject/>
  <dc:title>Slide 1</dc:title>
</cp:coreProperties>
</file>