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4C4-91AE-4981-B3D1-4474559B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DFA-2709-416D-9E68-9B151ED8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0B0-CDC3-454E-8624-5B5319F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BD5-F44F-46A2-B64A-3A410C61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DC92-08F1-49F0-9100-87D57291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7A3-EEF1-47E1-A52A-4941ED66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37E-4022-428C-BAE9-630ED90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20C5-0257-414E-AA37-9B2755C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F359-2F15-4D17-8717-0432C63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9590-3CF3-4FBB-9771-E8583C5D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2A4-BE30-4AD9-9D9F-E6442BF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EF9-2B71-4368-9926-34A162A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ADED-D897-4541-8DEC-054E11D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180-813F-4D16-A17F-85B88B5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2145-610A-4EB4-B2A3-7536F68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7DDE-62DD-47F1-B2B0-679BE242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3ED7-CE2F-4F12-BDAB-121D5987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A47-85C9-45DE-9C14-D264472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93A1-D4E2-4ABF-98BA-4FE00D1E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F08D-E5CE-4D6A-A140-4FDB064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24E4-FC56-4310-A613-EE9C3E22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F56-6242-42F1-A3D8-66B70FC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E5FE-A146-4E2B-80CC-A40679F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0847-0A2A-4500-AE71-52848D4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1DFE-A7B4-4A2B-8214-A9092DA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6B35-F519-4F15-BEAC-C121DAD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7099-6480-4806-BB6E-C79F296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39F9-B6DC-4ECF-BC08-4AE400A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F3F2-02AC-48C6-B7E3-A140250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C3CD-A521-4DF1-B4AC-4640BAD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5A52-F341-47F7-8270-D742D298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580-1659-47D8-A27D-CB1EC1B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C6C-B000-4FF9-A64A-258F9B1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D2-CB7C-4227-B742-F3FF202F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876-321C-4A24-B568-F65232D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A01-81B8-4981-A9E8-659B3AD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7E4-E6C0-4122-A546-A1144308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06F6-A133-4E0B-A317-E18494D15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8166-0599-4FF9-9708-4377F66E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mmortal, Invisible, God Only W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D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0200" y="4902120"/>
            <a:ext cx="13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ter Chalmers Smith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niadau y Cysseg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mortal Invisible God Only W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mortal Invisible God Only W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mortal Invisible God Only W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mortal Invisible God Only W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mortal Invisible God Only W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mortal Invisible God Only W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mortal Invisible God Only Wis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8800" y="6488280"/>
            <a:ext cx="46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mmortal, Invisible, God Only 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mortal Invisible God Only Wis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2:56Z</dcterms:modified>
  <cp:revision>31</cp:revision>
  <dc:subject/>
  <dc:title>Slide 1</dc:title>
</cp:coreProperties>
</file>