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E9D-E7A7-4263-BEDD-5876A7DF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5D0-CC25-4452-9155-BA97E1C5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930-D9D3-44DB-B588-7D774A25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6F2-3C41-4E6E-BE86-3D43CD4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E2D7-2D87-4E5D-8011-D078962E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9F5B-F3E7-4BAD-9CE4-5C987A54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CE0C-DABF-4581-BCF5-5D78D5A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30BF-0B25-4E1B-9428-3B01FF1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75B1-A935-44C4-B572-C56B50C9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0316-CE61-48C1-9BFA-50601B5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9183-3D1A-4703-AEAE-D3ED668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827-BD40-4B55-9115-89B4924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73D-D185-4CB8-BB96-07958B9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C2CB-ACC7-4A46-B2F4-E594807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A7F1-EA88-4A89-A8CE-68CB57AF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6692-65FD-415B-92E8-4EB5D887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CE4-5B17-4844-99B5-D1B1CC52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F19-0EF7-4138-9291-80C8EB2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355E-1BF4-4851-B318-8D562B3B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2F6D-FD35-40A8-A24B-928D2C3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8293-41A0-49A4-811B-F3F9C85A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E1F-FFAE-4956-87F9-9E5DBCC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BE9E-28A9-46D1-8387-1CDB96B6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FBD4-43E6-4075-AFB9-1B44311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C54A-A8B1-4B6D-9792-FFBCF82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0FFE-CCD1-40B5-A6D7-E6E241D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A5E4-8366-4C20-921D-FCF44A0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8DA4-FA8C-4C59-A030-B26B740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6A1A-0542-4CA9-BE6A-25A3C57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C551-2E6C-4A01-9040-BF127FEE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F0C4-6201-45B9-BFC9-95ABB1F8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9FD-5650-4B35-81FA-9C90DD5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CFB-9529-40C7-A187-F7C58A5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BF0-AD3D-4134-90FF-107F32D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B7D-0DBD-4F53-8895-9719CFF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0DD-9432-433E-8C66-777D49F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267-B2A7-4274-9FA6-963208112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EDE7-3576-4DF0-84B9-C847A7A06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2735-510A-4987-A3C0-10F2337B9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hadow Of His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Atchinson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O. Excel (18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hadow Of His W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hadow Of His W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hadow Of His Wing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hadow Of His Wing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hadow Of His Wing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hadow Of His Wing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hadow Of His Wing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hadow Of His W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hadow Of His W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hadow Of His W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hadow Of His W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hadow Of His W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hadow Of His W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06920" y="648828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hadow Of His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hadow Of His W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hadow Of His W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4:04Z</dcterms:modified>
  <cp:revision>31</cp:revision>
  <dc:subject/>
  <dc:title>Slide 1</dc:title>
</cp:coreProperties>
</file>