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8FBA-0DE0-4A55-A462-EEB2CFF8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09CD-2D31-4D4E-A9A6-B29418A5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DFBE-073A-4140-9183-04B89DDC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DD72-1F8C-4B2B-AA10-1D65B56F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BA43-A97F-4A75-80AC-152ACFD4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2E74-540C-4BE9-BA56-F6D5ED43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3451-4B8F-4F59-A3FF-DD6FA544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AB9F-78B0-40D8-A5BF-3166295C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672E-2128-4740-B36F-B0CD52FF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F5CB-C9A0-4662-9262-11B2BBE9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3D1A-64EB-429F-B6A7-4E2627BC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6894-C911-4966-857D-3ED3BB16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8F4E-A3F8-4760-9384-2AF8E989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BFF2-45B0-4509-90F5-A8E2AFD0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8B56-4DD7-4009-80CA-12B3D5B3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01BD-5CD0-4924-9CBE-BCCC3755B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F481-DB21-4849-A90B-DD7039493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27C9-911A-48B9-A249-0E6FE23D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6905C-DE54-45EC-8885-4D4D29CC6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B44D1-8B9B-460A-9878-DAE76C6E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DAAE7-95C6-48BF-8EC7-050D329A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39E9-4089-4515-A9D7-D915AD09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24B9E-2BE5-41FA-BE3A-9D77D0F1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3BA82-BA7C-4A18-BEA9-242FA60A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C4A5D-BC5D-4CDE-9BC3-A13371A6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E2593-C17D-4A92-B180-414AAECA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2FA11-D21C-46F0-9473-DEAFE837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97494-D488-4442-AB2A-970CD793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C5EF2-FB32-4ADF-BFFD-3698EE0F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503FB-EA7E-498F-9125-5025F448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0B5DB-7B0B-47FF-81DD-EC9698B67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E50B-9010-4F35-A39C-A9509247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A186-1E5B-4974-8CE6-0E036AF5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87C9-6B56-4476-884C-8FAB4623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A4E5-9704-453B-B924-86BBBEDB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9E73-D9F1-4AAC-8F18-549FECA9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C565-1D0B-41A1-A5CE-4B6D2A403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189A-A3A2-417F-8AA4-8181495C4F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FB53-58EC-4331-8088-C4F028762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’ve Got Peace Like A 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2280" y="4902120"/>
            <a:ext cx="13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Spiri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Spiri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ve Got Peace Like A Rive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5280" y="6488280"/>
            <a:ext cx="37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’ve Got Peace Like A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ve Got Peace Like A Rive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ve Got Peace Like A Rive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25280" y="6488280"/>
            <a:ext cx="37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’ve Got Peace Like A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ve Got Peace Like A Rive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ve Got Peace Like A Rive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5280" y="6488280"/>
            <a:ext cx="37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’ve Got Peace Like A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ve Got Peace Like A Rive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ve Got Peace Like A River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25280" y="6488280"/>
            <a:ext cx="37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’ve Got Peace Like A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ve Got Peace Like A River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3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4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33:26Z</dcterms:modified>
  <cp:revision>31</cp:revision>
  <dc:subject/>
  <dc:title>Slide 1</dc:title>
</cp:coreProperties>
</file>