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E84-40F0-4AC4-A63D-91F6C604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D85-8596-4048-85C6-092B096C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43D-1316-4EB7-BB83-AF57730B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E21-C231-45F7-AEC6-D2C36F28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E246-CECF-4048-AA9D-88CC36D5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173C-76DD-4DF8-ACE9-5161D560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461E-3E5C-45BA-B6BB-EC4ADAD0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FA25-1F13-4915-9ED3-3B558DF3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42EF-B435-4701-AEC8-990E9D91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C38-F9AF-4D56-8F54-D29D3CCF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321D-8936-42C4-9895-6C4CAF6D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156-4C96-4C1D-91C9-C98B9A47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3757-5DC9-4C50-A967-EF3F44B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42BC-E641-4172-A0FF-B9FE7A9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E128-F6A8-4D62-8D90-54C3E787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8A9A-4A85-442E-BFA6-0BACAC1B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619D-1DDB-4CE7-9F84-18E52799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698-B85C-49AB-BD73-25F2DEAF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31A5-1288-4C13-8DB4-B46B1F2C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9720-CCBA-4E98-98EC-C1604F7C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FA73-16CC-4823-9910-D40757C3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91A-5961-4647-8BC1-CC56FCD5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607A-69D2-439B-A3CC-A4733748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2758-3CB2-4341-866C-2A453C52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F756-EFEF-40A8-B989-850FE879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7122-2779-49B6-B222-C8651EE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F2EF-BD8C-43DC-A7CD-44FB832D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D9D5-E2A0-4036-B38B-E8D9B1B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66AF-3037-4DCD-B6B8-3CDA739B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2EA1-DD4E-4368-AC43-44D4C7A2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189E-D35C-4C60-BD46-0A234EBF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F2C-C59F-4734-969E-9D4450F5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99A-73E3-4E99-A0D0-98D15B23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553-7D2A-466B-BD48-443B28D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1D8-99C6-46D0-A0B6-26FCE550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8FD-CBA0-49FD-9A5C-180DAD87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511A-474A-4BC7-B930-119D715A6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775D-FDA2-470D-8D09-317FBBCDC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04B3-BCA0-4D0F-8BBC-93DED8316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ll Be A Friend To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Dennis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ll Be A Friend To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36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'll Be A Friend To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ll Be A Friend To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ll Be A Friend To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 Be A Friend To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Be A Friend To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ll Be A Friend To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Be A Friend To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Be A Friend To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Be A Friend To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Be A Friend To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ll Be A Friend To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Be A Friend To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Be A Friend To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Be A Friend To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9:43Z</dcterms:modified>
  <cp:revision>18</cp:revision>
  <dc:subject/>
  <dc:title>Slide 1</dc:title>
</cp:coreProperties>
</file>