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7F6-B970-4755-8E41-005AE267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C80-13FA-4181-9212-694F549D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158-8AA4-48A5-A8D1-38D37B90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28A-97CE-4D64-BA09-1FAF89AC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25A2-691C-4F72-A389-28588AFA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8559-65B9-471D-A771-3CBDA0E0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0899-F401-4218-9433-6B9AF93C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E61-5F35-493D-920A-DAA56968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C417-1D69-439F-9454-BEE0EC14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A16-F99A-44BC-A1AB-559435A7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59F7-7FC4-439D-A72B-C676494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9E9-DB4A-4F27-9F10-828D4DA5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65EF-B9A1-4B37-AE85-C5920478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A862-3F01-470B-BB4E-40CF001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88EB-C176-4ED1-93F1-38577A2B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2B34-73FE-4CC2-A1C7-C76BDD3B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1E4D-BA12-4179-A8FF-C2F4104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B66-FB6B-4190-A2F0-743E4CD7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68CA-A8D8-4664-A4E0-82F1EA28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A853-DA40-4993-BA7C-483B008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6A85-A537-48C7-BE11-C44C6B3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F39-50BA-414A-B7DF-8646E5BC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97C4-E01D-44C1-82F2-34EEC8C7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701E-8C7F-400C-909E-D4C46D2C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F435-78CF-48FF-83BA-AADCB17F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BDB1-7F19-4E58-928D-3137D85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76EA-6CB0-4CD3-854B-B565C5D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1F07-D0BF-4FF1-9821-724EC07D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10BB-694C-411D-B228-BA997C37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CFFDF-7928-4D8F-A87E-D3CBF676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CAFA-58AC-4FF4-B0A3-CB9C5C28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009-78AD-4D12-84D3-E91CD9C0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12A-E8A9-44FB-8C63-7C7391C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B0F-7F41-46DC-877A-A81E194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BA6-6431-47BC-9B0D-AA6C96B7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E8C-C5A6-4357-B528-B4F844A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911A-2531-4385-876A-56F4A1E58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878F-8714-4BB0-AB58-FEC099213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B571-F2F6-46E3-BBC8-3236E1159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Of The Mercies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89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H. Fil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Of The Mercies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9760" y="64882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Of The Mercies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Of The Mercies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Of The Mercies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Of The Mercies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Of The Mercies Of The Lo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Of The Mercies Of The Lo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7:40Z</dcterms:modified>
  <cp:revision>25</cp:revision>
  <dc:subject/>
  <dc:title>Slide 1</dc:title>
</cp:coreProperties>
</file>