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4EA-2FF9-48E1-9746-AF1F84CD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549-EB16-499D-B95B-C3DAFF73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DF7-5031-4333-AFC5-51BC22AC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B38-CF88-46A0-931D-E90CBE79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53B-8B51-422B-AA27-81C091B1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57C4-257B-4B80-BB60-A94F9E0A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9BEF-1FD8-4991-8031-943EC6C8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EF44-19F1-454C-B41D-C5DCCEE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B46-03A5-456C-A540-5A4EFA3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C888-D3E5-4B47-BB1D-FE1491B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B3A-2419-4201-8E7D-D7554D5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C62-6A12-404E-8E2F-20D71E8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4ED-0C42-49B9-A475-1D93F3E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45B4-8C6A-4A38-A5BB-9D9225D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C23-F328-4E4E-8272-2ED4D24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966F-9D0B-48C1-8AA3-E8E151D7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870-BB75-4178-B180-0B80346C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AD1-0DC6-4E51-813A-13AB1D3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55DA-026A-449B-BAA9-CFE4C61F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D2D0-1FC6-4FEE-8611-12AA61E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E620-1C00-4E99-BF35-6ABB9BC5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F1E-2FC9-4F79-8DCF-11F5A478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73D1-4B60-41CB-BEDE-A3BAD2F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31BD-1947-4091-A754-DE7D8A8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8139-4D0B-4010-813B-B2E97282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4A11-EC1D-444A-9DB2-1243715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BEF3-F605-47E4-941B-2975AEB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A613-D5C1-4193-82DD-0DB6EAB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C5BD-6DCB-4D58-BA60-35906237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F8B0-B9B0-4264-8D39-3E11FA61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9DB4-4312-47DB-BB55-967722D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AB2-3745-4561-9229-0F871D4C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067-EDEA-43B2-810F-C4D54A42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926-94F6-474F-9DAB-4C24FFF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85D-9A99-4336-9357-BCF537E9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732-2047-4ADB-BA66-5E801D5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249-D664-420E-8FC9-F78316D3A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B79A-658B-4C82-AB41-56E6EBEE3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176-B3E2-4498-891E-CCD0459AA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List'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Spiritual - Traditional, Arr. V. O. Sta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Listn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Listn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Listn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Listn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Listn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Listn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Listn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Listn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Listn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704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List'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Listn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Listn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Listn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44Z</dcterms:modified>
  <cp:revision>29</cp:revision>
  <dc:subject/>
  <dc:title>Slide 1</dc:title>
</cp:coreProperties>
</file>