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3D8-BCBA-4DED-88A9-88B03012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085-A849-47F1-A7D6-39A43A31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A74-D6EE-4120-B07D-5BC60FFD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4F4-D28B-4D3C-8DF1-7EC0C4AC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A35F-0F81-4F5A-8D61-F28C355A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E8BB-F1FD-41EA-BD1D-766711C1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439F-8512-4D07-ACFB-F73C60BD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7742-E5DF-4AA7-95CA-C98F0F9F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A9B1-F405-4EE3-A907-28A82E6D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10BF-4E9C-4A50-A70F-53FEBEAF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ED2C-AB94-41ED-AAF0-DDFB4FB5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464-D6D0-46E7-A5A2-37E6FF01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F8BC-CAE2-4C8C-B96F-4BBFFD6B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89F3-A684-4DB7-9CB0-AF50194A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EEF7-8CD7-4827-B0B9-E1CE3E87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79B8-187A-41B2-8844-4A0D0CD1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4906-D8F4-4BBE-82FF-83BE3275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205-CF2B-45E9-97AA-4B5D23C6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B2C17-1BDE-420D-BE2B-5AB96ADC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AEC9-620E-49AE-8CC5-083ECA97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2A3C-6E5E-408D-886F-3B42DFEE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425-FA44-4BC4-A868-D5E71DCF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AA24-BCD7-4CC3-BF98-219944FD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7844-1514-49D2-939C-9B4CB7B4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D55A-976B-499E-9165-CD8CB311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85977-B1B7-4DF6-A463-B9F9F9F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A74E-D2CE-491C-9017-1B8105F3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B978-9D47-4C61-926C-AAECF72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F7270-724D-4A5C-A28A-4FF938E7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C645-0B4B-415F-984C-B81CAD96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43E6-7EB1-4660-81E8-C33694B4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627-C2B8-4DD0-B1A6-73358110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D08-83EA-47ED-9956-BA506B38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707-0C83-4E38-9B4A-79360F27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DEA-081A-4F39-979A-49BEADE9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D07-D93A-4C20-AA02-2B4BC337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A719-05C3-4A21-AE88-821AB453B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2A69-0250-45F5-8296-5AD4CBD1F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26D6-B6F2-469F-8D5F-9B059D6F6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Bring My Sins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LEAR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6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rgal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332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Bring My Sins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Bring My Sins To The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Bring My Sins To The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Bring My Sins To The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Bring My Sins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332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Bring My Sins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Bring My Sins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Bring My Sins To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Bring My Sins To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Bring My Sins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332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Bring My Sins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Bring My Sins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Bring My Sins To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Bring My Sins To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4:34Z</dcterms:modified>
  <cp:revision>36</cp:revision>
  <dc:subject/>
  <dc:title>Slide 1</dc:title>
</cp:coreProperties>
</file>