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3FA8-ACEC-45EB-B430-243072667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AF85-50ED-4D3A-9C59-C5A54A35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A2CE-E533-4249-B1E9-FE493794C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9281-E219-44C1-B42E-D008D571D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ADFC-DB6A-4332-B1FE-D99EFF8D5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90D4-0F6A-486F-BE5A-1F09DA6C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ACF2-881E-4E30-AB43-044035D0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E6A10-B669-4A75-97AA-F6F84237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EA1A2-8D8E-471A-B7FF-20E3E048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2BFA-BDBC-4ED5-BD26-AD6FEAFF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A74E-D5A4-422A-9224-2FC4E661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87BA-A2C8-400C-9012-9F6D57A4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F75A-608F-400D-B0B8-DC58D83B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559E-9018-4369-9C59-F8575A9A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4FA3-073E-4372-9956-E92EE1E2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4F8C-8D47-4E73-B166-CFE3EF6F8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9CD2-2A49-4E29-A096-224243672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D56E-B7A1-4CB2-AF22-0903CDC0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1D191-BC2B-44EF-A560-00FE3A71F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2CBF5-0F76-4FA2-9044-22B2024C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38CD9-F8DB-404B-A2C4-8DC1EAA9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62EC-7733-419E-9FAB-6DE8B0C8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FF3AF-F71D-4F4D-B464-AE59B152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14AC8-B865-4D7B-AB36-6B08AC6D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1917D-5549-4853-B28F-D3845DE8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A1418-9F38-4A87-957D-27A29A4F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1BB8F-B920-443C-84A0-831BE84E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4F8F5-1BCD-44E6-922C-55008D55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82740-966A-42D3-927F-8D35073A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50CA8-6679-4D22-AD57-966ACA66D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A7783-7C5B-45B9-8760-6AC7E40F5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1BC1-DCAB-4362-A595-F1F3E535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3181-DEB6-418D-BDEE-8112B1C4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CFFC-C2AE-4AC6-8432-A9808C6F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2B34-72DA-4381-8007-B79135FC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14EA-030E-4259-A154-60C7356C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BCF2-F5B0-4C22-959D-BC62416273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1DCC-78F8-4EE1-B304-AEB6F4346B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2F08-95E1-4D25-A0B9-1331A9D572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Know Whom I Have Believ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I Know Not Why God’s Wondrous Gr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l Nathan (188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McGranshan (188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6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Know Whom I Have Believed_v3o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8120" y="6488280"/>
            <a:ext cx="41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Know Whom I Have Belie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Know Whom I Have Believed_v3o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Know Whom I Have Believed_v3o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Know Whom I Have Believed_v3o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Know Whom I Have Believe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8120" y="6488280"/>
            <a:ext cx="41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Know Whom I Have Belie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Know Whom I Have Believe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Know Whom I Have Believe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Know Whom I Have Believe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Know Whom I Have Believed_v2o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8120" y="6488280"/>
            <a:ext cx="41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Know Whom I Have Belie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Know Whom I Have Believed_v2o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Know Whom I Have Believed_v2o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Know Whom I Have Believed_v2o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07:50Z</dcterms:modified>
  <cp:revision>31</cp:revision>
  <dc:subject/>
  <dc:title>Slide 1</dc:title>
</cp:coreProperties>
</file>