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C0E-7153-4FF3-9ACD-651829D4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D98-08AE-4C6B-BB47-C6E6180D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AE8-74E9-4A3F-A10F-DB5C1A72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98C-4F0B-40E2-8D44-BAA979C1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4686-D0C0-4ECE-B7F3-A64E17E5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C9D5-B2B9-4EB1-8F4D-9EAE74AB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722E-9059-4B46-9281-F10CB36A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E4BE-0217-4C43-8E83-798635A7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D337-2145-416C-A4E6-15804E6A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5516-35B7-487B-90BA-3C1D2F45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2BB0-67E1-4F4E-BD18-C9A5F90C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920-9A3B-4BBE-8FE8-298FEB0D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9BFD-21AD-4D02-8E67-4435B61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9266-1DF0-4C47-8319-64916229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A5AA-74E6-4A67-9051-BB4372AB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149A-C7C3-43AB-8A50-70A5850C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4CEC-1AC6-47BA-AD09-BE4ECEBC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B9B-884B-48E7-B18F-280424D5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9C75-9437-4D22-AEEA-0265CEC3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9D4BD-EB23-4504-9FF9-3926C64C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554D0-141F-4191-A94A-136E45E3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E34-9D27-4634-955C-59A7F6CE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D2B8-EA65-4836-BD3D-72CC5390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520D-8311-4132-9F5D-B6E029E8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22A2-87B6-4618-BB12-13156872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02CD-9E58-474E-A865-32DAF556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F25C-D0D7-407F-9264-391281F6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93756-99B0-4F68-8B0C-AAAA1CC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D270-6D57-4F9A-8581-B1436903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BB78-43EC-46BA-A94C-6CD728D7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8DA0-B1DA-4F3A-B780-9C1829C7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74F-6376-46EA-990C-747D2FEB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137-8811-4A26-8984-F05120B4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351-BDF8-4952-8A5F-A5052ABE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479-80B7-45AC-88C4-C9D8686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AE4-A562-4AF3-9533-286B055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0462-E151-47CB-A1A5-3A909F6CC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A407-E076-48D8-AA99-28C234449C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56E6-65D8-4375-B7FF-AF15DF2BE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Know That My Redeemer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Know That My Redeemer Liv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Know That My Redeemer Liv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Know That My Redeemer Liv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Know That My Redeemer Live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Know That My Redeemer Live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Know That My Redeemer Live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Know That My Redeemer Live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Know That My Redeemer Live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Know That My Redeemer Liv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Know That My Redeemer Liv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Know That My Redeemer Liv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Know That My Redeemer Liv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Know That My Redeemer Liv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720" y="64882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Know That My Redeeme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Know That My Redeemer Liv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Know That My Redeemer Liv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Know That My Redeemer Liv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5:54Z</dcterms:modified>
  <cp:revision>26</cp:revision>
  <dc:subject/>
  <dc:title>Slide 1</dc:title>
</cp:coreProperties>
</file>