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F86-92CA-47F9-A8E5-C7FAEE8D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5C5-3563-49B0-9952-A41ED16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FA2-244C-4414-B73E-484ADCE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E16-9658-4719-A403-F295930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BEFD-991A-4D98-ADCD-588D9D76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A5D8-47E5-4CD5-977C-D1CB51B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3A6-19A3-4342-883C-4ECADED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312-166B-465D-8839-3F51973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B4A-03AB-423E-AD39-8C80388F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BA90-C44F-4C98-9B1D-F6E53DB5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EB32-5BD8-4BDB-9328-D1E2599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3A7-22EE-4017-983E-0218F19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244E-D745-44EA-9C3C-949FF7D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9011-4140-4DF0-97C4-3FAF381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B58-76D7-47F1-9120-4D29045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DCD-BC71-48AA-911A-5CA29A27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9A8-3C85-4E89-9B17-F22CA6DD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98B-FC6D-4C4C-ADEF-27D36E0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F351-B2ED-4F2B-87B5-995965BF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DA52-77A2-45EA-A352-45703A75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B5F5-1BC7-49F8-989D-33080EE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9B8-107F-4AEF-918C-3041C24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151B-8816-4249-8C7F-A29F0DE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06DE-95FD-4E87-8FFE-61A8C78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410C-4C96-4B55-82E5-6B11B52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055B-CDA6-413F-89EA-1E34589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414A-32C9-445A-ABA5-57CE692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EB15-D5E3-41A4-B2BB-8BF0BAE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75A1-ACEE-414D-B8A6-E36D3B0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1BBF-78C8-4F1D-8A13-8285EE9D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0222-51E4-4750-AA76-E7F17916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A6E-776F-4030-8B29-6AAA3E31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969-84BD-4953-B866-40149580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DDA-6E5C-4F99-93FE-AB0029B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2DB-3005-4BD2-A2DF-0F1F19C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E61-BFDA-4A10-83DA-5FEA4F0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8DD5-58B3-486D-AC1E-08E7B1FE7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0EC-1C0C-418D-ADA7-5CF68058A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AF9-D8C6-4F61-BB5C-6FA9E6301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vory Pa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Barracloug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vory Palaces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vory Palaces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vory Palaces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ory Palace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ory Palace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ory Palace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ory Palace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ory Palace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2640" y="64882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vory Pa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ory Palace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ory Palace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ory Palace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03Z</dcterms:modified>
  <cp:revision>35</cp:revision>
  <dc:subject/>
  <dc:title>Slide 1</dc:title>
</cp:coreProperties>
</file>