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438-B9D2-4810-85C3-80EF3BA5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BFB3-0903-4B83-A83D-F988E07D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4B1-AE5F-4B97-AB18-8CAA14FE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E1E-6EC2-4EDA-9B47-BD97BA6E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DBF8-4389-4C51-B019-09DDCDF6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D764-861E-471C-8C46-DDD11F02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6108-A523-47C0-8C55-2501391D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9B44-D6CD-4897-98C2-8F00133E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A546-F7EC-4949-AB09-8210B28D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635D-25C8-4401-B6EE-6CCAAEFA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52E0-32A0-464F-B1C5-869AB509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6D6-220C-49C5-8D59-2CB630A4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1E1A-5FB2-494F-8D85-F8D6DA14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0B16-2875-4D85-89E9-67D8062F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D0AD-ABC2-4C83-A530-B51DA995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78B5-E437-40BF-A1A7-57FED4CC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A85B-CEB9-4751-9315-37BE5A1D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AFC-85DD-417D-9B57-23273216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60101-CC0D-41B6-82D7-4851012C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E2A53-EBF9-471F-9222-5D90C3C7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7C202-B4D6-4904-AA65-BD98574F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D19-82E5-49F8-9028-CFA7DF42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8F98D-B5F6-4AC0-983D-DED6B905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C8CD7-D41C-412F-B9D4-4E4FF2DE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EAED2-1324-4A34-B2DF-A0405B1F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63280-7D39-4278-9501-2774D085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6A2E6-6298-4D1E-8B86-2136E583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CF9F5-E116-4D2A-87C6-12424EFC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68945-F4C8-45FD-BA85-5949C43A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460F-20E4-44A2-8AAE-09E79C2A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C8E8-45D9-401E-B9D7-48418710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341-0FEE-4C7D-868C-5E616575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0B9-ECA7-429C-BCA1-79713EEA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E47-8A64-4C34-ADEA-509F2213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133-0D8B-4D34-88AB-4E71F20D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EF8-F60F-4EAF-962B-CEE8E38A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47E7-FF80-4711-A140-CE9719E8F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C4F1-D712-4E07-8A11-E780AB1832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539E-5F41-4CF7-9FC5-0D7F1D97C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'll Live For 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alph E. Hudson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R. Dunbar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ll Live For Him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0000" y="648828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'll Live For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l Live For Him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ll Live For Him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ll Live For Him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l Live For Him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0000" y="648828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'll Live For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l Live For Him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ll Live For Him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ll Live For Him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5:08Z</dcterms:modified>
  <cp:revision>24</cp:revision>
  <dc:subject/>
  <dc:title>Slide 1</dc:title>
</cp:coreProperties>
</file>