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915-1855-446B-AEB6-16590CAB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D1B-ED89-407D-8CBB-B17A380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D4E-E55B-4830-AE61-C3B011AB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E3F-7494-4139-8198-717092F6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CE8E-5084-4739-9122-AE9BB937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D074-FC86-40F0-A0A5-4F7B279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C3DF-C26B-4FEE-BB4E-E2823CA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095-06A6-4EB9-AF45-C015626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43AA-30A7-44A8-9688-79FBFD25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D87-9250-4E20-995F-16903DD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D3AD-41D3-400C-9359-C74E78D7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407-662E-4C56-A842-E31BBC44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D26A-6082-4C07-AB09-32995C4E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B999-8CAC-4293-BE00-D6E37F39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C289-1744-404F-B400-E260CE10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76D9-836E-4022-B10A-1840FCDD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9814-9B8D-4946-A022-76B70753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BAE-C0B6-479B-ADAB-0987BFF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1539-35C2-4165-90B8-6A1B2E8A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FC69-70C6-4AE5-978F-6CD3376A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1492-8C36-4E87-9E79-C8C8E0C4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6DE-4C77-48E1-9058-4D58AC7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CA9F-096C-42FE-9A6B-4EC976C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1E4F-98B4-4980-A40A-E278910A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F919-11BD-4B51-BCA7-BC1FEA4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FE1C-FC6B-4E94-883C-DFDD0A3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6809-BEA0-4551-AC03-0CEE955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09A4-F726-4023-90DA-C383A05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259E-E81F-446E-A025-9DAC1F4A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5E53-ED12-4786-9D87-2D15FD7F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3575-9256-48E0-91EE-15915333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058-EF0A-40F3-8FB9-4E9F5205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DA9-B8AF-4AB6-A47C-52F8B16F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3D5-FF38-4532-A2BA-D97872A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2B5-5C00-4F53-B544-EC2EE3F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14F-FC91-4F15-B227-8C6B669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97F1-7936-4147-858D-97020C075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9E90-1DD1-4D37-9B7C-4BAFA0DA9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F6A1-56F8-48CD-8392-F01663C6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You, My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American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gall’s Christian Harmony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You My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52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Love You, My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You My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You My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152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Love You, My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You My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9:34Z</dcterms:modified>
  <cp:revision>33</cp:revision>
  <dc:subject/>
  <dc:title>Slide 1</dc:title>
</cp:coreProperties>
</file>