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EFA-E461-4918-BD4F-18FC0F3F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F0A-64C3-4AC7-847A-EFA5E27C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F13-5450-4E00-B676-927971B3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276-EC80-4AF5-B4E9-96E1D20B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8473-F7DF-4273-A53B-9843275D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E8E1-0FA2-4590-AF56-59286339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581-3B05-4E67-B202-A434C7A0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7079-A8BC-4392-81EF-E087AF8C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E725-A71D-42DC-AAB0-7C48717E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DEC5-95E9-45AA-9DC2-C966157A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7BD7-268B-45A5-BD7F-D3889E4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885-BCFE-4921-834A-48718704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87E3-51BA-48F8-B489-1034C6A4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1824-E038-4289-878C-6584BE7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90FD-B7B6-4FC0-822D-B03555D3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F4B2-D3BA-4B15-B8B1-F86B83DC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9977-3BF9-4F44-A42F-0D259EE1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49B-633B-4916-BCE6-0BF3BE44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51AC-C4F0-4B6F-9AA0-2E313FB0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8AB2-AACA-478B-8F68-E4DA484E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D536-4A95-46EE-A846-5D21F3A7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48E-534A-44AD-8B31-F37A0262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FB63A-AA66-46E6-9F98-40C4AFB8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E404-06A3-4A2D-8F80-5AEBF3D3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5E20-2D69-4697-B936-B03FCF6C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9364-F75A-47B7-B30E-1276EAF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B3B8-3298-4B28-824C-6E5AC089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ACD3-62D1-47B9-B755-85C0BE50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9ABE-4D30-4A0F-8B28-CD1BDF4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FA20-3935-4BAB-8261-DF41DEF7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FD94-3B93-4E90-894A-0C87804F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EF5-A4D7-4692-83A2-5B420EBA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30B-874D-43B1-BAB7-72BAE235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40E-CA2E-44CC-8D32-B44D6DD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450-3FE0-4F36-8007-2D99B6C9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503-A754-4948-BFAD-7811198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E06D-DFEF-488B-8C1C-4FA39E3B8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1C99-E6E7-49AC-A47B-B5EAF5EA0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A1E-E60F-4DD0-8556-7A15EAF69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Kingdom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lmer Hartsough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Clark Perry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Kingdom Of The Lord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Kingdom Of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2456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Kingdom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Kingdom Of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Kingdom Of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Kingdom Of The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Kingdom Of The Lor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Kingdom Of The Lor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Kingdom Of The Lor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n The Kingdom Of The Lord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n The Kingdom Of The Lord_v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Kingdom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56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Kingdom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n The Kingdom Of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2456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Kingdom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n The Kingdom Of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In The Kingdom Of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n The Kingdom Of The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n The Kingdom Of The Lor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n The Kingdom Of The Lor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In The Kingdom Of The Lor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In The Kingdom Of The Lord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In The Kingdom Of The Lord_v3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Kingdom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Kingdom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Kingdom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Kingdom Of The Lo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Kingdom Of The Lor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Kingdom Of The Lor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Kingdom Of The Lord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51:17Z</dcterms:modified>
  <cp:revision>33</cp:revision>
  <dc:subject/>
  <dc:title>Slide 1</dc:title>
</cp:coreProperties>
</file>