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C2E-34E0-4BCD-95D9-89E59460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1E5-5C0B-4C85-9B0E-621B2A34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8C-B581-4CB2-9962-5D53B4F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65D-0A8A-4F15-869A-5DF5540C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737-0676-4194-B609-8DC9EA4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3F24-95CD-4A0C-8754-A216565A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B3B-22C7-4F94-BB9D-103BA39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592-1015-4BFB-93F0-21590B4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0C7C-8125-47DD-9A6F-77D5836F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4CD-7172-457E-8792-FB2D0BE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23C-E962-43CE-8905-58CA953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0A5-E58D-4DBF-A72C-3DFF2BA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9CA5-2F06-4F14-AEA4-2356A2A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971D-C9F4-4564-9C03-0ADE393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898-3156-4F11-8FA7-F3D2F2D6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B187-D315-41F5-94F2-0D2739A0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C7D1-79C9-4425-A433-232A91E5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38B-210E-4E04-9BFD-D71838D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6987-4C80-493C-ADEE-4FB6C37A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22A2-C325-466C-A9C7-E010BD5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F2F2-4668-4F8F-882F-77A262D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458-F91E-44EA-B2F8-752D8D6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8F86-1E76-422E-8762-4C2C1CFC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0FAD-721D-4E05-9049-B03FD31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7D43-B15B-438F-AEB9-A1E377B9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7C5B-B0C5-438C-AD91-5006ED9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DC94-1410-401B-B646-0736108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E835-4327-42B5-BE30-88899B6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0A26-A65F-45BE-ABC3-DB4D33B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792D-FCB4-441E-9ED9-89A4C92F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C13B-9EF0-4780-9BA5-621DF4DC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028-5EA7-4126-988E-1D6B3F3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FCD-DDC0-4E7D-B3F8-F7F025B2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9F-5DAD-4692-B1B1-A5284F4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FB2-9E4D-4A5A-BCA0-7605E56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1C8-42E8-47CD-AC72-9223580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B75-9544-40AD-B2B9-90A73E73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F0F-4F85-4419-88EE-412807FE4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59ED-2A37-48B2-A998-F14D4C137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t’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t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ts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ts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ts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ts Me_vcho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t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t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t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t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t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t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t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t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69480" y="6488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t’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9:38Z</dcterms:modified>
  <cp:revision>31</cp:revision>
  <dc:subject/>
  <dc:title>Slide 1</dc:title>
</cp:coreProperties>
</file>