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358-3C76-4E8C-B65C-27B2239A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29F-CF52-4A60-81B4-B66DE04F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4D4-DC23-40AF-8D19-EFB013E2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FC5-A6B8-4694-BA3C-727CE0C9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C911-ABB6-44EE-9A53-33976FC9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3630-83BC-455B-B5CB-2637BA16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8DC8-BB99-49E4-A449-F69EEDF1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648E-0837-42CD-8A14-D4A2B9DC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7035-0B57-4D9E-B48D-D9F68701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E34C-8897-4AE7-8307-5991ACA7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B6BD-96AD-486B-A8A4-46BCD975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51A-076F-4072-8EDA-350FAE30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60A2-310F-461C-9EB8-2F26BC8D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1E3D-ABA6-4EFD-83F2-984000FB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95CA-EDC3-483E-B412-EB813155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7C23-CD05-4EE2-A7B2-0FCFF9DA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7EF5-2A97-468E-8744-1C84B83C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8C3-F258-432C-B9D9-0C63B537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06D0A-6B15-4651-9629-016850A8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A7A88-A16C-49E4-B9B0-4F51130C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75C38-EC21-42FF-8D41-9139CFD9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396-E8B9-491A-9FB2-E97E79D7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2C05C-3F3F-492D-8BD5-117A89F6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DAB6D-87B0-47FB-9BE2-39F8537A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66690-8722-417C-94AB-E6D9DED6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168B1-2DB6-4651-B01D-7E99312F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D765F-4FBA-475A-8474-E25FE786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1B115-8D57-4404-8B4A-9D61B760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37D32-0517-437C-AF3A-0687864A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3FE02-EAA7-478F-925F-5AE25D57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8FBF5-2B5B-4727-8390-EEE1C271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969-BBA4-45F6-94D6-A548484F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902-5D7C-4215-9791-AB3A520A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2DA-75D3-41B9-A0C1-8DB23375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82C6-2AF8-41B8-B9B1-29B10394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484-5B7A-4B6A-A9DD-B54F7855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AC1C-E525-454B-A95C-90668F49D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95FC-DBB2-4632-97F2-5123FE14E3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61B1-FEF0-4B38-A1BF-DDC7203CB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Sorrow I Wand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 Walk With The 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entley D. Ackley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Walk With The K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3960" y="648828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Walk With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Walk With The K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Walk With The K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Walk With The K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Walk With The K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3960" y="648828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Walk With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Walk With The K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Walk With The K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 sheet of music with notes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Walk With The K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3960" y="648828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Walk With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Walk With The K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Walk With The K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 sheet of music with notes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22T01:58:59Z</dcterms:modified>
  <cp:revision>28</cp:revision>
  <dc:subject/>
  <dc:title>Slide 1</dc:title>
</cp:coreProperties>
</file>