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28B-1D9E-4655-868D-45C7110F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731-7016-4039-AD9D-326AD01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F9E-48E9-45DE-83A0-97572D33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FE1-E151-4388-BFC5-8A9DE72A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958B-C8F9-45AE-8D77-ED6FC4DE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E080-50E5-4D8B-BD05-DA79A6C1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11B1-5244-4BC6-8B6F-D2CC7EF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591-404A-42FD-BF15-7570025C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0901-F994-4ECC-8938-04C2340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8134-3B69-4F55-ADFA-DD9C1541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9613-F142-42E9-8A47-C4FDC71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268-9D09-437D-9899-4DCBBF6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0C99-15CA-4321-8A88-F71ABA52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D7C2-A021-4972-A244-68170EC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C2A8-D56B-4330-94C5-4383609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1F9B-A91F-49E5-90C2-85F78D4E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022C-F095-45BD-93CB-82CED872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744-6706-4567-B304-A908152C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0020-6841-487D-A0AA-A691A129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B638-1E86-477E-B0B9-EF49932B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F04E-3BD6-48EB-A9F0-5520F524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C40-A701-4711-BE0D-090BDC0B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B796-009A-490E-AAFD-4397E1A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D335-6D26-43F6-87E8-ED4435D6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D2D9-0F9A-4A2E-9456-E624A7C0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CBE3-E42E-4C1F-9CDA-DBA8A71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8168-5BE8-45B7-A2D8-6E2CD4B6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9D41-B4DE-487B-9F35-5E2F9A2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21BF-E636-4110-A548-E2EDB0A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8A18-3A0C-47CD-8618-D7772F74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3EFB-B7FD-48EB-88A2-8AE9871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A9C-B14D-4F1A-AFAF-7F066500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431-2272-4EF5-A932-7987B3A1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158-2F79-44D6-8F13-AEDE57D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E8D-1091-4AD2-84C2-B5B0BB2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F7B-07DD-48F4-A3BA-BAB86F9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F00D-3001-493E-8025-BAE58948B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82C-B690-4C3C-81B5-DFE9644B9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6434-5678-4BB5-8528-598C575F3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It For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ullius C. O'K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It For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It For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It For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It For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s It For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s It For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 It For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 It For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It For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It For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It For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It For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It For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4080" y="648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It For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It For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It For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It For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4:42Z</dcterms:modified>
  <cp:revision>26</cp:revision>
  <dc:subject/>
  <dc:title>Slide 1</dc:title>
</cp:coreProperties>
</file>