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618C-2AB9-4FC7-96EC-04CD6EF76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2BB6-2A2D-443A-9960-D87F3ABDF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2950-9584-45BC-8DA1-9CDDF58B3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57DD-53DD-4BB1-B43B-6D79FDBA7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6C5DA-9198-42ED-9384-1AE0C5D61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91EB9-A3DD-4965-B1DC-39A8778F5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5B854-43B2-43B1-9CFC-6F95468EB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F8818-5650-478E-B25A-B1ADCDCE4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BDF6B-791D-452E-9808-3FC5BC15C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1B27C-1380-4C01-9B20-289FE2EC7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C58C8-EA1D-464A-93F2-6CE6F9530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CA01-35A0-406F-8F47-13C9BF991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5C4D9-976F-4663-A0F6-B29E2AF5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9A11C-339C-450B-A18A-97F7523C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5E6D9-CB71-48D7-8A02-D3124BEEF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0D3B7-B4AB-4166-BEA5-1BCC6B7F1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3A0F9-FE41-42EB-BFEE-FDB58DA7C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2970-C299-405F-B708-E417112E1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CD5CE-9588-4021-9645-5E9CC23BD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FA971-6314-4A70-BAEA-CE5D2AFCF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32618-A150-470C-B3C0-04EA0121F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B8CB-DAD0-479A-8B50-997BC6A22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1F8A0-4630-41E7-B416-9E18ABFA6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25BE1-976C-456F-A4AF-CC7A0B1C1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A21F2-3AD4-45D5-9286-20A3D8FD5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438C2-A365-43DB-AD2B-67FCF7AF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37642-F740-4C3C-88A6-57130A0F0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BF4EE-C36C-4E19-A5E2-50768465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8E6DC-AB2C-467E-92B3-EA00EEACE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936E9-E1D6-486B-824C-55CCA3937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997DF-67EC-42D5-9F78-3CBA785A4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E5F0-B144-48D8-B53D-8C6A8A450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E003-EC02-4DD7-97C5-702DFA969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CA95-E876-4E28-BEBC-05DACA92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C3E8-E0CB-44EF-B2BD-FE1A8CAF2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39F7-EB8E-455F-B405-1ACBFA2DC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A1DEE-35D8-49A7-8C24-10D2A9CE11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86DCE-1D4E-4D6A-A087-6ED0F0C240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8C10D-F5BF-4A5E-B1FD-A9BFD50165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n The Desert Of Sorrow And S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The Water Of Lif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/C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Henry R. Trickett (188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red A. Fillmore (188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9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n The Desert Of Sorrow And Sin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23120" y="6488280"/>
            <a:ext cx="43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n The Desert Of Sorrow And S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n The Desert Of Sorrow And Sin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n The Desert Of Sorrow And Sin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n The Desert Of Sorrow And Sin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n The Desert Of Sorrow And Sin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23120" y="6488280"/>
            <a:ext cx="43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n The Desert Of Sorrow And S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n The Desert Of Sorrow And Sin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n The Desert Of Sorrow And Sin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n The Desert Of Sorrow And Sin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n The Desert Of Sorrow And Sin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23120" y="6488280"/>
            <a:ext cx="43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n The Desert Of Sorrow And S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n The Desert Of Sorrow And Sin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n The Desert Of Sorrow And Sin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n The Desert Of Sorrow And Sin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26:27Z</dcterms:modified>
  <cp:revision>27</cp:revision>
  <dc:subject/>
  <dc:title>Slide 1</dc:title>
</cp:coreProperties>
</file>