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316-20C4-4C4E-B44F-71F5EAC3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18E-27AC-464A-9F6B-850C24FB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966-1DE5-4198-A7AA-5559DF14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603-D96B-4AD4-8A44-A3021BD5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7E6E-42F6-4118-9A8A-CFFBF6EE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051B-A2EE-49EA-B6A4-EFA07A41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8A11-A641-44E7-BA51-53FB0C29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2516-2E9A-42A8-B411-06BF2FB6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162D-B052-428B-AB43-E5877379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EB6C-34E6-442B-88F5-DC51FCC6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8047-E988-4D46-BBE1-96A6B2AD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A2E-AECC-4B08-B09B-CF868FF5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E1E5-1728-4BC0-AD4F-44676B6F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39BC-AA83-48E5-B22C-38AB5F9E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8EA7-EF66-4B08-844D-53275F4A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E798-15E8-41AC-AD96-1207D8F9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6480-D2F9-4078-BE56-6CA30401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3EE-81DB-4A4E-967F-45F54771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69D6E-D48F-4A9A-9D43-08534B71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FE34-653B-4CE7-996D-81A7C8B8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FB3E-198B-4CFB-8F55-70181232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3D9-F212-482F-A673-3123DA30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0675A-34C9-44DF-81F3-F0B08993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7FAF7-61DE-4F71-B5FE-C56BF53F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19AA0-E22C-496F-B9FC-1336293E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4FD81-A988-4B6E-ABA1-A55C2696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0E850-CDD8-431D-B687-1AC8B280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5D2A-E1B1-408D-B151-64458AC6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9031E-E646-4998-8F14-6AF671A9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07D7A-09C9-46EC-9961-6CF469DA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7A514-209D-420E-BBA7-B4C82EFE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35F-968D-4D24-9A07-BE086761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92A-A222-4A46-ACA6-FB46A068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EE5-92D7-4510-8A83-67974D05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9F5-18D9-4B37-991D-B14FB52C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D0F-1E72-4E2F-92A9-C58A4DD2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0F72-B13A-4708-BCC5-2DDC6BF21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678A-122B-4F07-90F3-0D1622C314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181E-FE1F-4911-8213-95FA0DE4A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t Is Good To Sing Your Pra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LAENW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92, Arr. McNaughter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P. Rowlands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t Is Good To Sing Your Praise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t Is Good To Sing Your Prais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200" y="6488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t Is Good To Sing Your Pra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t Is Good To Sing Your Prais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t Is Good To Sing Your Prais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t Is Good To Sing Your Praise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24200" y="6488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t Is Good To Sing Your Pra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t Is Good To Sing Your Praise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t Is Good To Sing Your Praise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t Is Good To Sing Your Praise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4200" y="6488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t Is Good To Sing Your Pra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t Is Good To Sing Your Praise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7:14Z</dcterms:modified>
  <cp:revision>31</cp:revision>
  <dc:subject/>
  <dc:title>Slide 1</dc:title>
</cp:coreProperties>
</file>