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DE8-A9AB-41FA-968F-2322E7B7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362-EA19-40C7-81C3-92720D3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D11-7B8B-449E-BDA1-CDA408B9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292-CA5C-45ED-AFD8-3F452EDF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436E-CCE4-43E4-879A-2FA97CCE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D18-45B4-413D-A53B-29C91B8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0BBE-F68D-4F4B-A9DF-16EF3426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D2F5-DB29-41EC-AFD3-D98A569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C8F-E96A-407F-8FB3-8C93C5D6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6AFA-7639-4937-9233-480B477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6E66-1BD5-4166-B879-DD7826D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EB3-34C4-4995-A11E-E771491A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11EC-65F4-4C1D-9682-59CD170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A41-760B-4577-A3BE-CB580FE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8DE-B679-4D84-B82A-9E8AF95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96CE-3377-4171-BA30-2D4520C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201-3BF4-4B44-B98E-C5FCC2C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515-533A-49D6-9DAB-2E45EE9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713E-1CD4-4189-8D1E-633A1D36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7E82-64CC-4B22-BB8B-CDF358A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186C-790B-4936-A24E-A39DC415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BC1-63EE-43B6-8B5B-46B128C7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13C7-E3DE-42F2-ABAB-0891265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1029-943B-4F73-ACCF-3E2969B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CFBA-5335-4C1F-8F12-D748F692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615C-BD51-4C44-AF4C-BF182FD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EBDF-8951-48C4-AEF1-BB5D0CA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666A-157A-4A02-A572-5646A21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7ABD-0393-4B39-9A7D-49C9C18E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A806-12DC-4AF8-9E0B-0C9F9795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143F-F97A-48C2-BE2B-C753CAA3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190-94E4-4716-B6E3-3BF42C5C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2A4-77D3-402E-927F-DBC27F7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17A-677D-4E6C-B602-53BFD50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AE0-256E-4CF0-A464-5C213AD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F45-91FD-4ABD-84C9-2B4FE5AE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C92-0866-4ED8-B4AC-616F4856C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72D0-CBF1-44E4-BA40-4A5D6FE8F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8F7A-13B2-4DAC-BA7A-991D01A6E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So G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So Gl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So Gl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So Gl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So Gl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So Gla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So Gla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So Gla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So Gla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 Am So Gla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 Am So Gla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So Gla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So G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 Am So Gla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 Am So Gla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I Am So Gla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 Am So Gla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 Am So Gla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 Am So Gla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So Gl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So Gl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So Gl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So Gla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So Gla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So Gla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So Gla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1:08Z</dcterms:modified>
  <cp:revision>31</cp:revision>
  <dc:subject/>
  <dc:title>Slide 1</dc:title>
</cp:coreProperties>
</file>