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EEC8-C9FA-4446-BBA3-3F25C6F0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CB49-57FE-409F-B456-58CAA8A1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5A4B-F263-4C4B-A24B-71DE0E65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D16F-82B2-42BB-B937-4CF1F5E6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4AA0-E470-41EF-82FC-672ACAA9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D2EB-B516-428C-9781-F87D9798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C4E3-4B14-4AF0-88B8-9F4C61E1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1005-3D36-45AD-A86B-429BC15E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7B6B-BB5E-4891-A84C-1B2E8D5D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6C92-690D-4E65-947E-DF9E122A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A3AD-8BF1-4F05-8CA4-73E4831F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245B-A455-47F0-877B-2739422B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A455-773D-43A9-A393-EB5CFE64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F762-1FEB-4BBC-8F6B-222365B7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A9CA-F264-4A7D-8895-8495E6E5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057E-A2C6-4F0D-98D5-7EFC72CA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4CDF-4A4D-4ADD-BD60-10FEB409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2B1D-B8D0-4D8A-A446-FEA398A8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35F31-2E7C-42F3-A823-9B4E1CBD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557DE-731E-463A-8506-8C499B8A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8E2D2-D7D4-4037-A3A5-5CEA289A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4FD2-7768-4285-B5F3-1D30A0D8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71749-2DCD-4D35-B77F-BB928B4A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30021-B10B-432F-A9B4-E975FF41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32306-571F-4178-B5DC-EE412146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CF26F-1CC7-4AF8-A919-72F0A513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6092E-8177-4CAF-A22C-13DB1287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0E4E3-AE9C-44F7-ACAE-8FB5E15A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87FFA-D7F5-40E5-8304-14E0027C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09127-B882-4128-AF5C-8A802AAB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E66C0-76ED-49AC-B291-D2031737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6456-A315-4F93-9147-2AB8FCE4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7E71-F9E9-48CF-94BF-39296380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A90A-39FC-4686-902E-5401F400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735E-3DC7-428D-BBEF-F3258D8C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BC5D-95F6-4A32-8C5A-CA297926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5FAA-E406-45F9-A86F-96F53C37A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F3FC-DD69-41AB-AEE3-CE70591F8B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AD8D-3BD1-421C-8E6C-BCE86C09A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Sing The Mighty Power Of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ELLACOM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6160" y="4902120"/>
            <a:ext cx="134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saac Watts (17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sangbuch der Herogl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, Württemberg (1784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ar. by William H. Monk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Sing The Mighty Power Of Go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1240" y="6488280"/>
            <a:ext cx="43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Sing The Mighty Power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Sing The Mighty Power Of Go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Sing The Mighty Power Of Go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Sing The Mighty Power Of Go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Sing The Mighty Power Of G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1240" y="6488280"/>
            <a:ext cx="43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Sing The Mighty Power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Sing The Mighty Power Of Go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Sing The Mighty Power Of Go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Sing The Mighty Power Of Go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Sing The Mighty Power Of G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1240" y="6488280"/>
            <a:ext cx="43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Sing The Mighty Power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Sing The Mighty Power Of Go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Sing The Mighty Power Of Go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Sing The Mighty Power Of Go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0:48Z</dcterms:modified>
  <cp:revision>14</cp:revision>
  <dc:subject/>
  <dc:title>Slide 1</dc:title>
</cp:coreProperties>
</file>