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E0D-D604-4F88-91AD-157EB072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15C-7EBD-4214-BF64-1B25A149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A8B-ABDD-4D5E-B73C-0860DF78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965-D340-411E-9D31-6E79F5F3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0BFB-D9F8-427F-9321-F3B62A53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9114-91E6-4A5B-B31B-930EA8ED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4415-FBC0-4D44-B2E0-0910540E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02E1-34FD-4ECE-819F-319A018B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4E21-D803-4E63-A5FE-92EA7CC8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A8E7-9698-42E4-999D-40FD2E61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6437-B942-4FBF-911D-D8001241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C2A-4FD8-4715-B3A4-362DB5DD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5271-EED9-4026-A68C-44BD5BE0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0E0E-61C2-4A7F-B3A8-72436052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34C4-EB7F-440B-A472-52750AAF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53EC-8255-4AB3-B580-C44D26FB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3153-A1F5-4CCB-9807-924E020F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E25-B7DD-4069-B7FB-D220BED8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955B-09AC-4D00-897E-033E0A98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6FE9F-3EC6-4523-9987-C36ACCFC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B2BD9-6FBB-43E9-8DBE-903C65ED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309-3EBF-4E64-8C83-F2B58802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6C20-3B51-4D2F-A371-F9FED043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293B-A2CA-44E0-B0B4-BBFD05E2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4977-6166-471A-81C7-5D6D4DA9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3044-03B4-401B-8075-764DCCD4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B304-8A78-4BF0-A98E-A1813B14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BEC6-3788-4411-9178-16667876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B5DA-7DE2-4A62-9B2B-C06EB01C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08623-2D83-4333-A648-8AEE5F63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015EF-82C9-471E-8412-956AB29C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E6E-8097-4D96-B5EA-6403BE51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F48-71B0-4BAE-BE6E-E6D28819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529-CFC9-4C8A-9495-72992FA8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258-913C-43CE-908F-F8798550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D3C-B042-41E0-9951-C776E005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1A33-5443-4E26-A801-32655379B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CAC7-4590-402F-92D4-7A4105973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4CA9-5A68-4A51-BADF-D4CE17C61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Service Of My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o The Harvest Fiel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ie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ie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Service Of My K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240" y="64882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Service Of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Service Of My K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Service Of My K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Service Of My K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Service Of My King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1240" y="64882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n The Service Of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Service Of My King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Service Of My King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 The Service Of My King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Service Of My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240" y="64882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Service Of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Service Of My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Service Of My K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Service Of My K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Service Of My K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240" y="64882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Service Of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Service Of My K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Service Of My K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Service Of My K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2:31Z</dcterms:modified>
  <cp:revision>32</cp:revision>
  <dc:subject/>
  <dc:title>Slide 1</dc:title>
</cp:coreProperties>
</file>