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961-6F2E-45FF-B729-28C89709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A29-AC8A-412A-B1E8-EEF4682C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F3B-75A0-4A73-B22E-5712F23F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E84-AA13-4599-B894-CA530344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D74E-825C-41F8-BC1D-5158BADB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866D-68F3-428B-84BD-277FB6D3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EB5B-BEE9-45C1-B574-1801C355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8102-1EC1-44EC-AC14-7660B394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860F-9331-4FE4-85D4-33A272C9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F827-61DF-439C-AB5E-82E22813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9F0A-2EB8-4BD5-8624-2F7CF3A0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F93-DEB0-4910-872A-92C55BB2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950B-FCED-48D0-83C4-81740B6E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6C8C-8CF6-47E7-83B1-BB284395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AFD6-EE36-453A-9073-4FA9E12D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3564-54E2-49A7-A09E-7D540D90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D8DB-D98B-487A-A458-43431CDA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F1D-9745-40CA-9AFE-337FD561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95EB4-70E6-4749-A179-BE91CE0A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9AA5-D655-4C9F-9579-92CBB1E3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358A4-0B19-4D85-B1D8-E9EF4B77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03B-8A9A-4135-9B1F-2AE15E4B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5D223-EA58-42A6-BA06-D48AECA0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05B4B-9656-4F3F-8A59-2B5564FF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6F8C8-DA5F-45C9-95F6-96841F47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A4540-4DE1-4177-BFA3-25AD0909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91744-3F76-4C5A-9859-B445B9F2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E5F5C-53E0-411C-BB22-95E0B81A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41433-A8C6-460A-914F-6C1E50B0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025EB-3E3C-47F9-AC83-862C2D6A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4D39F-3DFD-4A5C-AD38-18E6259D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94A-632F-44E3-8BD6-D41AC376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DE3-054D-41F2-9C1D-AEE139B7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742-E6D3-4337-9661-DAB2D197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E13-38F0-4DCD-8DD3-F8A0DB2B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98F-F73A-4B5E-BA64-F4404C6D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F934-61FB-475F-9733-FCAE3F716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50DA-10A2-4AF4-A454-30511B9789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E9B1-67B8-4636-A2E2-5AAE82968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Gethsemane A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E. Reed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E. Reed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Gethsemane Alon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632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Gethseman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Gethsemane Alon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Gethsemane Alon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Gethsemane Alon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Gethsemane Alo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632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Gethseman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Gethsemane Alo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Gethsemane Alo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Gethsemane Alo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Gethsemane Alo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632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Gethseman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Gethsemane Alo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Gethsemane Alo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Gethsemane Alo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4:07Z</dcterms:modified>
  <cp:revision>32</cp:revision>
  <dc:subject/>
  <dc:title>Slide 1</dc:title>
</cp:coreProperties>
</file>