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BF4-3F76-45CF-877D-EC4EBBAC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26C-6E03-4065-B915-662A5F55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DE6-E879-4A64-8AA8-635616A1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760-D497-4DFF-ADBE-AFCD859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BFC-B6A6-4CC9-A15A-2382727D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6B42-A675-4CDB-90A8-D7CB408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7D3-1845-4F3A-8C04-DED7047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67E5-71B4-4E7A-92A8-E0E234A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DE83-520B-46C7-9AD9-3601D43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7A26-EB11-48E0-AFC0-B9CB08E5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396-4149-4A80-8087-4EC76A59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A70-44AC-4404-8C96-D522B1A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A28-1DEE-40C3-B89D-C937F3C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CD71-2A39-48EC-A272-201A5BB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326C-23DC-41EC-9FAB-C188C6BA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01C-0937-402B-B2B4-91D393DB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E8D4-F829-4926-9C72-727DA7C8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2B4-C175-4885-9AF0-5C31AD3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563C-2E46-4C1B-B5F0-BCED24D6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4310-21BB-4D5D-B63A-B81EAA8C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5280-181D-4BBF-B037-EE48B5F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652-B875-4B7E-AD2C-691AFAE8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F664-93B0-41AA-88D6-8807E76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B329-1FDF-470B-8EBF-66AED40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4AE3-73EA-4325-97BB-57E7959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1732-C04B-4837-9CF9-0A2A518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71CF-27FA-43C7-87C4-9280B8E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A03B-4A44-434B-BF5C-770B518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D756-8F05-422F-9EAD-BA1C316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141D-778D-433C-B63A-D1B4FF98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F9C5-AFCA-4987-A376-DAB46680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AF7-DEFA-4EBF-B337-CDFB199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DC2-CEC1-4E34-A4A6-F93B8E4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719-A03B-445B-A6E0-2071A0B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7E4-302C-402B-A40D-87175555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A0A-E9A6-4970-8B3A-71C176C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9B2-E760-445A-8529-3B9A73BFE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4084-7B33-432F-8002-A5893CFE4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8F18-BD7B-4116-89D5-F712906F3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e Lord Will Find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d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e Lord Will Find A Way For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e Lord Will Find A Way For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e Lord Will Find A Way For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e Lord Will Find A Way For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e Lord Will Find A Way For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440" y="64882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e Lord Will Find A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e Lord Will Find A Way For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7:20Z</dcterms:modified>
  <cp:revision>31</cp:revision>
  <dc:subject/>
  <dc:title>Slide 1</dc:title>
</cp:coreProperties>
</file>