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029-5EBF-4633-92DD-60138CF7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F20D-B99C-4B7F-A011-A95C6194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5D23-C884-415B-B7D9-7044C971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867B-228A-4AEF-9C5D-2510DEA8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442E-3B5D-4838-A3B4-0A7117E2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5C7D-E447-4ABA-843A-FE3F076F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51C7-CB6F-4CCD-9694-EEAC5EB1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5A79-9BF0-4392-8EEA-B2A81A35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40C1-A861-46B7-B018-13F76B15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1D94-9D54-40F4-A8DC-3226E654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A5E4-F5CF-4494-BA5C-FAD0EBCD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60C1-073F-467A-8717-09EA1CCF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DC0B-8F47-4AFE-8A71-AB3FCE9B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2F1B-8AF5-4362-B91C-DD6D028F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1674-3DD9-4578-899A-AC13AEE6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ADBE-DBE3-4B9A-810C-5BF95DFF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0E87-577C-496B-AB3D-431B211E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45F8-0DB7-426B-9384-59A0FBED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6AB33-8C84-4038-8309-246CCD2E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5FE03-C117-4457-92A7-05AADA63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B7BF9-D737-4FA2-8D96-6F2EFDB2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EE1-CBB2-4A30-A3E5-E756E220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5D5ED-20A3-4791-8BDA-E7C26D47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0004E-C3E4-4B8A-B7CF-52D95CE4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77E0C-55A9-4412-9BB9-32D4AFBA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D44D5-82F8-48C1-AE4D-9FF2AD19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A524A-D359-4F29-AA0A-C1950862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05123-A501-413A-8F9B-860A34DB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6A53D-9CDB-45F8-8B18-D947FC26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F0E32-FB34-4CB8-B585-1B5FBBDC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C469A-DD60-499E-AA43-ED290D3A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2125-EAFE-46E8-99B2-6C95BD2C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511D-88E2-4FFE-B77B-1C1C33EC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EA04-F786-43D6-912F-027D41F6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517-65D6-4E16-8E9A-EEF867C7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CD0A-5AC0-4619-BFB7-09674E3B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31B2-E6A2-4A0E-8472-D62A7954F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2417-0243-424D-9AF0-17EBDA5497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E454-4415-4292-B34E-E829E8438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Must Tell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A. Hoffman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A. Hoffman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6480" y="648828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Must Tell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Must Tell Jesus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Must Tell Jesus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Must Tell Jesus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Must Tell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6480" y="648828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Must Tell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Must Tell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Must Tell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Must Tell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Must Tell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6480" y="648828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Must Tell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Must Tell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Must Tell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Must Tell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10:08Z</dcterms:modified>
  <cp:revision>30</cp:revision>
  <dc:subject/>
  <dc:title>Slide 1</dc:title>
</cp:coreProperties>
</file>