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EC7C-FD16-4E87-A7C6-1C4E8AF2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1DE5-31E9-4CE4-9884-1F55C492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DAF1-2C32-4BFC-80C2-3EF9A7497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9CEA-9F56-46BA-99B3-5D38C8F0B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7951-584F-4360-8DC1-4C9E1A006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7D25-AB34-49B9-922F-F68A9E12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2015-C8A1-42A8-A92F-2273672F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FD76-534C-460D-BA33-24825191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22B1-86C2-4A09-ABB9-DDA1F0C7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C4C4-73D3-4518-8C5B-2D49206E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2F76-6890-4BDE-AD30-ACF0084E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0026-5E84-45AE-A2A6-9921A468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DE3F-F275-4612-A10A-E3B8F32F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B11B-20B4-44CD-8BE2-CF8BCF41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A268-A711-4661-8C44-5C21D459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F10A-8289-4E0E-843D-B114D2DA5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BEA4-6B82-4A19-A047-9211D397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35F4-EFEC-490C-B83F-6C7E6559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32953-C295-4A6D-B8D9-30DDE916E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06CD5-0C34-4C98-A788-EFD4DFD3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9AF31-3EDD-4300-BCE6-A9D1922D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80F0-B0D2-493B-989E-CB6671CF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B7315-6ACA-45F1-BFE8-D4CCE943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55C82-3ABC-4A6D-BB4F-73824239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D6009-1110-4CF3-9D82-C3495FD1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AC50D-DC3F-4858-B5D3-5A9C42AC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386B0-BD6C-45EF-86EE-D27914BF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6D3DE-6353-41F9-9198-875DEE66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0A1B1-8AA9-4D9F-8B2B-6EF532D9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02E26-7BB4-4F9F-A792-127DCD5AD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AD10A-4439-4B9D-8938-3C4467FF2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80D5-9D8E-4659-A647-CD4F3A31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7279-2A1D-424D-9CCB-475C3324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A3D3-B4FE-4764-90FC-64A65D49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576B-A460-4CAC-8358-67C6CD1D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0DC5-A969-405A-9DAB-EA223A38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B864-A2D5-4F77-B09A-9B807957D8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40BD-1BA5-4D09-A66C-7A3749806C4C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A1AF-D5DF-4361-8F81-BFA742AE2F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I Am A Poor Wayfaring Stra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Poor Wayfaring Stran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102600" y="4902120"/>
            <a:ext cx="174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m (F)/D -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Bever’s </a:t>
                      </a:r>
                      <a:r>
                        <a:rPr b="1" i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ristian Songster 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858),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Vs. 2&amp;3 Taylor’s </a:t>
                      </a:r>
                      <a:r>
                        <a:rPr b="1" i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evival Hymns &amp; Plantation Melodies 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8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illman’s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evival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(1891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4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 Am a Poor Wayfaring Stranger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7920" y="6488280"/>
            <a:ext cx="43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I Am A Poor Wayfaring Str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 Am a Poor Wayfaring Stranger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 Am a Poor Wayfaring Stranger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 Am a Poor Wayfaring Stranger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I Am a Poor Wayfaring Strange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7920" y="6488280"/>
            <a:ext cx="43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I Am A Poor Wayfaring Str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 Am a Poor Wayfaring Strange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I Am a Poor Wayfaring Stranger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 Am a Poor Wayfaring Stranger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 Am a Poor Wayfaring Strange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7920" y="6488280"/>
            <a:ext cx="43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I Am A Poor Wayfaring Str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 Am a Poor Wayfaring Strange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 Am a Poor Wayfaring Stranger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I Am a Poor Wayfaring Stranger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1T19:35:41Z</dcterms:modified>
  <cp:revision>24</cp:revision>
  <dc:subject/>
  <dc:title>Slide 1</dc:title>
</cp:coreProperties>
</file>