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B47E9-ED7C-4E48-A543-78C88BC59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80B9F-B53B-42F0-9B0A-C3E2055DF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0A177-428C-4F8C-94BB-09AF19563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1B8FD-ECDF-423D-8116-396DE6C3B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49902-5C43-450C-91E7-D587BF9CA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13AF4-3344-451C-857A-214C24612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246AF-D991-47AB-9A74-DF53D8310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E90B9-29AE-430C-A151-F6A79BDA9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CBCFA-7847-4763-B3DB-695682406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5F9F0-67D9-40F2-9814-0FD1F71F6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AD5E8-8451-4F18-AA4E-2F9AC414D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363D4-32F9-4A5C-B971-BF64066D6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F38F5-3A40-4EBC-AB72-1A80A83F8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54E10-D1BA-4ED1-9448-F17703140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78E1B-58EB-466A-9132-B9FEE31A5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C5EB0-A097-47C3-8464-BFB5C51F2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D085C-2DB0-4B58-A7E6-B689074EF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9C6A9-8A5B-4DE0-9EED-07B046C4F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31612C-9C79-4577-896B-AD57908F2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03212C-CE51-4451-AFA0-C367634F7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B8562C-10C9-44BA-A2D6-A852E8BC4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EB70C-DCAC-457B-BE07-595103F96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2B6BB5-3232-45C4-9DC9-5C899B2B8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D83E6D-61C3-4219-B51D-3277A105B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900344-4A20-4AC0-875A-BF0AB8595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24ADAF-296B-4DB4-9FDA-069FCC9CB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9F3A2E-A688-4DAE-87F5-AB8185117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EAE8C1-809E-4273-AB82-5599DDA1B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3700F7-D273-4DBC-8C9A-E7D7E5A99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0351A6-F9F6-4AEE-948E-E1180F74E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6AA154-CA86-414D-A42D-A0D78CA3B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B9E6C-1058-473D-9483-E5EFBC0A5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A7BCE-2117-4225-9616-9346BE9BD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7E1D3-019A-4E40-AD1D-9E5B20B8E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3FE0C-A15E-4DB3-8D4B-F3DDAC019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FCC00-9D6E-46D4-9CF0-DA8879128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165D4-BB8E-43BA-AD64-E4F35DDA33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F700A-EE7E-4638-8C99-6764A8F42DF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D631A-875D-430B-9C52-3D9B831AD3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I Love To Tell The S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A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E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56528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82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Catherine Hankey (1866)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Chorus by William G. Fischer (186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1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illiam G. Fischer (186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8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16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I Love To Tell The Story_v2o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I Love To Tell The Story_v2o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I Love To Tell The Story_v2o3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I Love To Tell The Story_v2o30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I Love To Tell The Story_v3o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5"/>
          <p:cNvSpPr/>
          <p:nvPr/>
        </p:nvSpPr>
        <p:spPr>
          <a:xfrm>
            <a:off x="126360" y="6488280"/>
            <a:ext cx="338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I Love To Tell The S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I Love To Tell The Story_v3o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I Love To Tell The Story_v3o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I Love To Tell The Story_v3o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2" descr="I Love To Tell The Story_v3o3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2" descr="I Love To Tell The Story_v3o30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3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204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I Love To Tell The Story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26360" y="6488280"/>
            <a:ext cx="338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I Love To Tell The S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I Love To Tell The Story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I Love To Tell The Story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I Love To Tell The Story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I Love To Tell The Story_v1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I Love To Tell The Story_v10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I Love To Tell The Story_v2o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126360" y="6488280"/>
            <a:ext cx="338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I Love To Tell The S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I Love To Tell The Story_v2o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1T18:09:04Z</dcterms:modified>
  <cp:revision>32</cp:revision>
  <dc:subject/>
  <dc:title>Slide 1</dc:title>
</cp:coreProperties>
</file>