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850-DFB4-4DAF-B12C-B472EB8D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C8E-CC48-4E7F-9993-DDD2B9E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9D4-F93A-4295-B023-90891960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78C-6401-4780-87BA-C8CAA12B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7AE5-ED5E-4A70-A0EE-87A9685A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685-7703-40B3-A147-72040EE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CCF-0024-4B02-A122-B77489FC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B2E-C6B0-4BFD-9CA8-E1088CA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51A-BCB4-417B-A6B9-9017923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959-FF47-4CE1-A6D8-D38D8F38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DF37-9040-42A4-82AB-B45EAD3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DBF-5E13-474C-8247-65662EF5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F97-A6E2-4C72-ABBC-5DCE3DB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E2D-770C-483C-AB65-A17F71E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3D68-B4E8-466B-9573-9F8B4164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800F-3E70-449D-B6F3-4DD16C6C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F4F1-014B-4428-906F-6CC7156E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BCC-0198-4D6B-894F-D4A67916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DEEE-D6BF-432F-829E-B2863751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408D-BD9C-4C0E-A65B-F5AEDBE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C88E-8257-40F6-B654-4A30011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2FE-8B1D-4B7D-9E3F-BC8BF21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FB3C-2C97-44EE-AA43-CC0756F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AA13-8C86-41D6-A8E9-A0DC2C6D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44CC-2A96-4115-97C0-F3DE6BF4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420E-8FE2-4F4D-947B-32B9448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CC46-B0AA-43D7-87B3-0F4E718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DA10-4A5E-477C-B5F5-DAFF042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AA27-B57B-4E05-A25D-EEF1F34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6E52-165B-4FF5-81CE-8AF6B6CB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98C2-BB0B-4081-901E-FEAD828B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8D8-9A8E-4C84-B710-66F99903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2CB-20B5-49AC-A58F-C403E7A8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7B6-7FD1-4633-A876-94AE900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0F1-F618-40CC-8EA1-C35FC97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51C-39B6-4938-ACBC-EC2E063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FE5-2613-4C2B-9E5C-E7A9CA8E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1B92-6BA9-43D4-AF26-2578FF2ED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6E9-9360-4F01-BD9F-43DCF1580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Love Thy Kingdom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AL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mothy Dwight (18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Love Thy Kingdom Lor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Love Thy Kingdom Lor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Love Thy Kingdom Lor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Love Thy Kingdom Lor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Love Thy Kingdom Lo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Love Thy Kingdom Lo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Love Thy Kingdom Lor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Love Thy Kingdom Lor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Love Thy Kingdom Lor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nn-NO" sz="1800" spc="-1" strike="noStrike">
                <a:solidFill>
                  <a:srgbClr val="000000"/>
                </a:solidFill>
                <a:latin typeface="Lucida Sans"/>
                <a:ea typeface="Arial"/>
              </a:rPr>
              <a:t>I Love Thy Kingdom,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Love Thy Kingdom Lor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Love Thy Kingdom Lor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Love Thy Kingdom Lor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8:26Z</dcterms:modified>
  <cp:revision>31</cp:revision>
  <dc:subject/>
  <dc:title>Slide 1</dc:title>
</cp:coreProperties>
</file>