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6F6-3407-4E05-AFB6-E39A0ED5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5CC-51F6-41FD-9B80-F037C767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5CB-6F76-40FD-9CB4-AF07FBAF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867-F230-410A-82E4-C8FE96FB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032F-2687-42EA-822B-E497C04B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7978-A094-46F7-8A46-31072CFD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C22-0667-488B-A9F4-D7D16808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92E6-4473-4EFB-96D8-02FD6B0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FE93-E100-4637-B0D8-6DF5F982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0CE5-4421-4D09-BFCA-F85FB588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EE82-B417-435F-91DF-AACE1D8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BC1-5442-485C-9FB5-11DFE9B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58F0-0676-4DC0-97C2-E3F91FC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88EB-CEDF-48BE-AF08-F27D4A28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2166-B86B-4071-8460-B2B197F2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C007-2CD8-4696-9B1A-905628FC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DCC-207E-4D5D-B8F4-E7265323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A36-0DB8-4BAC-9689-68B836DC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430D-F737-4CAA-AE0D-B4FAA42C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A8A9-2311-4F68-A341-36E4BC7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4A97-3060-46F2-B0B5-21A9B9B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80F-5F67-470D-9E6A-B09A9B39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5DCD-F9BA-45DD-A614-E22D0A7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E0B9-F1C0-4F52-B084-5491F5AD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72E3-7E3F-4EA8-8A4C-A7648B8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C29E-50E6-4FA7-B3A6-3381A3A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6DDD-7A3E-4AC1-A9C6-A32291A8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3214-071A-48B0-95DA-5C93678E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4860-3B51-44A6-8C0F-912AFF1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29A4-88E2-4FCC-80CB-72F22E02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555B-34C5-4EDB-A78A-D8F35E4B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C2E-FA9C-4CF4-A709-5B3276B6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7C2-E989-420F-AE38-293F8C44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303-D44C-4BC0-A73C-C96B472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F4F-FA94-4A4E-A208-E85385E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862-E460-4FB8-854C-6B941C8C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3A0F-10F7-4021-9EDB-489E2A7A2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2E48-ECF1-475A-BFA7-AA3935ABA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B22-9AA4-4962-8831-11261D25A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Pays To Serv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C. Husto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C. Husto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Pays To Serve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t Pays To Serve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t Pays To Serve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t Pays To Serve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Pays To Serve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Pays To Serve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Pays To Serve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Pays To Serve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Pays To Serve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000" y="64882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Pays To Ser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Pays To Serve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 Pays To Serve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Pays To Serve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8:58Z</dcterms:modified>
  <cp:revision>31</cp:revision>
  <dc:subject/>
  <dc:title>Slide 1</dc:title>
</cp:coreProperties>
</file>