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7C3-4A6E-481B-B1D2-F8038BA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379-15CC-4B37-9F7E-3CEBD524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4D1-27E5-4991-9B65-84683EB6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C6A-9FB8-4FA3-90D6-45B9E30E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5664-E7B7-481E-BDC9-FDDFB553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D967-E3E9-45FA-BA06-22978D6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A36-54E9-431C-AD7F-D35BC490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C06-0D0B-49E8-9367-42DD1149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66A-DC38-4173-A84E-42B0BE7B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276-55A0-40F5-9882-E2B4D84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0632-4BE5-4959-86C1-65EF9D7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769-5FC2-46A0-B8C8-711613A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416-2CFF-4CC8-8B8F-DB03BD3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AB1-41AD-4067-BE1B-91440B03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9F49-27FE-483F-B2F4-872A637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32AB-667A-413A-A164-D1DCFE15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1821-0D3D-46DD-BBFD-1AC64E7D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D81-1639-4C9F-938E-B516F30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574B-2E1F-41AC-96D5-BE64D59A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9FD5-242F-432F-A227-301869F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761E-D62C-4FF3-A1B6-C652FFEA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81C-8373-4350-BF46-0E7C1AF0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E8BE-4490-4FF1-A821-B5B3BDF7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5C34-EDE8-46C4-816A-563C096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A7B2-7681-49B5-AA21-C779A17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09ED-C17F-4217-BED9-A333BBD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87A4-1876-46FA-AC41-AA86C30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2343-F8D9-4C95-994D-F4D786A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19EC-FBF5-4EDF-BEEB-895281C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9643-C5AC-40D0-B1FD-1FFDC91F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2A91-A727-483B-9481-CC903223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74E-C79D-49B3-9C4F-ABFAAD1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8BC-47C8-49E4-A657-CDC1CC9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11F-B187-45D3-AC0B-605C5BB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0ED-E236-486F-94AC-A421082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7AF-162E-428C-93E5-3156CCD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642-91D3-4720-942D-E0A8BD164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CA7-2B18-4753-B50D-D00B53A7F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806B-0A62-4FED-9536-131084922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ill P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Ever Will I Pr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Cumming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arrison Tenn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ill Pray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ill Pra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ill Pra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ill Pray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ill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ill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ill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ill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ill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ill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ill Pra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868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ill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ill Pra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50Z</dcterms:modified>
  <cp:revision>27</cp:revision>
  <dc:subject/>
  <dc:title>Slide 1</dc:title>
</cp:coreProperties>
</file>