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577-A0EA-498F-918D-E6BECB49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74C-E652-49A1-8D9C-FC4F2B5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8C3-9110-47A5-AE5E-AAF13970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8C1-EE4C-4B37-B18B-32FB76DB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CAB0-6222-48DA-9C07-D046D6AB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5652-F08E-43F9-ACED-1A99361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8842-75FF-446A-8A8A-D0374201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99FE-47DB-46FB-8684-63636BDF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A896-8C98-49ED-BB44-2A015F65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3EB9-DB93-4BB9-AA76-DCC210EA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9094-3457-40EE-9E6D-C93C9A3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E5D-F2F2-4662-B916-3EDA0182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C2BA-08B0-4615-BB40-6431FC1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C749-94F5-4ADF-B7C8-03CC5FEF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4FEA-3B94-4466-AAD6-978943B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2319-1FD6-4ABF-97B9-E6143663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044-776D-4C5F-A4B1-E3922019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29F-2690-4DC4-81D0-3E628D27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EBA7-BCF7-4BFA-A11C-C6A39836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1DEC-53C9-41C7-A731-638680FD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C9FD-771E-435B-9F5F-352C88B3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352-C840-4400-87A1-6658EAE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17DE-5821-48E2-9CE0-EA280245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4090-E246-494D-AF49-BB21C3AA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1E44-73C8-42B9-8A98-F3EE4FD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7AE4-D20E-4BB8-9F7E-4F02545E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FF12-DD97-44B1-A32F-A6B4C07F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79E1-562E-41EC-AB83-A504DB2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D027-3234-4257-B041-A97CFBB6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BE58-CB33-41D8-9C2F-FE17EC7E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80E7-D681-46EC-B3B0-77CA2437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C07-28F1-4CA3-900F-A63835D2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2CE-3B7B-4E18-8CA9-BE349D1B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2AD-554C-4AEB-BF30-446E67C9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0F8-6634-4D99-86B3-76E57C6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843-B73A-4054-92D9-09CD762A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7F80-6C6A-44B4-9E8B-289C21DCA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DBD-2E34-4727-A008-812DD5018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7497-8D48-40E8-8A5E-58A89B8E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The Wondrou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H. Rowley (1886), Arr. Ira D. Snakey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eter P. Bilhorn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4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Sing the Wondrous Story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Sing the Wondrous Story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Sing the Wondrous Story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the Wondrous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the Wondrous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the Wondrous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the Wondrous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the Wondrous S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Sing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the Wondrous S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Sing the Wondrous S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Sing the Wondrous S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7:34Z</dcterms:modified>
  <cp:revision>32</cp:revision>
  <dc:subject/>
  <dc:title>Slide 1</dc:title>
</cp:coreProperties>
</file>