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228-4308-49B9-B833-589449BD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5AF-3BC1-481E-AB95-ED019850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A36-A02C-4D57-9936-881F772B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8B6-7EE3-4CD9-8EA1-70F4D924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AADF-1080-46A8-8222-42092C1C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2BA3-E8BF-49B8-A6F9-6056C6F4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99BA-E8D4-498A-88B3-34FA1111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7E2F-FF87-4877-A6A5-DB2D7799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6568-24F4-4B55-9CD8-9220C06F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7349-03FE-4FE7-A162-B14CDEED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4211-B6E1-40AD-A913-E7E26F3A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B5B-39AC-48F9-ADBE-E27E8B8C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C967-A73B-4BFB-A4D1-F828283C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DE8C-6DA8-44BA-9A30-E7AB4E5B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1481-CD52-4993-8408-11172920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7221-C020-4335-B1F2-771DC9DC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A096-6730-47C3-82AE-799951FC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6910-3FAC-45C6-AB75-812E0C3F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D41D7-2D8B-48DF-AC92-C5A4FD9F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6FE4-4B69-49AB-8B48-DB312079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AA3A1-EB68-40EE-B533-84097625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4F2-3C27-4A17-89E6-E2BF5F49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8B8EF-7766-456C-96D1-3280087E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88710-F509-4F28-B0A2-DE2B7C10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832E-43CB-473B-A76C-B4E3ADB2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061D4-4F9C-489D-94CE-C85CD413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C6987-F6B7-4A16-A5E5-38874717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D5FB-C740-4B6C-B6BF-CBB22AFC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43F4B-2E92-477E-AF4F-90B42CE1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48A63-7A31-4FA8-A735-02F6D10F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BA553-5448-4010-AFA0-0D36A73C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09D-8478-42EB-8FEE-BFEC7E45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8CD-601E-483D-BBFE-57C356FF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C61-3C72-488A-8195-815BE16E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396-9A11-425C-955F-EF096269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BEA-271D-4EC5-AD0E-3949DDCC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3719-01B4-48EE-A7E8-FC45FCFCE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981D-F4D0-45C8-83CF-C4FAD0DDB8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8CE3-0311-48E6-A2A4-3340A3DBC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’ll Be Satis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en My Soul Is Sin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Pann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N. Pann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ll Be Satisfie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4320" y="648828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’ll Be Satis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ll Be Satisfie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ll Be Satisfie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ll Be Satisfie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ll Be Satisfi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’ll Be Satis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l Be Satisfi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ll Be Satisfi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ll Be Satisfi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l Be Satisfi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4320" y="648828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’ll Be Satis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l Be Satisfi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ll Be Satisfi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ll Be Satisfi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1:11Z</dcterms:modified>
  <cp:revision>32</cp:revision>
  <dc:subject/>
  <dc:title>Slide 1</dc:title>
</cp:coreProperties>
</file>