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EB2-16A5-41AC-8332-82DD00FD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ADE-B12A-47A7-918E-816EBDDB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790-A70F-4791-A8A1-2B86F20F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3C8-B450-48F4-98D8-17E52A8D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2DAE-2E42-46C3-8F78-1C44D888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0335-D28B-4D43-AEA3-85A29D2C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B7E8-B10B-446D-B671-01225423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547E-511B-4CD6-B799-4F891AED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F0BE-213F-4651-AB03-09D52CA3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15AC-F93D-4E6D-8174-86D1C03C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F2A9-578E-44E0-9BFE-EBEB720A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689-F0CD-4442-B8C5-F5E1541E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8F51-2FA1-4CB2-8F37-AC199E92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D9BB-4432-46AA-A24C-9DE6D321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FA71-7BD1-488B-B342-D9E0F3B0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426B-1AE3-40CE-9BB0-CB6E720A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3C01-1F29-4FC9-96E7-6329F82A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6FA-871D-4933-8554-5EBF629D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A6BD-8964-4E66-B6DD-DCDD758F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045C-3193-436D-ADE5-6C0E4FAF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4CA4-96A7-4ACA-B018-9D9B621C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5B7-9C14-45C8-A454-8D306445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1F7F-8A05-467E-B4FF-0B58E428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69C1-0541-46A9-8CAA-F9BCF84D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5B26-6507-48AE-9D52-EEDE06CD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F5337-8C04-4203-B42F-1AB23DB4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673E-229D-4DE3-AB11-7CA7B8F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3BB6D-41AA-4D18-BA59-2859852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41D5-4102-4261-B1B7-9410AC16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FDB3-E243-429B-A5B0-0A1A2E80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A820-69F0-4369-9504-8D7601D9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7BE-80E4-43D9-9BCF-E8D0BB69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6EE-244C-40E2-A0D6-B43F93F4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B65-77F9-4E19-AF11-0D2FB88D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595-5385-4EBC-A418-8D239545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E28-16D2-48A4-98BE-0337F02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EF82-A39F-40FC-977D-2233AF3EF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BC0C-89E7-4808-8CB0-53B9E5732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998F-5F16-4D80-BF9F-AC96CE5B6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’ll Live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J. Lan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J. Lan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Live 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160" y="6488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’ll Li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Live 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Live O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Live O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Live 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160" y="6488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’ll Li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Live 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Live 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Live O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Live 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160" y="6488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’ll Li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Live 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Live 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Live O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1:37Z</dcterms:modified>
  <cp:revision>31</cp:revision>
  <dc:subject/>
  <dc:title>Slide 1</dc:title>
</cp:coreProperties>
</file>