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3E6A-8E78-4688-8869-654A20A03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D356-7C81-4F53-9545-FB194125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D944-427B-49C5-AF1D-549513569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6F2F-5B5E-4A02-B439-24FB17C2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05C9-4777-4D76-AD4D-3AAD912A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8B00-39DA-4991-BAB5-465B3D04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7891-7B45-4E52-B83F-BFFA6953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EC4D-5222-4919-95C0-AFA2EB0E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859B-6C2B-4516-8747-B605A99C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9F88-822F-4B3F-A46B-3CDDB737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5F40-B1FA-4495-BF4D-129140E3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3284-B7C3-4297-8B2D-988CA8E3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D91E-3B7F-4A3D-8EF6-85E61A2C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4F5F-3134-4397-BF37-EDC62F6B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D75C-1569-4099-A6A6-96358579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05DB-86E9-4ACB-AF24-DCE6AE3BE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F9F2-94F4-498E-8A38-18CC664B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142E-A0C1-4465-A674-845BE905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B070F-486A-489B-B9D0-C93E21AD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AADBF-8707-42CB-BA18-DE575832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3D9CB-8743-4D25-A786-121DA53A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60CD-0DE1-4F8C-B8E2-B981BA3F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E7D9E-B25B-4AF8-8ED0-E7D223AA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C7EEA-386E-4AB0-BBE0-5E415C7C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B029B-D146-491F-A53C-BBCBD4A3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7A80C-4413-451E-8ECF-5603939B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3F58F-454D-4505-8599-6E88CCBD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E9995-65E7-42DC-99AF-4E678B6B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088AE-6ABC-449D-8403-D8DC7A7A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B2F7D-8F4B-420D-96B5-2798D720F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7C8D1-55C2-4A87-BB0A-079EF4CC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9A4F-BF80-4348-9CB6-DED28561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42E1-A831-4CB5-865E-292A685E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1F65-BCCE-4B59-AFB9-57436650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D22C-D021-40CF-BED6-4AC53EF4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7CF6-4474-4558-BA64-A4676E11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69D5-46D3-44F0-AB6D-4E256B6E0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59EF-DFC1-4CBB-BFF6-D3B7E43BF0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9D1F-B86C-4678-AAD3-29D81E29E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s My Name Written T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Lord, I Care Not For Ric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Mary A. Kidder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k M. Davis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s My Name Written Ther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s My Name Written Ther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s My Name Written There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s My Name Written There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s My Name Written Ther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81000" y="6488280"/>
            <a:ext cx="37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s My Name Written T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s My Name Written Ther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s My Name Written Ther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s My Name Written Ther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Is My Name Written There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Is My Name Written There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s My Name Written Ther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1000" y="6488280"/>
            <a:ext cx="37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s My Name Written T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s My Name Written Ther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s My Name Written Ther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s My Name Written Ther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s My Name Written There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s My Name Written There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s My Name Written Ther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1000" y="6488280"/>
            <a:ext cx="37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s My Name Written T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s My Name Written Ther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9:52:21Z</dcterms:modified>
  <cp:revision>31</cp:revision>
  <dc:subject/>
  <dc:title>Slide 1</dc:title>
</cp:coreProperties>
</file>