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2DA3-ED9D-4934-8A8D-7E28EA87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C39-26CD-4DC7-A9C8-D008DF02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B42A-A3C8-45D0-B73E-6376E555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50E-377E-49E4-BF1B-79BC09BE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890D-9754-4661-8F2F-9C970FC1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C71A-7EDB-4DA3-9D41-2BB034F9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D87E-93B6-411E-9213-974CBA22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E9A1-977B-46E7-BD40-3C58C940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C4D8-DA40-46EB-82DA-0F0CA979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3C8B-EB0A-4A30-AC00-FF46546C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95D1-B789-48E7-8776-6B2CBC1F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02B-D80D-47F4-A581-FB6142CD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A381-59F7-44FE-B107-688C4782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4BF6-77C6-4CFA-B92D-DD1DD125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6708-6E0C-4402-BAD1-64D2DC87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0B69-EA4E-4074-BCFC-42DA899C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2DE4-D815-40EE-B6D7-D6E803D1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EAA6-9B2F-4A05-9953-1963CC14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DA928-7973-4FA7-8CA4-E03C15B8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FCAC4-6AC8-45CF-A50A-02752B86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2269E-8A66-4668-BB7A-231A6C93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91BC-70E0-4F8A-BBDF-99A85392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19D27-CD5B-4C74-8048-E9AFA67C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24655-0B78-469D-BE06-64F0DCEA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580D1-3DEC-4237-8CAF-B9E7758E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2FCB7-5238-4680-BE2F-48717106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AB3CA-E791-4BA6-8B4D-E09D926C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0B337-0697-456A-817F-5066D55D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8FA5E-6FB7-4762-8603-A9628270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DFA65-77E5-471E-998F-5A6E4614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1B559-D0B5-44AF-BB02-B14ADB29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E970-0715-4AA6-BD10-A8CAF494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C0A4-C8CA-4CED-A78F-3E1346DB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FE5B-5C96-41AE-9ECA-ECA3A9BF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7CB7-2D96-44B0-B3DE-F6A132F5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FE6-A183-43BC-9913-1B7E69FB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42C7-1F8C-4D68-9300-ADA27B991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D5E2-4153-4D74-AEFE-DD03E5FED1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1FB1-029D-4522-BC09-7C6CD50C9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Praying For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 Have A Savi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. O’Maley Cuff (18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ra D. Sankey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Praying For You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Praying For You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5400" y="648828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Praying For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Praying For You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Praying For You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Praying For You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5400" y="648828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Praying For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Praying For You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Praying For You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Praying For You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5400" y="648828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Praying For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Praying For You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7:59:01Z</dcterms:modified>
  <cp:revision>40</cp:revision>
  <dc:subject/>
  <dc:title>Slide 1</dc:title>
</cp:coreProperties>
</file>