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B78-8128-4D7B-BD71-2D8D7470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1E8-8EB7-42E7-A2A1-30795889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733-2153-4171-B22D-07E9F190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85F-B6E7-43DD-9A7E-044C9497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281E-74C7-480C-A5AF-EA43E90C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DE60-D400-4F7C-AF5A-6FF58568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0968-0A3C-4161-B4F0-1F699724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AC4B-A2B1-4F66-84AE-E06E17E4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3C1C-DC8C-4298-AD23-D899C976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C970-6907-4821-B1AB-B7BF8427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D182-5DE6-4F31-B398-F30236EA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70C-E8A7-4392-9885-EC252DB7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C332-B73A-4950-968A-44061FC2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3A4C-8B9B-442F-947E-FCBE5749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4413-5BF6-48C5-9891-8927D0B0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B06C-46B7-4693-A5BD-0B8C1761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53F2-CD2C-4E05-9947-3178C436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43C-8C19-4611-94BE-3E51670D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B2A0-4C56-4DD0-852A-4922F261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8DA40-CC95-426C-96C0-4A6F596D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BDBD-EB6F-4111-9F35-724BD85C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B40-D63C-4A99-987E-DB39F51F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A041-55A9-4E10-BCA2-F84D493A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7D6DE-3297-42EB-AC72-09466673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2F0C2-D9B4-4A93-8C65-3263ED15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ADA5-794D-4000-8A56-277AAF94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3C38-63FD-47CF-960F-480309F4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1ED2-CE47-4542-89AD-8DB4C09F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44E1-8BE2-4335-B8BA-21492C22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69B35-3DBC-4BBE-9E54-E80F09D0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117E1-9B7D-4996-A639-DC4BBB0D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610-DAB7-4926-B28B-57A1D966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456-F7DE-4235-BBFD-1C09288D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9C8-BB6C-4306-9537-754CEBAC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A41-E402-4246-A953-30AA072A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E81-1B9D-4894-8FF3-D7912B08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FB45-A7A7-4FEC-AEF6-D9671C3B7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706F-57B1-4035-84AD-647282221C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A1B8-E099-4FC9-9ED7-D52591BED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Thine, O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Jane Van Alstyne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Doane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Thine O Lord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620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Thine, O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Thine O Lord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Thine O Lord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Thine O Lord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Am Thine O Lord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620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Am Thine, O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Am Thine O Lord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Am Thine O Lord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Am Thine O Lord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Thine O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20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Thine, O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Thine O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Thine O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Thine O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Thine O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620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Thine, O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Thine O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Thine O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Thine O Lo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2:17Z</dcterms:modified>
  <cp:revision>27</cp:revision>
  <dc:subject/>
  <dc:title>Slide 1</dc:title>
</cp:coreProperties>
</file>