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911-B249-4EB4-A02C-317F371F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7EE-2092-490B-B336-4AF653B0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909-D0B8-45BA-B514-0490BC3C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7C7-D7FF-4922-886A-480FA0E8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BC87-1925-4C5F-805F-4AC521E1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4C4B-75A0-45B0-9896-AE7DF5F5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DF9C-4884-40F3-A72A-38493B06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4189-A9FE-4BB0-A4E6-2FC67CF8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972F-5F1B-4688-A8D0-5AA48CA0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30F7-2E31-478A-8283-29775042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5EA4-E561-4D6A-9CA2-2DC14A31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0E7-7AA6-444E-B4FD-EB7FD3E2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98FE-0FB9-44A6-990F-3B655936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437A-53B9-4B37-8786-E67430AB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6361-3E6F-4169-9B6A-57090453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8D42-21E9-4F3A-9883-31B3E071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1BA7-84EF-45B1-8FCD-EA075208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C6C-B94D-449F-B2A2-964F8557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D26A-DEAC-424B-9A89-6D5566B5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766E-8912-4CCE-A54A-0B656DFC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407ED-319B-413B-87EE-EE64006A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C75-F662-4400-9946-9C34D4F8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592A-5991-4722-85DC-11C31C01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3049-60B9-4BCC-930C-92B2C18D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9D79A-AE87-4722-BEDF-75A09C09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F683-28C4-44ED-967F-8476C77F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D3BFD-4A69-4708-9B6C-0DDBDD5D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54A7D-1080-4D0B-A218-0F37A2FA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49E0-8A31-4F50-9DEB-FABCE93C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0982-7887-42EB-9EA4-F0DD2D74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619F-DBA3-4E01-96E9-62EC94A4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9E5-771C-4DC5-91D3-06083054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79E-8863-4082-93A1-9D08E779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E62-898F-466B-A945-5C85702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5B1-D913-4711-96FD-D7F3C49B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5F6-5C85-485F-B2D9-013031EA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BD1B-5B50-4751-B45B-BE133F1CB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0CC6-4091-425B-A052-DB059ED1CE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724D-E33D-489F-B70E-5ED33F3EA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Land Of Fadeless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No Night T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Clements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rt P. Danks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Land Of Fadeless Day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8080" y="64882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Land Of Fadel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Land Of Fadeless Day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Land Of Fadeless Day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Land Of Fadeless Day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e Land Of Fadeless Day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8080" y="64882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n The Land Of Fadel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e Land Of Fadeless Day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e Land Of Fadeless Day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n The Land Of Fadeless Day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Land Of Fadeless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8080" y="64882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Land Of Fadel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Land Of Fadeless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Land Of Fadeless 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Land Of Fadeless 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Land Of Fadeless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8080" y="64882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Land Of Fadel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Land Of Fadeless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Land Of Fadeless 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Land Of Fadeless 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9:56Z</dcterms:modified>
  <cp:revision>29</cp:revision>
  <dc:subject/>
  <dc:title>Slide 1</dc:title>
</cp:coreProperties>
</file>