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0A0-2AB3-43BC-82BE-3EB5B2B1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5392-D112-4062-90A4-C5C1BDAB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721-7491-4369-A91C-F30612CD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50F-8D4B-4005-83D3-31007760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ABD2-7326-42B8-84E9-3EABE260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2121-651E-4F59-90EA-58F6A404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F5C0-5A77-4089-81E1-389B964A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8920-317E-4BC0-A52E-7B1CB354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C098-5B60-4E53-9A3D-EF894E75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4EAE-673D-4B93-B10C-B26977B9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8139-291F-494E-8DBB-723CBECD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2EF3-74F3-4AF1-BC38-009B544F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D6A3-3B8D-42DF-8E24-0D4C2488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27AA-51E3-4EE9-B339-B02C94D8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FB87-418D-44C7-8F21-ADCE39AE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F0CF-AE96-4384-AC2E-F4C682D7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E1B4-6DA6-44BE-ABAA-1FF14B0D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5A2-A3A5-4DCE-B489-E21B12BF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23A69-E023-4795-84D0-7AAFB85F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F9DB0-ADB5-4E5A-BE2C-5DF46683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060C3-7EA5-4F56-9090-A88846F9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A73F-76C8-4011-8DF8-162AA0A4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33280-72D4-4FE4-BC85-1D91FFCB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DE2AC-7CAC-46D0-92E8-3E584A5F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34DF-FCAE-44B0-B6A6-8F0D0458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ECC6A-EF9B-4988-85A6-29FABCFB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9B584-15F7-4C82-80C8-85D099D9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8F70E-1032-4543-95D3-84435A6D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DEE23-BC71-475C-B4B1-F3A87C60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49D9A-6C59-4EA5-91D3-39FBB448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AB1A1-DDC3-41E0-93C5-29E3F6C3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00C-E940-47EA-9244-E76A2320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3F4C-8F6C-4DDF-A78E-5DDAC455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7F1-02E5-49BC-834B-C2B4C203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D8D-81BC-4927-8197-03238B0E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6E38-C634-4C94-9CD2-A1B7E969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36E6-03BF-4F8A-A246-30A580D48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5AA8-718F-4C2F-B03C-951E6D4958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927F-7A5E-4124-8F20-F1F8C1CD8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Will Sing Of My Redee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My Redee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 - 12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shan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Will Sing Of My Redeem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Will Sing Of My Redeem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Will Sing Of My Redeemer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Will Sing Of My Redeemer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4320" y="648828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Will Sing Of My Rede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Will Sing Of My Redeemer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Will Sing Of My Redeemer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Will Sing Of My Redeemer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I Will Sing Of My Redeemer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I Will Sing Of My Redeemer_v4o4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Will Sing Of My Redeem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320" y="648828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Will Sing Of My Rede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Will Sing Of My Redeem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Will Sing Of My Redeem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Will Sing Of My Redeem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Will Sing Of My Redeemer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Will Sing Of My Redeemer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Will Sing Of My Redeem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4320" y="648828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Will Sing Of My Rede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Will Sing Of My Redeem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4:31Z</dcterms:modified>
  <cp:revision>37</cp:revision>
  <dc:subject/>
  <dc:title>Slide 1</dc:title>
</cp:coreProperties>
</file>