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A18-2F1B-4C75-BA0B-45615987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BEF-5DC6-4446-BFE4-B3953DC3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409-ACF5-4A34-999F-37E3820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EEC-2D34-4982-B6AF-EBCBE321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261F-8F6E-4114-953F-41F6EBCB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AFC3-A87C-48BC-863A-74D9960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CE43-42D3-427C-99EB-5C1986D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8A5-D075-43E3-89E5-0BCA8430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5DC9-5E73-48B0-9A4F-E92B75E0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EA9D-7349-4A61-819C-C78B5AF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5377-A295-4079-BA7E-6012069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B0D-897F-45BE-A66B-156AD2A6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F97F-0DAE-426B-AE3F-08E5B0E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3954-161E-4D6A-89D4-47508AB9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3B5-8D32-45E2-9321-04F5672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7346-280D-4775-80B2-CE83551D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017-46EC-4761-B9A8-189F419B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91E-B288-46A7-A2C0-2E16F3B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A0A2-A230-4BD9-A6DE-821B15DA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5F57-978C-4190-90F0-BEE91AE2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4D8B-3567-4A6B-901A-6A5AB6E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B0F-687A-44B2-A4EA-BC5EE28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714D-4742-41C0-91DD-E599DAC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2DE8-4750-4748-924B-D06763E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FA7A-277F-4A17-B4FE-3954B775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BA23-DF88-44F8-A43C-FD3CDBE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140C-B784-4562-943B-B1AC213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BDC7-152C-4250-87AF-605D0E9A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C28F-E30B-48D3-8BA7-63F9766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3C22-1337-45FD-AD6D-4E778E96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A4C3-7495-4D16-B4CA-5943819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56F-4AFB-4082-A3A4-4FE4FDB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CF2-6E46-4955-89EB-B853A1D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D13-8ED6-46BB-9D8E-4575119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A36-C02B-46A2-9872-71745BB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0C8-100A-4862-9D49-A71F71D4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3190-CA39-4583-A9DE-89F8D82FE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D3BF-AC0C-4E1B-A348-DF2338D0D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1663-F11A-4C2D-972A-5B1697F49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m Happy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, Arr. Ellis J. C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 Happy Toda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 Happy Toda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 Happy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 Happy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 Happy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 Happy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text, sheet music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 Happy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 Happy To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3160" y="64882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'm Happy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m Happy To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47:40Z</dcterms:modified>
  <cp:revision>27</cp:revision>
  <dc:subject/>
  <dc:title>Slide 1</dc:title>
</cp:coreProperties>
</file>