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B90-2E0F-420B-B3F6-0567B38C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941-88E4-4AFC-B4EF-E6CB9F25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0B8-B7FA-479C-AD66-DB4F0014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2E8-12A4-406A-AB29-BFDCC621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7A31-04A9-4651-861B-80FF2E5A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E6B2-492A-48F1-9BC5-44489AA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B788-8DF1-4087-B49E-03FD5ED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31EF-B597-4B1E-97D4-3FBFE510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ABD9-D9B9-4DF7-968B-5AFB5BBE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7972-A010-41EC-917B-198C30D5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BD59-623F-4C7C-B3F0-BE9615C2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593-D3DF-4C7C-9AEC-F1A302D3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E8B3-E90C-437A-B0D3-0DA432CA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B348-658D-45C0-8C83-65635E66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9EBA-F659-4973-8125-0DC68A78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C0F2-CDA1-4646-AE3A-C7B4484F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F4D3-DF17-4E55-8CD1-9BC2A81C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0E1-7C33-464A-B110-C8611DA4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BCB9-8E48-4A07-BE95-E1F26FC3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3B2F-2F21-4A1B-A060-D4F343FA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A5CA3-9274-4B8D-AF42-72524B7A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C93-90B8-422F-B59F-3FE1289D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826F-9B7A-4234-B179-6F165D48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C6C4-31DA-4827-B4DB-CEB17F20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F416-389F-4120-8330-90F9717E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13B1-52DF-40B1-99AF-D6B3CB6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F3DC-867B-4EAC-8681-00992BA1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5366-D51D-49E8-87F2-31FED827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2E92-4F9F-46FD-9E50-B5C508FC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EFF5-FDE0-4B33-B57E-B1DAC47A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64AF-952C-4237-A814-17CE3853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527-385E-49A1-B9AE-41B25A60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9E3-F850-486E-A53F-AB3DE2DE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19A-6165-4247-8DBB-0714035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C0D-5599-456D-B135-5E0A0970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196-7193-4C2D-8C46-91DAD5E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7323-426C-4436-8D15-7087117EA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D240-2330-42C6-B91A-A7EF3ED85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5F9F-4F78-43E9-B02E-D4C4F4483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at Home Of The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. Gaines (1775-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. Gaines (1775-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at Home Of The Sou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at Home Of The Soul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at Home Of The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3400" y="64882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at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at Home Of The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n That Home Of The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 That Home Of The Sou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 That Home Of The Soul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at Home Of The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400" y="64882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at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at Home Of The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at Home Of The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at Home Of The Sou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at Home Of The Soul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at Home Of The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3400" y="64882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at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at Home Of The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at Home Of The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6:55Z</dcterms:modified>
  <cp:revision>32</cp:revision>
  <dc:subject/>
  <dc:title>Slide 1</dc:title>
</cp:coreProperties>
</file>