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5EF-FE51-4A65-AFD7-B6E132A7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044-6495-4534-BDF3-6595FB3F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064-F4A9-459F-BE68-06B0C19A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943-5E7A-4FAB-925C-2DA90C22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EFF7-8907-4492-BEE2-FEA13799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986D-C464-4E86-A142-9590E827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E25C-C701-419C-9198-CBC14B2A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EC3E-8153-43F6-97A8-1AD52A5C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FD96-7F18-473D-9A75-37D32FDE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B429-E4E8-4276-91C8-8219E258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37DF-AB5E-4305-AC4C-6F8EFB08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8B0-A7D0-4082-AFC8-BE836B0A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2DF1-C9EA-41BC-9352-56C5919A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7F22-7D33-4D48-AFEA-7322B2B1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08C3-265D-4BBC-B2D1-E9EEF753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63B7-1797-4C38-AE00-D3B6116F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158A-9A61-44B5-AECC-E3792A05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A93-49F8-4294-9673-4C3CFC7C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325E-E370-4C95-A293-E31E4974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C71B-4053-430C-B42F-5815E5A6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DFFA-1F3B-4873-9FBF-5D93FFE1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362-5150-40F2-918B-0FF51474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F1C0F-FB7A-45EB-B949-63D5A977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12334-C0FF-4968-A186-87C95931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6CF6E-C088-47E4-A024-8F751718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D351-FBDD-4824-89F3-DF31352E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7AC81-7C45-4124-9BB5-DE6B94CD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4BF6-F096-4AB9-8762-DACED0C1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1EB47-F3B3-4A59-B24D-3F97169D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37FF-D0BD-47C5-ADEB-FC1CC655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D36D0-EBBF-4CF9-8D65-10447DB6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0077-5D75-46FE-BBE2-A2B37984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E205-7CA9-4EF2-8586-4FC2FBFB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04A-1358-4392-949D-C5B32CDE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9B3-2334-41DF-84C8-633DDF46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46E-CEAC-440B-AD1A-32F94BBA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B475-1C9A-4BB9-BE70-9D216B99B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E61C-DDFA-4F83-8BBB-C5C7790FDB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0E66-8439-496E-8D11-A5591D928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to The Heart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Deeper And Dee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swald J. Smith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swald J. Smith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to The Heart Of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3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to The Heart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to The Heart Of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to The Heart Of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to The Heart Of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to The Heart Of Jesu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3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nto The Heart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to The Heart Of Jesu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to The Heart Of Jesus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nto The Heart Of Jesus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to The Heart Of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3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to The Heart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to The Heart Of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to The Heart Of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to The Heart Of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to The Heart Of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3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to The Heart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to The Heart Of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to The Heart Of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to The Heart Of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1:57Z</dcterms:modified>
  <cp:revision>32</cp:revision>
  <dc:subject/>
  <dc:title>Slide 1</dc:title>
</cp:coreProperties>
</file>