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E7D-643E-414A-A07C-AC46F3C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62C-9BF6-4257-9A75-8E703D5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5FE-7E29-4CD9-B3B2-CFA93F7F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782-9F3A-4D24-B69B-7B41AAC0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E877-42DB-4686-A9B8-F754DE59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B52-C95D-4465-BB43-538EB274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87AA-B422-46B9-8AFE-BBC1504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6CC1-4CC4-4B2B-9758-BDE4CAE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61BD-96F2-454F-A2A6-FF9E214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FEE0-11BE-466E-9868-15CD7980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2AA-66E3-462D-8116-47E860D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9D4-7A5D-4FF0-AC94-1E97D4F7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A484-1B86-49C3-8D07-007CB6C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980-3F18-4A98-B18F-8A1191C0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8C81-073D-4313-AFCD-FE482B09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50F-C944-46EE-BD17-F3047E74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96B-DDF8-4E87-B6CA-F0FE3AF0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008-887B-41E8-B108-25FF24ED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2F3D-951F-446A-9BA0-51F44236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5D72-5DB3-4DE8-90DB-6F62E34A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A507-AF54-4144-AF8B-D9CDC9A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442-C430-4C78-8CF3-991C412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B18F-CBE5-47C1-B296-C10A8FF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DD03-F1B1-44B7-9685-2EA915E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72AB-D6AD-4D12-8C4E-744965E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EF74-5C01-4D25-973F-865C2E7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E142-2F89-4A7E-971F-0672756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9638-4A5E-4923-A925-0309F8A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0B85-D729-4253-8083-6304267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0D42-E29E-44AB-B0DA-5D1AB5B6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B88C-7661-4F5B-8BE9-44114B3E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06E-FD80-4F22-BE58-D093FB8E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CFC-FDA1-4667-8884-901A8BB5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461-B850-4DE6-9FF3-AB8F52D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2A6-3CE5-439F-8F72-A023CA9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B01-65F8-4F9A-9FA0-01F5E2A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0ED0-2624-4D28-8917-60DA4EEA4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06D-97DB-4907-9DA5-F9B5DC81C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D8C-18B1-4E43-922A-0F4135AD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Hour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N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encer Lane (18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Hour of Tria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Hour of Tria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Hour of Tria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Hour of Tria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Hour of Tria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Hour Of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Hour of Tria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9:15Z</dcterms:modified>
  <cp:revision>29</cp:revision>
  <dc:subject/>
  <dc:title>Slide 1</dc:title>
</cp:coreProperties>
</file>