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A4E-1FC6-419F-9F3D-DC825FB4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4B7-8697-4DC8-AAAF-68602CC5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504-D592-4552-BC70-CA82E068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3E1-201C-48FC-BA37-BCC088D4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A887-3565-4F2A-9969-433678D3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FD61-AF58-476D-9150-2FC8293A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1170-3444-42CE-954E-7AD9B5EB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A3B1-1D2C-4EDA-B4A6-E92D089B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7076-AF96-4AAB-A962-C8BFB47A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8EE1-CEC6-446D-AAF2-0E46940E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1398-3790-4533-957C-11DAD11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075-871E-4458-967C-E1DFA90A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3AF1-ACB7-4C12-8946-3432DF22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9779-D643-4F0D-86B5-65771F47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DC7F-4974-4B62-9B11-35F3B220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E2A8-1AC0-4E58-9A8F-6F686D48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4702-AC3B-4F94-88A4-0E62B25A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F7A-48D0-413C-8ECA-56703E6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22BAF-E4A8-4589-ADB9-72F75412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A527-1F75-48DB-9C07-60CAE787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EA68-439A-4284-8E29-36F602AD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7A5-5C69-4C2C-B523-83A596A2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ABCC4-1167-4EDA-9954-74D236FA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D660-69EB-4636-803B-24D15DDC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468C-4558-4952-A5C2-0AB48A31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04C2-74A7-4957-902E-981C42E1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BD753-437B-4B0E-82CF-3E1A754B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DF5D-7AF5-479F-81BB-487902C8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16842-D3DD-43D6-873A-9294107B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67CF-03AB-4541-A305-D2B4B132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BFE9-9BB8-45BF-8A74-C1189B15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976-9647-44E4-9176-B8E201F8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F35-0627-4335-A60B-69FBD2B4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EBD-CCF5-4744-9978-05FB0DC3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772-EFD3-49B7-AF4B-4941FB1B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F99-62AC-4ECB-93DD-F4C0CEC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F5A8-707B-40AB-8837-854BA525C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4EC0-EC5F-4298-A916-A0B3A72A93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7090-1BE8-4AC5-880C-7587CC44F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Morning Of J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R. A. Evilsizer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J. Showalter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Morning Of Jo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560" y="64882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Morning Of 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Morning Of Jo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Morning Of Jo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Morning Of Jo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Morning Of Jo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Morning Of Joy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Morning Of Joy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 The Morning Of Joy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n The Morning Of Jo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7560" y="64882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Morning Of 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n The Morning Of Jo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Morning Of Jo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Morning Of 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n The Morning Of Jo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In The Morning Of Jo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In The Morning Of Jo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In The Morning Of Joy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In The Morning Of Joy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In The Morning Of Joy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Morning Of Jo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Morning Of Jo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Morning Of Jo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Morning Of Jo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Morning Of Jo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Morning Of Joy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Morning Of Joy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31:25Z</dcterms:modified>
  <cp:revision>28</cp:revision>
  <dc:subject/>
  <dc:title>Slide 1</dc:title>
</cp:coreProperties>
</file>