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BAC-8751-4CF7-A3E3-F4AA888A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557-1438-4794-94C8-6FA97D1F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9D9-1F24-4161-8406-BA7BFD10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C16-8AC1-423F-8721-783688B9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10BD-24B6-4D54-B329-46E8D2A4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2A7A-3D9A-4644-9E3E-F392D04A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0F43-03F3-4E88-92E9-617AA6B2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9AE7-5550-40A1-B2FE-D352F4EF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2620-2636-464D-AF44-4618B040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87DB-C2B5-48AA-8D88-89CC89A6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3996-CC46-480C-A922-63EB3CD3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5CE-C37A-47CB-870F-15E95B7C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E32F-1906-4E7B-8A89-EBF6E94F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F306-DBA9-4130-9D6A-66A25D6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45A2-DA9B-412A-890B-D5734FF8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9A7D-42C2-4715-9746-237566F8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0FC7-8094-4DB4-9FF1-F6F2E010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4CB-A45B-4B84-BD71-60E6BCC0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42673-2E34-4790-9DCC-D77C9598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6506E-9A2D-4C5F-9F37-90FC87DD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6C08-7450-4ABF-894C-1020E8FD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222-6856-4104-9ADD-E622B8F2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37F0-0F78-475D-B927-846E5DF1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3048-56D4-4EB5-A657-398B69F5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19F0E-0263-4055-8F85-84A57924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DFE6-0C5A-422D-9D51-94DE3352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8FD4B-84E8-475F-8750-D1DCE885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D428-3781-47FB-86BE-9DD96E0A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E347-2040-48CC-B028-15541373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2F71-D860-4A97-9365-40E72081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7675-17EB-4A9B-8C2E-D4836902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469-F20A-49A2-8F8C-BAC57339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59B-994E-4595-A9FD-3EC90A9A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3B9-985B-4DA8-AE94-E152EDA0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E0F-03D4-4D93-8B6A-32AE7737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9B5-49F5-4C18-9DC4-51209BAB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48C0-9A51-4C76-BA40-669F2E6AC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AEB0-053A-4618-AD42-85ADC7F2E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B75A-9018-40FA-9EF8-9D6544F1B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Come To The Garden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n The Ga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ustin Miles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Come To The Garden Alon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84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Come To The Garden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Come To The Garden Alon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Come To The Garden Alon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Come To The Garden Alone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Come To The Garden Alon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84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Come To The Garden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Come To The Garden Alon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Come To The Garden Alon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Come To The Garden Alon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Come To The Garden Alon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840" y="648828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Come To The Garden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Come To The Garden Alon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Come To The Garden Alon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Come To The Garden Alone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2:57Z</dcterms:modified>
  <cp:revision>32</cp:revision>
  <dc:subject/>
  <dc:title>Slide 1</dc:title>
</cp:coreProperties>
</file>