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CA0-5519-4BFF-AB75-B730EC8E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FB2-5BAD-46DF-9C2A-51D98989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222-8AD3-4C07-9965-2F3B26C0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744-BA65-4E57-9FAC-F861D4AB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8806-21AC-431E-9B98-658DA4EB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315D-5A1A-4C50-A713-B10724F1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0C83-F69F-4607-82F3-F64F8599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FDE-12DD-4A27-90AD-95F0BA4D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DC2-AAD8-461D-B88E-5F013A91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EA5E-AC45-4105-A8D9-E7623FCF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4DAA-2589-4781-8A95-3CDFDB3C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DE1-A52D-4625-9491-E9B248DB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124E-6688-41E6-A942-B0D865DE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9A55-3C89-40AF-90A7-B2D26CE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A0D3-FA95-4E81-AE39-C4728F55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3B00-278A-43C9-A9F8-E1710E80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A8BE-F94D-4D77-90A2-D3C817D8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01B-05F6-48F7-981F-0F8C8B88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A4A9-B721-4A11-BCBA-CD504F76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AC909-0074-4B82-B1B9-3D6B2902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53E3-8CE1-41FB-A22C-A11D778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8AB-9361-4898-A118-F3C6E2EC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573D-D14F-4ED3-ADAD-4EB05F22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537E-EC2E-4267-AF65-46BC302A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06E6-C231-44BC-AAB6-3FBA2A44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5A8B-1179-4B50-967D-BD6376C5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A594-1978-4ECF-A90F-C527FED3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CE5C-F818-49AD-9317-2A00FF31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55F8-779E-4A14-81A3-1116A5EE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BE95-4E5A-4CBE-9160-9FB1578E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61387-2D48-4BCF-AEBD-0BF232BF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DD0-B3A4-4650-A225-7A14440C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5B4-3C8F-4198-9F70-A41EA158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7D8-4082-44BE-85A5-7C9AFB10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139-3552-497F-B773-77C50846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038-5FBF-4A35-B778-DCA4B00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8BF9-57B5-4673-8F29-7C5E7EF8C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63CC-E03E-47B0-A976-2AC8A77B6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8A15-4E52-4995-B4DC-32058DA63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A Strang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King’s 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E. T. Cassel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E. T. Cassel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A Stranger 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A Stranger 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A Stranger 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A Stranger 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A Stranger 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A Stranger 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A Stranger 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A Stranger 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A Stranger 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A Strang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A Stranger 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A Stranger 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A Stranger 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8:40:13Z</dcterms:modified>
  <cp:revision>36</cp:revision>
  <dc:subject/>
  <dc:title>Slide 1</dc:title>
</cp:coreProperties>
</file>