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1ECD-4719-4A27-8C2F-F65D76761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CE97-CF19-4284-B1D1-4C96F278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B491-243F-4A55-8216-2AA3A2A06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E3DC-C949-48BA-B003-E135247D5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361C-E69F-44B7-8BCC-AB67D8D83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BDD8-8E2B-4BED-9C62-F483B14E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ACA3-BAE6-4DBE-96EB-BFE7389F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5B5C-219B-4DCC-9901-D12F9C45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BA1A-7D1F-40A5-B211-88322841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9CEA-2163-4EFB-B58F-25A7CF39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F8F4-69EB-44E9-8D58-0C5F1D8C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A3D5-2BD4-4731-A30B-91BCD365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8A42-C1CD-401F-865E-AD196BCA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6F97-8E53-4AD6-B86A-89352D7D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5FAA-8FCA-4708-B2BD-A85CD94F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5AD7-0ADB-4C4C-9A2D-F67C01B5D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5DF1-1AC8-42A1-9144-2216AE126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8217-4A48-4BE9-90F0-1D739A5A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E3607-7966-43F5-B376-CDB44D8CC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17578-FE81-4C89-B65F-374934FB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B13DD-CB3B-4D44-842D-5814A174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D20F-7658-474D-A98A-BF6E2493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E9794-E4B9-4DE8-ACBD-D4EBBC25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84092-4BDF-42A2-9BE4-61C2DE26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76B5D-9C9B-479B-AD36-9288BACA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ADC37-A5D6-4B17-83A5-514501A8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3C99E-06A2-416C-A315-90D39909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9419E-CD0C-44B2-8B2B-45B8D5F7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32CD6-F1C3-4A54-A47D-4735C2EF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E5CCE-2DFD-44CD-A7C5-BF1B52037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0C8AD-BAC6-4493-9CFD-541B4A01E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B57E-25AC-4680-ABE2-E5EF17E1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4A93-2F75-4AAC-A79F-E78DD092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3522-8A45-48F2-ABE2-8F173696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66D0-0140-4198-828D-D2D306C4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A9E1-446B-4C1B-B7EF-D5C5D8E4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075B-2C9A-494A-ADB1-F351DBB27E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3B16-01DA-403E-B2FC-A3AC586B0D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BF82-87D1-4673-84A4-1719C362BD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Need Thee Every H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nnie S. Hawks (18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obert Lowry (18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7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5680" y="6488280"/>
            <a:ext cx="34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Need Thee Every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Need Thee Every Hour_v5o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Need Thee Every Hour_v5o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Need Thee Every Hour_v5o5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Need Thee Every Hou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5680" y="6488280"/>
            <a:ext cx="34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Need Thee Every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Need Thee Every Hou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Need Thee Every Hour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Need Thee Every Hour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Need Thee Every Hou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5680" y="6488280"/>
            <a:ext cx="34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Need Thee Every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Need Thee Every Hou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Need Thee Every Hour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Need Thee Every Hour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9:39:15Z</dcterms:modified>
  <cp:revision>33</cp:revision>
  <dc:subject/>
  <dc:title>Slide 1</dc:title>
</cp:coreProperties>
</file>