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84F-26AF-4DA6-BB7D-19D0F2F1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5DD-E915-43F4-B2A3-9F38DF77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EB5-62C1-499D-8274-E17F5E84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8F9-C095-4E4F-9247-FD273EBC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0C5F-7C87-46EB-A4C5-D8741686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BA91-35D6-45A8-86BF-C08C947E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24A5-959E-4DE7-BD05-8C69F9DD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9B57-FF4A-45B6-B265-B7686AC8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6EB7-406C-47C2-A479-B797B672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B106-88FF-4595-8A08-18C4B9C7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BF06-FBEE-4DF9-87C0-E04B25F7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E74-30E7-45FC-9949-C833C6B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A051-1C24-423C-8C1E-7034A145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6985-2D68-444E-8D25-6EB38865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1ACA-3031-4A6F-8685-A6BC8658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8E5B-08CD-425E-82D1-F0D0E4F4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2CEF-94DB-40B8-B4BE-B92D0CFD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3EA-8ECA-48A2-92D7-719CB1BE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F3B0-3491-4226-9C1A-DAD6D486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2F7E-FF8B-4086-85CC-B2D20357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131F-DDA9-4B8D-A7A6-993738BA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13C-9DC8-47E7-999C-529DF830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BFC4-DC81-4E24-BDB9-656F6FFE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951F-DFB6-4482-ABA3-EC124DD6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4979-55ED-40DA-ABE4-8810C905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A840-6604-4963-BD3C-334F95E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94C5-A667-42AC-B04A-EC355915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96F9-73F0-4E88-9310-7B951FB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802E-4D00-4205-93F5-392B1CFC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5AEB-F163-4A40-825B-1E02B0A6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EC1E-FFC7-4F57-BAB6-FE98F595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80A-4A1E-4A31-A4F7-E84499D9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A77-A7D9-4E82-8418-43C13C55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26F-970B-4444-ABF4-D184792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1B1-B36A-49CA-83D6-4A1AF97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8A3-DDFC-45CD-9265-C6C0DD6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C963-2C14-4284-B4D4-15E084B5E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2E0E-C0B3-4B41-AB43-0BF7C6B89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B5E3-0BCB-4785-B0BC-09827979C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Res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lmer Hartsough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Resolve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Resolve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Resolve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Resolve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 Am Resolve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 Am Resolve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 Am Resolve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 Am Resolve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Resolv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Resolv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Resolv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0280" y="6488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Resolv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Resolv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Resolv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00:19Z</dcterms:modified>
  <cp:revision>33</cp:revision>
  <dc:subject/>
  <dc:title>Slide 1</dc:title>
</cp:coreProperties>
</file>