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4D9-05E0-47E5-A10D-0C09BDB8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97F-C3B0-41F0-B8DA-7D26AFD4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F2D-081C-496B-9BD4-D8C9CA06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00A-EDB3-4804-9B83-9356DE25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F7DC-9855-4E2B-A9D8-8119CA5F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C805-EBB4-448B-87D0-5232B50F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7B15-EE88-4A3A-95B6-4E989AAF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7007-ABAD-40CD-914D-F42DE5BE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B613-59D7-48EB-B531-8A323C3D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724D-E27E-45EA-AB24-BE78539F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8FAF-434C-48E0-9CA1-D01AD7A0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ABA-3EA1-451D-853A-DE6FB7D1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03D5-01CE-4E09-895E-C646FC9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DF57-82B5-4B08-8BD8-E39D2DD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B039-9C99-4F6B-B154-13FEF03C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2CBB-84FD-43DD-94C6-1A4007D6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1D8A-B6BE-4D8E-8728-4C927B71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04C-4E73-4FF6-8738-A2F9B6D6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1CBE-2F0E-496F-B6AC-3B59A38D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A267-84B9-4C06-806A-5935D68E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1EFA-F0EA-405A-891A-86FA631F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76B-EDFC-41B3-AC9D-FCD65BFF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907AE-8564-4569-884F-B75EEF4D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2C9D-6AE7-4C81-A43E-71E32CEC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7264-D1C2-42B5-9BEA-65FD8876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AA5D-B864-40A6-A2F5-3705924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4CAC-8B8A-4EF4-A845-44DA5D1A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AD38-B560-40D8-A5AA-678256F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E4FC-6CDC-4BE2-9F09-AA7CDB13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03A2-88D9-4173-8889-AF3BBFE8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196C-2B03-4572-985E-7EFA9D10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39C-F55F-4F2B-BC56-27934FA5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C42-BCDD-418A-ABEB-EFBDDAFC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88A-677B-4015-9467-94E6A533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753-1838-4B70-AA4D-2E49FF41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E38-235A-443F-981E-9481CD54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627E-C2C9-4631-AADA-8A8BEBF2E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C686-F7A2-4247-ADC3-6331E078C4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2B43-4705-483A-8DF1-C2C096C24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Heard The Voice Of Jesus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P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ratius Bonar (184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udwig Spohr (18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Heard The Voice Of Jesus Say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2120" y="648828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Heard The Voice Of Jesus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Heard The Voice Of Jesus Say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Heard The Voice Of Jesus Say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Heard The Voice Of Jesus Say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Heard The Voice Of Jesus Say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2120" y="648828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Heard The Voice Of Jesus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Heard The Voice Of Jesus Say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Heard The Voice Of Jesus Say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Heard The Voice Of Jesus Say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Heard The Voice Of Jesus Say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2120" y="648828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Heard The Voice Of Jesus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Heard The Voice Of Jesus Say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Heard The Voice Of Jesus Say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Heard The Voice Of Jesus Say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5:15Z</dcterms:modified>
  <cp:revision>32</cp:revision>
  <dc:subject/>
  <dc:title>Slide 1</dc:title>
</cp:coreProperties>
</file>