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7AE-0A01-4AE0-A5D9-90071DF4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40A5-31E7-4442-B875-137AF4C2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91F2-EAA5-4F33-8AFE-DF2A985A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903-BE0C-45D8-9556-A5F34972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601D-201F-4D17-BA9A-84954B0B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239A-D6CD-42C7-87BF-967EE814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8C74-A816-4FF7-BD07-3B7DABB5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B437-6F75-4543-957C-EFE0771B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1790-CEEA-4015-97AA-5C11CB6F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0494-806E-4017-95DF-BC275D69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4A61-DB0B-46AC-A079-49446C1C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B1D-80D2-484F-9874-677B6E38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21A9-B91A-4072-B420-DB1734D7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5E56-F843-4C4E-83AB-0A773F4A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6745-67EA-42F5-8858-A7937AB4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2BE3-0034-48FA-9558-B9148364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CC38-B6FF-44EF-9BC5-10096684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AD40-A505-46E6-B184-BF1BDDBF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D46F1-F65E-4E06-99C7-4549471D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BFDF2-48F5-4CAE-9F10-55FAAE4D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ED0B1-F518-4884-B4DD-FA45282A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450-8ABC-4B35-B887-85AEAD0B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1ADDD-3562-4225-BB40-7ECAB459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836EC-A349-4461-B4EB-B6772B5C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842AC-F7D6-4990-A974-0BE26CC7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B5814-1CAB-4767-BC32-037D7549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1F1D6-72E7-43A4-9018-0D666A1A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7A4E5-8081-4D79-AE1C-FBD5E8ED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A05CD-4541-4F15-A2EA-F9657573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3B00F-05D3-4BF1-8F8D-6AEE671C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7AFC7-CDD8-451F-B97D-0137161B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A8B4-D8B3-4FF7-9684-1F825749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80A7-12B2-4A3D-92D0-EEF3674F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BA7-6B65-4955-B18C-5C6F08CE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839-A0E4-49E2-9429-69F97D4D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D15-613A-4B1D-8687-B275FBC2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01E6-E793-44DA-8DA6-BD9FCD71F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1CBD-39B0-45B6-B3B2-5144C430F7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27D9-EB8D-410D-9C7B-0C3E9E279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Mine No 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508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Hy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Mel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Mine No Mor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880" y="6488280"/>
            <a:ext cx="30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Mine No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Mine No Mor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Mine No Mor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4880" y="6488280"/>
            <a:ext cx="30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Mine No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Mine No Mor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Mine No Mor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4880" y="6488280"/>
            <a:ext cx="30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Mine No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Mine No Mor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Mine No Mor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74880" y="6488280"/>
            <a:ext cx="30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Am Mine No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Mine No Mor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6:51Z</dcterms:modified>
  <cp:revision>26</cp:revision>
  <dc:subject/>
  <dc:title>Slide 1</dc:title>
</cp:coreProperties>
</file>