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3A00-182E-4294-BD29-FF6A32A3C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7A4C-20A0-4776-9A5A-3D1996961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AD1D-E806-43CE-BFBB-16B71567E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E794-4BF6-437B-977B-ED8851C4B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AE330-7528-4DFA-A4C2-5D8E121E7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A22D0-FE76-4D3B-BFFF-BB25E2D18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53CC6-6B99-4956-8BFD-E0003DCAF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807E4-57E1-4CEA-BFC3-D62F27EC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EC931-5DB5-438F-BDC3-9F51BFC1C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6BA18-9FC8-475E-9BF6-AA2C619CB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50B51-F00D-43F2-B38F-404F3CD6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77DD-91E7-4C73-A26B-7BC65C572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09C73-86E7-4D38-A200-465C7666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372B0-7FE7-4A64-AFC8-1ACBD38E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B28D7-6EE4-4FA5-8DD8-6C02B397C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A43EE-EBE4-461D-9831-6B6ECBF0D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A5410-2158-43BF-8714-337445982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97A0-77DE-415E-A462-238117420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10091-EB57-4FFD-8705-234C955B8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3A44F-7BC1-4D12-B88C-DD0E7EDF3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CDA6A-6473-482D-AC5C-684A1AAE2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3AB0-F1BF-43DC-8145-9B54F0056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798EE-3602-479F-9FDD-C7084DF1E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CC144-365F-4DB5-8B9C-4529A6C7A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98295-8E30-4D14-AAB5-3E5F4B966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1AABC-D4C0-49CC-BFFD-8FBBF2B6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AA22D-5B7A-40FA-A3F9-41C00363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B987D-9D69-487C-B82B-6CE3B8EC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C6CA6-ABA7-4293-B9D7-F0EC79E8B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7981B-C6C2-49EC-BF79-352D11DEE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3B0C0-A6BD-434B-BD02-E1C9FC928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8A8F-B098-45B8-8D6A-39C6BECB5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DE14-3119-4396-B81A-18CDDCC1C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A143-2610-4DE2-AB5D-5BE2C058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B581-2591-4F3F-870D-214409EC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F962-E6CF-4CB6-88BF-B10E6866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15E21-C763-4E66-9DE6-844E321D93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E1CC2-250E-4317-AC29-3C98A0FC41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C00AB-AC8E-44C4-B018-6E6E0F5D70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 Am Coming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. Hartsough (187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. Hartsough (187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7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 Am Coming Lord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4680" y="6488280"/>
            <a:ext cx="28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 Am Coming L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 Am Coming Lord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 Am Coming Lord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 Am Coming Lord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 Am Coming Lor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4680" y="6488280"/>
            <a:ext cx="28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 Am Coming L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 Am Coming Lor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 Am Coming Lord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 Am Coming Lord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 Am Coming Lor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4680" y="6488280"/>
            <a:ext cx="28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 Am Coming L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 Am Coming Lor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 Am Coming Lord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 Am Coming Lord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18:13Z</dcterms:modified>
  <cp:revision>34</cp:revision>
  <dc:subject/>
  <dc:title>Slide 1</dc:title>
</cp:coreProperties>
</file>