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09F-6237-4C39-9861-92CA165F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FE7-F104-4635-B596-014F2F45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E9D-4C33-4E47-AC2F-97D34C4C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846-1F13-4928-8B9A-C9D22B0C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C962-760D-4522-9C1D-E2C6D8F7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0717-99B9-4699-B002-C4329815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152B-A5FA-45BB-8DAD-ACABB804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1627-3197-4308-ABA5-3183E919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EEE0-4A0B-4B05-BDF3-7C5E4A79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25E0-5C99-4A6C-9BEE-FB3CB872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3BEC-B28F-411F-BE44-2A482BBE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0FD-2C78-4E7D-9D80-941B22C8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421A-C5BD-478A-A85E-AD263D8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372-E513-46ED-A07C-016CC832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2951-9B0D-41DF-9608-FC9E3B1C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6504-2A83-4129-8A66-20A04F35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F901-FB51-45B9-82D8-10EA4BE8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611-B5E3-4B8D-88AA-4BB8FDB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1368-1FA9-455C-85B8-2D5CACEE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BAEC-3167-4AD3-932A-E528F228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E365-A4EE-4D0D-9177-B545A97D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A19-290C-45C8-984D-66D964FF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0C77-6547-4498-97C9-0E30C0C6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9201-170C-4416-A4DC-60E09887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4293-F733-4DC2-8ED5-B28060AB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0CC6-5083-438B-8207-98647231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EF17-D965-403E-8595-439C0CA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B1E5-A594-4FF3-AD6D-DCABC4B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C888D-D24B-42AA-9C8F-B865407B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6F2DF-6847-4314-A3E0-55C758C6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731A-C587-4FEE-963C-1AB3FEB0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267-53BB-4F71-A09B-A8E4AAB4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A36-4A03-4079-9EA1-2FAA6467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E63-7F87-4412-A1C4-6F5E848D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263-E5B1-4C43-93A0-847B6BB9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2A9-DD50-4BF1-BC85-D2A1B3C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F8AC-7CE1-4FF7-9BEF-D7BACFC20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783-B043-483B-B86A-9B05CE81B1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8573-8B1F-4750-9F0B-B9429AA7D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Want To Be A Wo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iah Baltzell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iah Baltzell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Want To Be A Worker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Want To Be A Worker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Want To Be A Worker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Want To Be A Worker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Want To Be A Worker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Want To Be A Worker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Want To Be A Worke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Want To Be A Worker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Want To Be A Work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Want To Be A Work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Want To Be A Work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Want To Be A Work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Want To Be A Work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72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Want To Be A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Want To Be A Work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Want To Be A Work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Want To Be A Work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3:06Z</dcterms:modified>
  <cp:revision>34</cp:revision>
  <dc:subject/>
  <dc:title>Slide 1</dc:title>
</cp:coreProperties>
</file>