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6CD1-9206-478E-88AE-0FE4D2EA4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1201-551E-4F70-A12C-4417B31C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9A01-8CD9-4B58-B39F-8F9981297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F9D9-E13E-4C4A-B588-E4F1DA4F6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26518-7C65-4983-A591-AAFAEE885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C83C3-3D14-44A3-A6C4-5A1C6CA1E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7BDCE-ECB0-4DD9-ACB4-213D4733C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820D7-C43C-4E13-BD16-2F84CEED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A38D4-AD91-4154-B071-99339D0BD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B0320-9564-4330-98FF-FA50E5D85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91CB2-436B-4B90-BB9D-8C48299D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B335-8376-40B9-93F7-EC2F717BD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E5DEB-8832-414F-ACBD-38F11891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BE275-FE37-45B2-A0E4-B78D9C3F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F0384-3F0A-4E26-874D-6242CF67C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B54B9-FFB1-4A11-8182-775321440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FBF7F-4921-47C9-AA58-5DD358671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E9A7-DD8A-4233-827B-3A84BF8B6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DBDA4-4222-4A87-9BDE-3B2091ACC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973B7-1A5F-4B0D-9BAF-EE066E805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BB8C9-F197-4994-B3B9-62B4C1FEA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79BD-8F94-4CFE-A15E-0A69F6AA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40F26-0A23-4037-A203-B6C2D7E21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30290-B48F-447B-AE4B-C90C590E1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67D36-408D-4F4F-B2B4-0EC027AA8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03C6C-52DA-4369-B2E0-5A235755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8AB22-88C8-4D61-A182-0D093A70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1A1B0-378C-489A-9651-1841E6A0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24837-3019-4E64-83B7-B0615E280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8D39B-2BC7-49DB-95A2-95F84E64C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4C465-4007-4867-837E-32E35C4EB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E6C3-8C4F-4FB7-AACA-101CAB7E8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B1D6-6D17-4BFC-9F14-83DFECF7E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4417-5568-4C1F-8BA5-D0C122E8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4F3D-0D1A-4F60-AEA4-C6E66709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13B3-B2E0-4BD2-9414-D10CF0BD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D6CFA-4224-4CE6-9ED4-DD6B15E61D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07367-B2F1-4B4C-8CC5-6EE431B8A3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52333-D397-4F91-B9A5-0DE799C01B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f I Have Wounded Any So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An Evening Pray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39960" y="4902120"/>
            <a:ext cx="1265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/E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29096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. Maude Battersby (c. 1895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rr. by Charles H. Gabriel (19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es H. Gabriel (19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4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f I Have Wounded Any Soul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1800" y="6488280"/>
            <a:ext cx="389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f I Have Wounded Any So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f I Have Wounded Any Soul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f I Have Wounded Any Soul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91800" y="6488280"/>
            <a:ext cx="389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f I Have Wounded Any So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f I Have Wounded Any Soul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f I Have Wounded Any Soul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1800" y="6488280"/>
            <a:ext cx="389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f I Have Wounded Any So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f I Have Wounded Any Soul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f I Have Wounded Any Soul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91800" y="6488280"/>
            <a:ext cx="389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If I Have Wounded Any So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f I Have Wounded Any Soul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7:58:24Z</dcterms:modified>
  <cp:revision>32</cp:revision>
  <dc:subject/>
  <dc:title>Slide 1</dc:title>
</cp:coreProperties>
</file>