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C27-C233-4A83-8CCE-A82D48CA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9DA-961F-4AF3-A97A-6938AD79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337-B04A-4C6D-A0DE-412F424D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847-74ED-4CAB-96E9-D2224F68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14E6-4AFC-489C-B204-E0972E6F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0461-226F-425D-BA4C-80B709FB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E6F3-0FE7-4561-8AC7-4E5E67BA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FA1B-4422-40A8-9A49-2DE41517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229F-36F6-4145-8F5A-20F6E1E7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EBA4-D05C-49F0-B0CB-2ECEF362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D174-0E83-4CD7-A64B-8E758F86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0FD-2028-48F9-8E35-BBE9E52C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9676-F129-458D-807E-A7232D8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B5AF-3E1D-401D-8BB6-46D62F4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1D7D-5AF4-46F8-A41C-1D33A5F0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B610-20D5-4D2C-9648-B8DD5A36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D589-8418-43BB-A392-C9B74523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144-ED58-417E-B4E4-08B4875C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E351-CFF5-4A81-A238-6BF3EDD5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224B-B2CE-478D-B4D2-7E3BB9F5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3F31-D1D5-4770-B830-E116A594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A5A-CFD7-4972-8DD1-9CF12D1D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EB53-616C-4635-9B3D-B1F2393D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C12E-B5A1-4C90-A039-E1C927BD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BE9B-4EDD-44FD-8C58-E546FEAD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8E8A-C807-48C5-9237-759D831F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D05D-681B-4962-AC75-F8220BF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CB76-A97A-4C93-B403-2D75027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9F97-2C71-4DF3-9E85-B724FDCA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7DA6-AE07-477B-9C3C-F26C2B3B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99C9-CFB2-4A39-BD97-2EE5FDA4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85B-85C9-4EBD-B0C4-EC5795A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53D-B32E-4306-9DFB-B3950665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5D2-21D7-4C61-90C8-62E1B3E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6D0-D6E8-4154-B81B-9AB51749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085-10F1-4733-9439-A2C8FE1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ACA8-6C53-4497-BC8D-7080337E0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6538-A773-409F-A140-E2A5BEF9A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44A3-ECF4-44AA-8CE8-BDF9CDFCD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 All In The Name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o All In the Name of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o All In the Name of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o All In the Name of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o All In the Name of the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 All In the Name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 All In the Name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 All In the Name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 All In the Name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 All In the Name of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 All In the Name of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o All In the Name of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o All In the Name of the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8:40Z</dcterms:modified>
  <cp:revision>27</cp:revision>
  <dc:subject/>
  <dc:title>Slide 1</dc:title>
</cp:coreProperties>
</file>