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E1B-232A-4E02-87C7-A96F1610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98B-9BCC-47C1-BB8E-D06D8E1A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04A-DF2A-461F-B26A-576AA0F0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C28-F0EA-48AE-95AC-57A4CFDA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2F28-1A58-4242-ABF7-F40C43E9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17C9-A309-4DE6-884B-885A3F7B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D26-C5F8-4058-8E02-40CF4B85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08A1-1520-4DEE-9F7F-414ADE26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CA92-CE0D-496F-8E5C-97F2A21D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1F7-149A-47A8-BB0C-E4D144DF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5099-A36E-46C8-ACD6-629265D7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8B6-8F66-4821-9A12-8DC2D3EE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A107-E533-4C9C-848B-2673DC48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4B78-C005-4C33-80A9-05599A0A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6FC6-6504-478B-B86C-FBD1637B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A489-5913-4840-BCB0-565162EF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A377-6CCB-495A-81D2-B07D5AA2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67A-3142-4C9E-B700-46A220F2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172F-4956-46D1-A4BA-5A556E90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4B75-C909-4721-A6EA-90DD5B9F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20A7-A818-4ADB-930E-3FBB1038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BF9-9B84-4EB6-AD27-F629AEF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8269-AD8A-45BB-8B60-49B2BBE0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4EA1-A996-42B6-88BB-7CBC430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4F97-C71D-4D6E-9F53-8B5254EA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290A-85B0-4B2A-88ED-A0B2000E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D9D4-1777-4D91-8358-78497425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4329-54BB-4F6A-B988-2DC3203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9D5C-9549-4E9B-989D-3521883F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5869-290D-4C66-9B7D-99A7C87C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1268-59F4-4907-B0C4-AA69EE38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28B-1B65-4848-9185-5DC60790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344-4620-4E1F-AB38-BF7BC40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390-E8DF-4FC4-949B-439AE68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144-17CD-4C8B-863C-E63250A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2AD-0855-42A1-840E-4C72CBA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F96-C8E2-4E0B-9752-EB17BBF73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EF3E-D6EA-4CEE-A23F-33C581385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12C4-AF11-42EC-BFAD-81C8E5732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ear Lord And Father Of Man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6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G. Whitti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C. Mak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ear Lord And Father Of Manki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ear Lord And Father Of Manki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ear Lord And Father Of Manki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ear Lord And Father Of Manki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ear Lord And Father Of Manki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ear Lord And Father Of Manki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ear Lord And Father Of Mankind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6:51Z</dcterms:modified>
  <cp:revision>37</cp:revision>
  <dc:subject/>
  <dc:title>Slide 1</dc:title>
</cp:coreProperties>
</file>