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582-85E4-4D87-BF0E-046455C5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F87-55ED-4352-9267-C1B591CC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3F0-B5D2-47B5-979D-35383A5C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285-0FEE-4926-8319-551E1A64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AD4A-399A-46EC-AD5E-3BC43D99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22C4-469F-4856-92F0-B33D4F78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190F-EE7B-4B7A-B7D4-C5730254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E823-434A-48E6-877C-D8C0E832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12A5-3802-4CC8-A04E-8574085F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8E3B-352D-4663-B847-A8DAD85A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551E-3AD9-48AD-A27D-4F6DB3E3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1FD-6562-477F-86CF-C3C5531C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7CB0-0808-4FB8-95A1-06A5954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860D-48C1-4C28-9B2A-D7CA64B9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130E-2B27-4F48-8FFE-12DD96C3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E9CD-E73D-4802-9CFD-7FE97C44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DEF3-4605-414F-8393-E5790443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BB8-5335-45A6-8984-751A7DBC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B49A-5895-447A-9CC2-B36C4A99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8A29-330C-428B-AC6C-7CEADBF2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866E-4287-43CD-8F22-C99C3A8A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EC3-D96E-485E-BCA1-9152978D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36E6-1767-4571-8584-AB598694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9475-075B-4821-8F51-6AC007D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B484-63B2-4C0D-8127-4FF0882B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C760-309B-4F36-B4F2-5381944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D0C7-2F52-446F-B9DF-47FF213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84AB-BFDA-4D51-B83A-697CCF2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F1E8-3577-4358-835C-01B5FEAD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ACB1-CF62-4899-A54C-A7462C18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B1F3-A177-4294-8533-397BC5B3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99F-831A-4BF1-9880-FA059DFD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417-229C-4801-BCAE-7EBEDFC8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159-6419-4E1B-8D40-DF450D3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3B8-BCC6-440F-8EEB-B7F71050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748-4037-437F-8FB0-3599FD5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4E4D-5263-4BFB-8BBE-6ECBEE5A3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0DD5-77D0-49CB-A2CE-3CA5EA652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15F5-4855-4971-8407-CBAE49BBB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x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D HUNDR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Ken (1673 &amp; 17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ourgeois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nevan Psalte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5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 ~ Dox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8385120" y="0"/>
            <a:ext cx="75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21:13Z</dcterms:modified>
  <cp:revision>18</cp:revision>
  <dc:subject/>
  <dc:title>Slide 1</dc:title>
</cp:coreProperties>
</file>