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FBE-4F7B-4C60-9355-38768862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87B-B97E-4028-A63A-000DB6E8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4DC-816B-40A5-877C-F01523DA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EC86-62A1-4216-BEDD-20E63FA1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941F-BEF5-47E7-933D-D4ECFB85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A64C-3849-4082-B271-A9C6B285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04A3-4835-428D-AA94-30EFB4F5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3D2B-929A-4868-92B3-B751EDCA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3CD2-0510-4651-814B-E284CD2A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55C2-625A-4F9C-82A9-0A7189D8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DD37-3CBE-4B28-9992-9852232F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9E9D-DEE2-4224-9F62-BFF24283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26C5-4E6B-4D51-B942-A0869F8F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54D1-3657-443F-8B17-2D41C1F4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05DE-B26E-43EE-8C5A-175CEDD8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1295-9785-4D6D-BBBC-595ECC6E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C4AF-ACE7-4C39-9637-43C3B29C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BCD-3B62-4DD4-A3CE-37465515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45A70-AC6A-4CFB-B60F-607C1650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5C3C0-A555-4FC5-88E1-6A76AD98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D3904-62CD-4905-B790-00C5943F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A99C-6BF3-4746-BDB4-94C1586D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22D65-39B7-4681-A912-EEB9F79A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53793-7C98-48FE-A23D-EAC96ACE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3C57F-DEAA-46B3-B23E-3E4D2601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6141D-7823-4D1D-AD8B-845D3F0A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61448-5CCF-438F-A886-81BCB5B8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DE3FA-8670-45CC-BFA2-502F6464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C924A-C586-49FC-BA0B-2BCD4A80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F212D-80CB-4D19-A3D1-7584FD1A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E6986-CAC9-4973-9C38-3BBD70F9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DB63-1E55-4981-9474-68D5AD87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C694-411F-485D-A1D9-77B58ABA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EC4-0003-4CD4-A0A8-75E57ECC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F657-4BEF-41F1-BE1C-79BB04F1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ECDA-7BE1-4DA5-A1E8-28852F93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15A2-931C-417D-80E4-2CAAFB949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8255-AA30-4902-BD32-E3E76F67B7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02CD-884F-4846-A4F6-FF1F66AB8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ay By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LOTT EN D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0.9.10.9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G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rolina Sandell Berg, 1865, Tr. Andrew Skoog, 19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scar Ahnfelt, 18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ay By D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6600" y="64882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Day B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Day By D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ay By D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ay By D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ay By 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6600" y="64882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Day B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ay By 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ay By D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ay By D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ay By 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6600" y="64882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Day B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ay By 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Day By D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ay By D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14:30Z</dcterms:modified>
  <cp:revision>30</cp:revision>
  <dc:subject/>
  <dc:title>Slide 1</dc:title>
</cp:coreProperties>
</file>