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F83B-605A-400C-BDD2-A6718F008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DE51-CA99-4685-8E0C-E079EEA9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63AF-1E3D-4D6A-851E-4F4D64D6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DF41-58FE-4B22-858B-6A92B99D8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4BF3-1915-4CC1-AE9B-06DEB1CE8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6808-A446-47B1-82FD-B7EE3E32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3357-6368-4563-B56A-F2907320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0724-CF7A-43FA-BA25-1091F824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1B66-C529-40E8-BBE8-5C6AF195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25AA-D9DB-40C6-A7DC-3495604A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C8EC-381C-4041-88A4-CF577766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DC82-7E66-466D-BF9A-073A390F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823A-6C58-4A95-A449-36B64FD3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D5DC-53BA-4441-996D-9D142868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8925-FD43-45AF-9E72-FBBC98F6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0603-C870-4E8E-99E5-D70DB7CDC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6F5F-215B-4763-90D0-B6005F25E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251F-344F-4B3E-B29C-F0B71BBE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F53D6-4B65-4EB9-90BE-D02B9C1E0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CE348-D22F-412F-A9B6-6DF5DA53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23DB5-350D-4D37-AB62-6E3643CE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63EA-6672-4234-B1DB-40F968DC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8B9A1-0579-4E87-A466-7CDBD963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85414-DFED-4F70-9D02-40A43E8F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BB359-E2BC-4FD5-8D03-5F19BD3C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2E54D-EBDD-4F51-9618-45F8BADB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DBD5D-12CD-4DF5-9056-F0DAADAD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2E193-67F9-449A-8C04-132C6806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9D9A0-E06C-41E1-8106-DEE10781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A3160-CF1B-4051-9BE3-C09074E2A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5BB25-AB4C-41BC-9332-97BC98310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7F22-A745-4A84-AB97-CDB91646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AADB-A31B-44B9-954B-2079CC09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A643-992E-4343-A9CC-EE2A62D2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9D41-40E7-44DD-8FD8-070D6A26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C01F-9802-417F-9625-29F77954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D3B0-123D-4F6E-9FE4-9A6EAAF67F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7938-7872-4520-8D67-FCFE5E5EBE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A48D-6C90-4CD7-A670-33A7B3ADDC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Did You Think To Pr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rs. M. A. Kidder (187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O. Perkins (187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7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Did You Think To Pra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Did You Think To Pray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Did You Think To Pra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124920" y="6488280"/>
            <a:ext cx="33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Did You Think To Pr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Did You Think To Pra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Did You Think To Pra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Did You Think To Pra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Did You Think To Pray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Did You Think To Pra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4920" y="6488280"/>
            <a:ext cx="33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Did You Think To Pr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Did You Think To Pra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Did You Think To Pra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Did You Think To Pra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Did You Think To Pray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Did You Think To Pra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124920" y="6488280"/>
            <a:ext cx="33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Did You Think To Pr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Did You Think To Pra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Did You Think To Pra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4T21:17:59Z</dcterms:modified>
  <cp:revision>29</cp:revision>
  <dc:subject/>
  <dc:title>Slide 1</dc:title>
</cp:coreProperties>
</file>