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51F4-52FC-4903-B8A1-B71CDBF24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0137-52B8-48DF-A485-9563B209F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BB2D-1E65-4D03-A259-9A21FD548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6B8C-7290-4894-BD52-189B5EC81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89F90-FCFD-4157-815C-648183ACF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192DF-3C58-43BB-BA05-E0F5BE007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4192D-BBA7-4E7F-A52C-5CB0CE54C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F8B4E-CAB6-4AC7-BA41-A9E7E36FE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99D66-C2A8-44A6-B19D-42AE0A0EB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384EF-3D3B-4C9D-A64E-313F9F100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5E333-F5C8-4348-B735-9701D0EA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C235-A306-4BB5-B1A8-E24E57DA6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CB8F8-5B25-4AF3-A341-5129D310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63B69-1A96-42E7-8E05-9CE83F1F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0A98E-921A-4616-98EB-73778C876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13E4E-FB67-49C6-A41A-7BF8EC331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0303F-BBBD-425D-BDA1-F63755469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B934-CD6B-4C5E-AE1E-3FD626D4F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F8875-4C9C-4C19-B0EE-A344B3B9C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C7F2F-E790-49F0-AE19-398CBA234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3EC58-7547-4CB7-9571-6B1BECFC1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E087-B158-4BA9-9098-CCC75292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3720A-CE2F-4075-B068-25B638C2D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9F42E-664E-40E4-B6D6-98B93800E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0B6AA-40F7-47DD-8CBB-72B9322F7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FDC18-C993-4A80-B64F-428FF23C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BE9C1-993C-41C3-8714-B7B36993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1F178-89B8-4935-A79C-51544C97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9B567-06BD-4840-AAB6-61E094444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166AC-0762-4E1D-AE99-FFD3F4812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AAD6C-C6CC-426E-9755-F1A245597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00E3-61A9-42A5-9BCA-801408C52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5CB2-2168-452D-9CA5-E54EEBDD1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9F10-0DAB-46C7-B620-9DD12F6A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AADC-3502-4712-8570-302AE26D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EE46-03E7-478D-A23E-1FE80871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A511F-6022-4064-A26A-EAE9D8F3A0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95C18-8A46-4177-8B13-A256970E1F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465C6-D6A0-4087-A292-A0B3185DAB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Does Jesus C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rank E. Graeff (190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Lincoln Hall (190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7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Does Jesus Care_v3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0360" y="6488280"/>
            <a:ext cx="272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Does Jesus Ca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Does Jesus Care_v3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Does Jesus Care_v3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Does Jesus Care_v3of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Does Jesus Care_v4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90360" y="6488280"/>
            <a:ext cx="272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Does Jesus Ca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Does Jesus Care_v4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Does Jesus Care_v4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Does Jesus Care_v4of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Does Jesus Car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0360" y="6488280"/>
            <a:ext cx="272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Does Jesus Ca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Does Jesus Car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Does Jesus Car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Does Jesus Car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Does Jesus Car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0360" y="6488280"/>
            <a:ext cx="272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Does Jesus Ca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Does Jesus Car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Does Jesus Car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Does Jesus Car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4T21:19:34Z</dcterms:modified>
  <cp:revision>26</cp:revision>
  <dc:subject/>
  <dc:title>Slide 1</dc:title>
</cp:coreProperties>
</file>