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6A8-B7C6-483B-AA60-BFD98CC7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46D-6247-43D2-9E52-2458568A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797-4EDF-4EC9-AA56-B323C570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8938-CD07-4112-AB21-A72EFA99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529D-3293-423B-A2DB-15D90B3E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6135-904C-4531-BE14-97CBD6B0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C433-ADA2-4306-92A0-44C53FB8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39D3-9E49-47ED-9615-EBF4DA40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908E-E600-4442-99EB-3FFB3DE3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D8D8-EEBB-433F-A516-710075A4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2B8F-5A13-4665-8763-B3E15CF2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96D3-9D10-4952-86B7-8CFB47AB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A80F-B83B-4B3F-AB02-430649CB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60A3-35DF-418E-833C-07368120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167E-DCEB-4200-A662-0954B435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E144-7275-4FB9-BEDF-DDD2C874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68D8-27E8-410A-9D74-A6C74E25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0930-7917-4086-8910-D72C30AA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4019D-3B75-4D4D-8788-42905BBC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E305E-FA03-48C9-8BAE-76F0E93D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BF2C0-B13C-4421-938B-D5CF94E2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5C3D-5B1F-4A0C-A71B-92BEAE31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5BBDC-0439-4A1E-B1F9-84E0140E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FEC28-F431-4EFA-BD24-917B64EC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31846-211A-4D3A-98B8-F860B429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B24D5-C38E-413D-A318-9AA4DED0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A1FEE-FB31-46C7-B550-35CA1D9A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D36B5-25E4-4E33-B282-7FC2419D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571EE-B8BA-4902-AECA-25B7F9CB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D00E2-FBA3-4EC1-99FE-B6062C0B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EDDB2-4E71-4DF8-85CC-E032E504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D89E-F1ED-4D04-A8F7-E79C44E2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A2A-6023-4ED5-BF23-88D29FD1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4DD-C990-449E-B990-FFB2F563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947-9839-4993-9C42-2A37405F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4B5A-6421-4B73-9995-30949791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71AE-C816-4440-A156-A6C311866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9B6A-7A6E-463C-AFC2-8CF2721866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FF79-7595-4D43-BE00-758324E28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own In My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3200" y="4902120"/>
            <a:ext cx="130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own In My Hea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8760" y="64882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Down In My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own In My Hea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own In My Hea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68760" y="64882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Down In My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Down In My Hea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own In My Hea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8760" y="64882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Down In My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own In My Hea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20:34Z</dcterms:modified>
  <cp:revision>32</cp:revision>
  <dc:subject/>
  <dc:title>Slide 1</dc:title>
</cp:coreProperties>
</file>