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FD8-96E2-4754-8FE3-72FAADF6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148-894E-4F8C-AE1C-5954F1E3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1B3-842B-45D0-841C-1F5C2A14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7E3-D01F-4010-8755-715B9F9D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444A-5A6C-43A4-8EFC-4C250A66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7C10-6EC1-4ED5-80CE-50238D68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2F7F-60F6-4F55-9976-90EBE1F5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F5A3-67B5-417C-BEF9-C09C015E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AF04-289C-4A13-8799-2CF17112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9E86-F7B7-4B4A-917A-B9666611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C659-BD59-4FF0-A3DE-CEA37046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A39-BE9F-4EA0-BFCC-9122A438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D250-A86B-4408-B8DA-C2DEEDBB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16D2-B128-48D7-973F-DD72AE52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D2F1-8717-4126-AE1B-CAAB7BF5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CCFB-DB82-40AD-9C57-11257B17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52FC-A1BA-40D9-92E3-F54784DA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947-7C12-4627-8918-48A38B23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D7B0A-AB2F-4DC2-9E98-D70B6378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2588-D42E-4C1D-9F7C-7D83C4AE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2FABE-D509-4D6C-B87D-69AB4E8C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7E6-2244-46F3-B27F-080BB0F2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38B7C-70D6-4491-AD03-F9E16C0E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F62FF-A4FC-4C2B-A249-2E8B00E3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4748-E906-409F-AD7A-817757E2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77F11-F5A3-48D7-9973-C71B640C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C9DCE-2786-44F0-AE3F-C2A188FE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F013-F365-483E-8311-9AD6EDF2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B6548-D95A-4331-86D3-BD110A1F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D1F8F-69D7-4D15-981A-C2ED5182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88C55-8DB8-4692-8393-2EBC8474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0F8-8753-4837-9CC9-0A31348F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440-4E9C-4C83-9721-0DC74D89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848-BBCE-4C43-BAD5-E0E47FD1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FAF-04A2-4425-AC6A-13BDC576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918-2215-4959-81BE-086F7CE5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420D-8FC0-49E4-BDC0-3332B2B6B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5A1A-7A22-4B95-A03D-44B596AB7E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29A9-17A5-494F-9AA9-AD2522324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ay Is Dying In The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A. Lathbury (1877 &amp; 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F. Sherwin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ay Is Dying In The Wes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ay Is Dying In The West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ay Is Dying In The Wes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99360" y="64882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ay Is Dying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ay Is Dying In The Wes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Day Is Dying In The Wes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Day Is Dying In The Wes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Day Is Dying In The West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ay Is Dying In The West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99360" y="64882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Day Is Dying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Day Is Dying In The West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Day Is Dying In The West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ay Is Dying In The Wes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360" y="64882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ay Is Dying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Day Is Dying In The West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Day Is Dying In The West_v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ay Is Dying In The Wes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ay Is Dying In The Wes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ay Is Dying In The Wes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ay Is Dying In The West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ay Is Dying In The Wes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9360" y="64882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ay Is Dying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ay Is Dying In The Wes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ay Is Dying In The Wes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5:48Z</dcterms:modified>
  <cp:revision>31</cp:revision>
  <dc:subject/>
  <dc:title>Slide 1</dc:title>
</cp:coreProperties>
</file>