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6FD1-0F0B-4BEB-B0DA-38479ADEA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251C-948A-43A1-B408-226864EE4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9BCB-8EB3-4D53-BD4B-7A62427C2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A1E2-E1C5-4597-B345-74C04D55C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8EEFE-FF1F-434B-B2A5-8BD6C874E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DA041-5E41-466E-BA08-1865E8289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13C12-CFB9-48BD-8D47-4F437FFE1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B0F23-990B-4B8D-BB42-ED4CD880F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55086-6B52-41F2-AE12-B1E2EF6A7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EECB7-1EE7-446F-9CE6-AC6E1D246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69B75-094B-4BD9-85E4-2F2B2C36A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2161-62A8-4EAE-83C7-C031C4E96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4BD0A-1D77-4F58-BB97-56FE65D67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A08AD-5881-4887-AF8E-5872AA83F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C8278-5061-4BDA-A70B-FA07394D7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5DCF3-5E1F-4811-AFC2-F1E07D3D9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F9365-7ABE-468F-8AB9-69EF451AC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14F0-A713-400E-9E8A-27BCA3A6D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BA61C0-5E43-477D-8555-A6CDA23B2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8E87FE-FFFC-42D9-83FB-C463E647F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443390-519F-4263-A770-C284AF7D8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B5AF-4482-4B9C-8807-F53D4A406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E6F368-E8D7-4C00-91B0-7FC2DBD4A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13921D-ED2C-459D-85B9-167F7570F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086F65-37C5-454A-A40C-8F0ADAE1C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160F78-83E5-44F6-A5B8-DCE4D1CBB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F77D48-CCAC-47C5-8359-5C1614D6C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8419A4-13C9-409D-8E43-AA5224D52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A6A65D-EBDF-4EF8-B13E-A8864CF26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6456AB-C380-44D7-8497-F0892C4AA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91DB62-02AD-4ED3-BAAB-553131C61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4BF2-23D4-4AAB-8C9A-048090756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4B99-8DEC-460B-BFED-0E4EF8370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B25E-36CD-4B8B-B21D-8EE82280F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E8B8-85F7-40D5-8F41-C1D5B6721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5705-572F-472E-A306-522532268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4CAA9-AC47-4A80-90F2-FDD28E7FEA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F8893-5E3C-4BFA-8F68-756CF18A579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FAF28-0EF1-4233-BFFE-E555620551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Come Unto 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C/E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2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Charles P. Jones (190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Charles P. Jones (190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7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4" descr="A picture containing diagram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4" descr="Diagram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4" descr="Diagram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4" descr="A picture containing diagram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Come Unto Me_arr1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68760" y="6488280"/>
            <a:ext cx="25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Come Unto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Come Unto Me_arr1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Come Unto Me_arr1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Come Unto Me_arr1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Come Unto Me_arr1_v1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Come Unto Me_arr1_v1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6" descr="A picture containing diagram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68760" y="6488280"/>
            <a:ext cx="25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Come Unto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4" descr="A picture containing chart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13T19:27:21Z</dcterms:modified>
  <cp:revision>34</cp:revision>
  <dc:subject/>
  <dc:title>Slide 1</dc:title>
</cp:coreProperties>
</file>