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12E1-C810-4000-B34A-D8EFE935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556-BF54-4AB6-BEF6-9D1966B2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B52-1A86-4C0A-928C-4F012C1F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114-34BA-4FE4-B858-8EE1D266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940F-B2F9-487A-A5C9-4050E8E6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2F1E-8C52-4CB7-860B-A33D2683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42D2-7819-42D7-A51E-20844AB7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11FE-F8D7-470E-8BE4-AAC66CB2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5DA8-E799-4D37-83AC-17DAE8BE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1AC4-50C4-48A5-BFAD-9C3E5990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0A3C-E584-4A9D-A9ED-C150895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A03-9D2E-4C46-AFA4-E2B0BEF8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4A21-43FD-4ED2-9D08-C04C3E43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1F7F-5E14-4511-9EA0-8F1BA1EF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6D51-6D02-406D-89D4-8ED603FF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2798-7D49-4B5C-89D6-DD2DE892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7C66-6973-4814-B324-BC3BA80C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2AC-A945-4B9F-9A29-39DF8C08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E530-F8A2-479E-9ADC-3385DC25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8AC2-EB40-42DD-9AB9-A4D1ABA1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225B-934F-40C3-9B99-2FCB5359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833-D0BF-4452-B758-F904D39F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B923A-E02D-4879-B1B7-89154CB0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36ED-8E90-4019-AEC4-7AAF275C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92A40-F851-4B9B-B323-B6211D5B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5EBCD-F5BF-465D-89E0-8263FEF1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7F52-B49B-4127-BABA-E84AEE1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2C26-E815-47B8-916A-77C75CB7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6C47-3204-4FE2-9A86-65EE3872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2F9D6-DE4E-4CD7-A512-9F70A86A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DDAD-E1F1-4182-B369-FBE552E8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96B-874B-4B36-AFEC-1CE865E9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300-67AE-4AD5-B05D-66F516D2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1A4-43DA-4045-96A9-1D576B17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BCF-5F64-4C9F-AA49-225DBD7D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0B2-2AEA-4666-A1E5-AFDD3A96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6336-3CC2-4A51-896E-4BD51CD5D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7BBD-2A13-48FA-B182-E6452DDCA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2E47-07B7-46D5-8FA7-A5DC58900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ild Of The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ttie E. Buell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. Sumner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ild Of The King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ild Of The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ild Of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ild Of The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ild Of The K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ild Of The K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4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ild Of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ild Of The K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ild Of The K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4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ild Of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ild Of The K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01Z</dcterms:modified>
  <cp:revision>32</cp:revision>
  <dc:subject/>
  <dc:title>Slide 1</dc:title>
</cp:coreProperties>
</file>