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227-A908-450A-A4EC-D952B62B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A6F-AE48-4725-802B-1B4F4F72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D73-79BD-4CDB-9B7A-F85FFB21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B67-AAEC-4A58-B222-EFAEC552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C411-433C-47AD-8A6C-C68EFC02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A8E0-C2A9-41B3-89F7-D17559A5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919C-EC36-4316-B2B1-B3D7A8F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15CE-7C1B-4A0E-B9E0-D0070AA1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010A-2AE2-4B45-8497-69F5981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89F8-90DE-48EA-8474-45C3B4F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651F-87F2-4F2C-B868-4AC14147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67A-00A5-4EEB-A19A-5FCB4A9A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6744-3862-4D67-A589-68834279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9452-121A-436D-8DD1-0F6DC6BB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164C-7D87-491D-A33B-A79F9AC0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F439-FB3F-4A7A-840E-E395E549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9C0C-E1C3-450E-AAFA-3A4E15C2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CD3-D417-40AC-8B3C-A0DB26C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FCA2-D626-46B6-B4DE-6061BCD4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628D-E605-4E76-9DB3-9A10A7EF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A370-1F20-4BC0-A152-D294C5B4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279-2038-424C-93AC-B17E8C2D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8791-C63F-4B83-81A1-64CB811A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7AB5-D21A-4BD3-9099-222BF600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B6D7-0159-4A1F-B220-3B263A5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659A-0953-4187-8479-3DB92E69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A902-934A-4AEB-AA0D-59B415E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6D9D-7606-4FEF-9A27-E8BBB674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5C42-307C-482F-8016-0A9C97F5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8ADC-6A46-4943-8538-C15FD3A9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7C7D-FDF4-45CA-9E96-051BFDE3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931-8B19-4972-A319-C8C0FB92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CD1-8868-444E-8017-6B67E4B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E67-A1AD-42D4-90E4-55BF9A21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5E5-CF03-49B1-91C8-9FFF2EAA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E35-E8BB-43FB-8AD9-D70E3E6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CB0-8D43-425A-B8E6-7A48FDCBA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8603-15B9-4824-8B02-EB632DFA4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7AB-DB1A-42A3-A96E-B83B97DCF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Liveth I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W. White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Liveth In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rist Liveth In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Liveth In 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Liveth In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Liveth In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Liveth In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Liveth In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Liveth In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Liveth In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Liveth In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Liveth In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20Z</dcterms:modified>
  <cp:revision>31</cp:revision>
  <dc:subject/>
  <dc:title>Slide 1</dc:title>
</cp:coreProperties>
</file>