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83D-27E4-46D1-8C7B-82658A30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66F-71E0-44B9-90EF-664C3617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A09-C500-4273-A90E-11E0C0CA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1E7-7C99-4530-844A-5B417460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7DD3-1068-4EF4-8235-E1059E1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662B-028A-4419-B1F9-B6A3E1EC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291C-7D57-4196-9605-83F5395F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D149-0EEF-4A02-87E5-AF2066D3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09E-C73F-4DC0-B9A4-CDFCD553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F218-F832-4ACA-B898-517DB907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65A0-4077-4DAB-975E-7AAD466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BCC-3912-4C91-B911-C68A983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43C9-5361-4E62-954C-5C3BAA0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E43-818F-43A5-854C-815F516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0FC2-00C5-405E-8F69-A0F0B3BA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949-903C-446B-B931-47859629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19DB-B62A-41C2-B943-1D7805C3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9AC-09D6-4671-8667-01DD2BA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4CD0-C906-4290-9CA1-DB47543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8248-A03B-417F-99B2-45474F3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0B9B-9884-488E-987E-2728717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FF0-1C28-4279-BD9D-6CD53569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451A-BCD3-4152-B11B-8A75733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2522-F182-4F8F-AA6F-8E0E94E7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0DA6-335F-4261-AC80-0EC45ED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FC8E-2723-4FD6-BB72-E7F1E45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9890-41AF-4630-9D2B-6AE16051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6803-B13A-4593-935A-F286EDB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3910-CC9D-4B33-8B83-013E6BE0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4A61-99A8-4C38-AACB-09D026CE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4ACF-E199-4FDF-AABC-294BB5B4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197-4C94-4A66-B909-51552F12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F39-8544-4BEF-A474-5F0F44A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DD0-34C5-4999-B95A-A0BAA37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2AA-0A28-4675-B309-756F4C9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263-1C29-4554-AF88-72C5ECF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C0E9-5289-424A-A574-6DB442A00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45A-770E-4F7A-AAE2-AC678988E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0D92-352F-4338-A3AA-F91750E4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Christian, Join To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Henry Batema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Spanish Hymn”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Christians Join To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Christians Join To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Christians Join To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Christians Join To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Christians Join To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Christians Join To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15Z</dcterms:modified>
  <cp:revision>29</cp:revision>
  <dc:subject/>
  <dc:title>Slide 1</dc:title>
</cp:coreProperties>
</file>