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C1B-ECDE-475D-BAED-7B83F756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8D3-9E31-40BF-8BF8-552408D3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612-CDFD-4538-BAF4-FE7C0CE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250-7C12-4E66-9895-FFF2A8D4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883-F003-46B7-9219-17CD4A73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D3F1-8787-4FE2-8596-D5AA3F56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00E-36F9-477C-B5F7-2D36420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710C-F527-42F8-9999-992C7A5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AFB-9CBF-4485-98F5-9124F3FE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821-D2BF-4DA5-A8A0-F7A66160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05A-9A11-4ADA-B616-9CB5716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B85-CA9F-48D8-94D1-C19966A4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2BC-F85E-49A7-A351-1C99410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AD8-F68A-4860-8691-7075FDE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F86-5AEC-4BA8-8ED0-F70244F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9D89-A822-4DCF-BA82-CFDF73CE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716-4DA6-46E5-B42E-5D09C2C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EB0-5FDA-4B56-B72B-462DCCC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7681-2152-4119-8A11-89ED5496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4950-EB92-4DB9-821B-44EC8F7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E544-6672-4D91-933D-899A58D1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6BE-7119-4D52-9B9D-D9AD47E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5064-A2BF-4043-ADD7-D5DB755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9A07-9A63-43C9-A95D-83E818B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933BE-C8ED-4211-B66D-63290FB1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D59A-770E-43D8-BCBB-E68E183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2DDE-F2DC-4469-B057-8678973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36A2-B40A-4A2F-8AC6-372BDB1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43FB-DF5C-48A5-A750-919247D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E6D0-38E3-4DA4-BD34-EF016C93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D8CD-2DCA-45E8-A0C9-E4129DEF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457-94BC-4722-B3DB-F6324F46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504-23D1-47F9-97B0-A5EF8893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9F6-1143-44A2-894E-0515778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C3D-5647-441A-AB4D-27BA294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51B-F0B3-4B41-BCA6-D9F1DD0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7679-CBB0-4FE9-8A4A-C907BB755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0D5C-E7C2-4558-BCB8-DA3D17CF7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A30-3642-4AD1-868F-1B9E79ADE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ose To Thee.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lose To Thee.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lose To Thee.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lose To Thee.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 To Thee.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 To Thee.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 To Thee.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 To Thee.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 To Thee.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 To Thee.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lose To Thee.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lose To Thee.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42Z</dcterms:modified>
  <cp:revision>27</cp:revision>
  <dc:subject/>
  <dc:title>Slide 1</dc:title>
</cp:coreProperties>
</file>