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53B-3E43-4CE5-89A2-4999E7FF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7D1-0199-4619-9DE9-81D70A58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32D-B941-45DF-BD76-325D7F4D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E3D-9C11-475B-91E1-48BA586A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E383-A8F7-4DC6-9C3D-23995097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93BD-3731-4108-AA4C-F5DEE4C6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0048-C453-4CEA-A9F6-29864CB4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FBF7-561A-4663-853F-5CC2AC58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A721-1AEC-47C9-922E-609881FE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EEF3-0F46-4E11-9CD4-B0F3FE5A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46CC-6AFC-4614-BBF0-A381A18E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E76-346B-422E-88A9-FC311AB6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F351-B428-47A8-88A9-637DC0A5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13D2-EB46-4393-80E7-BF56917D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3439-584A-48E8-B522-3BA3685B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D735-E3A1-4273-B252-86DA8EE7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100D-314D-4B9A-AC9C-5C4A62B9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ED1-D383-4EB3-B340-2AB6AB9F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1622-1192-4336-AC9F-770F2A52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F37C0-495D-4DDB-B349-6B369937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DC787-0D2F-4688-BEAF-B70962F4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1BB-936E-4DD4-87CC-DFF0F2E1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10EA-C5EF-423F-91C5-AF600E27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0D37-60B2-4160-9A2E-26A92EAB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92E99-EAB7-4EDE-B72F-18118CC1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0E86-5674-4CC5-BAFF-31900A40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05A7-16FF-4E54-9A67-F5BE1098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DE9B-7266-4EF3-B7F1-9D923E20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46FD-6B12-4FD6-B243-6B17EE5F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EAE5-BAE4-4C21-B434-82043126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69AF-EB3F-45F4-AD2A-AF77EA72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C55-0B69-47C5-AA05-144D249F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587-2B63-4163-879F-46B96B29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F68-E8B5-4D5C-BDBF-F5E85F3D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45D-1E92-458C-A658-4080FE63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1F0-5217-4885-BB97-7F1E891C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30EE-92B3-497D-94D9-3D2F058B5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5E0C-94CA-4416-977A-26806E8B61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D632-5223-45D6-A3B9-1D81ACCD0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Receiveth Sinful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Sinners Jesus Will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 + 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from Neumaster (1718), Tr. Emma F. Bevan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rist Receiveth Sinful Me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hrist Receiveth Sinful Men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Char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052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Receiveth Sinful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hrist Receiveth Sinful Men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hrist Receiveth Sinful Men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hrist Receiveth Sinful Men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hrist Receiveth Sinful Men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Receiveth Sinful Me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52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Receiveth Sinful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Receiveth Sinful Me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Receiveth Sinful Me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Receiveth Sinful Me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Receiveth Sinful Men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Receiveth Sinful Me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052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Receiveth Sinful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Receiveth Sinful Me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Receiveth Sinful Me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39Z</dcterms:modified>
  <cp:revision>34</cp:revision>
  <dc:subject/>
  <dc:title>Slide 1</dc:title>
</cp:coreProperties>
</file>