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D09-B5F0-42D9-9D47-0CBE1845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BE4-DE89-4A32-8003-24C1EE20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E35-AFEF-4661-9E59-7DB67C73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9D1-FC7F-4891-9370-C75DCF5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4827-C521-4E38-AAEA-021E4734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7E7F-7C60-4D5B-937B-A36F3799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D15B-35CF-4F60-BEE1-40B4F008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F076-5C88-4700-9570-A9F5930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3004-AF99-47C9-AAA9-2B7FDD9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DFB5-F9A8-446B-9247-7AAFCD9D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D7CA-1B0A-4D51-A277-ECA8E97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0E4-AE52-4226-BF83-B2459334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4F7C-0C68-4445-B817-971B3A9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CF03-38D1-4536-AEC1-D468209A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C8FF-E859-4F51-ADC6-F82B7E5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6B3D-8200-49CC-B927-5CB35811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474-E191-4587-BB09-8A62B15F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5B2-7B0F-4CF7-9BEE-D302594E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C6E5-28F4-4E4A-B09B-A8117C6E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74ED-CF9B-43AD-BFE7-C0CB2BEB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DF70-AAB6-493C-A34E-4AA06E5D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669-2E50-41AC-B299-4A51DAC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2EEF-F33A-40DF-93C0-30FC4491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8C04-BD18-42C0-A71A-854B2733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3C89-891A-44A3-9A0C-0E7FB03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82C0-5800-4414-B5D2-F8AF2D85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7750-3696-4264-A14E-B0991EF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682E-D0A5-41DE-B45F-0B9A9B0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38C7-1E84-429B-8A04-958AB2C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90BC-E7D4-49A9-A2B8-59ECDCC4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6C24-2A09-46A7-A055-716BB47A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519-E066-4C92-A6C5-82305F3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EA9-4CA4-43A2-976E-FAF1466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6EB-A9A2-4B89-9341-7E2CB58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063-6185-40F0-B532-BA9AAF4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24C-4321-416B-9AD0-7A16C5D4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9ACC-6464-4AEB-95EF-5F55E3898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033E-E834-429E-B9BC-E5F2A41F3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2D1F-F19C-407E-9EF2-6D04A0FCE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r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r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r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r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r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r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r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41Z</dcterms:modified>
  <cp:revision>28</cp:revision>
  <dc:subject/>
  <dc:title>Slide 1</dc:title>
</cp:coreProperties>
</file>