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5D8-AA82-4C57-81D3-091FFBBE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08C-11F2-45D0-A952-D789E81C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775-A38C-41B6-92E2-D78B9710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428-31F8-4553-85CE-DAA6EAB8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ACE4-4FC7-4897-877B-139D0640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D8C5-BF68-4AAA-A8D3-89DEDAE6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327D-85CC-4F2E-AB89-C8E12B35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4038-62B0-4574-894B-E3A46933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0F80-B979-457D-98DA-EB7FBC75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6083-C8AF-49A6-B9D6-4D0EF780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42A2-6DEB-434D-A606-5079F3AE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DAF-AD8A-4B11-B8BF-0694ECA5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8266-D0B6-40E1-93F2-67FD5117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76E8-8B96-46FA-82F8-681E2F59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79B6-3282-4F9B-B2FC-9052527A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D965-8387-45BE-A707-7D5865F1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08F5-B16A-4EB8-ACDA-21175AF2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101-A3AE-471A-A89E-8B57EF34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D95FE-C192-4925-93DD-8230C886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151D0-B1D2-41A5-88D4-083B5772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ACFB7-3F69-45CB-9EFA-59A16B11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FDE-9FC8-4904-A57A-DDA9F5FA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12DF5-C83F-467E-8AF1-A3220C13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619D5-5576-4F31-A6D5-2B98E8EB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33B9A-5F6E-4E00-A426-3081B9F0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F817E-FE63-4F0E-B0ED-298AAA94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1C90D-B120-4865-8380-44640015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2ADDB-8A81-47F0-A14F-936FC35C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16376-84AB-4E99-8D74-915634D6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99910-C5C1-4AC0-B7DD-6B78DB94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B776B-701C-47F1-AFA4-6E6512E0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6CB-2020-4548-B0D2-EC28FE17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5964-A503-4545-A417-533780C5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9A1-8668-45DF-AF94-D2A6B893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6CB-1F06-4350-8762-8F55DB66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8E3-2013-420A-8671-8D26D911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5499-2A31-4F3B-89FE-AE3FE3401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7AE4-281B-46E9-8AB9-BB0820F410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1E63-A712-40E0-AD96-E79F08567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Return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L. Turner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hrist Returneth_arr2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2440" y="648828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Return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hrist Returneth_arr2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hrist Returneth_arr2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hrist Returneth_arr2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hrist Returneth_arr2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2440" y="648828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Christ Return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hrist Returneth_arr2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hrist Returneth_arr2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hrist Returneth_arr2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Returneth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2440" y="648828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Return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Returneth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Returneth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Returneth_arr2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rist Returneth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2440" y="648828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Return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rist Returneth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hrist Returneth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rist Returneth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4:57Z</dcterms:modified>
  <cp:revision>30</cp:revision>
  <dc:subject/>
  <dc:title>Slide 1</dc:title>
</cp:coreProperties>
</file>