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D75-AC76-4BDE-8C3E-5E6FF1A9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6DC-C44D-449E-A70B-F52D29ED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CD6-DD5A-4F67-9C8D-1E2D4BDA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D7A-CFA2-400C-877E-97627541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6C40-5417-406F-AB43-F291166C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ABC-474F-4B2F-AA9A-14AB77F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C86-AC5D-4B5D-8108-EEA1471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731-6EBE-4990-BC1D-DC2FE6D7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F315-8B2C-49A5-BFBE-7DB6B82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DE2-4EE2-4EF7-B8B9-475ED0F9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A0C0-13A3-406A-98FA-828688B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E00-E39B-4E5D-8D5F-D66A32A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C26-924F-4284-82CE-7FF39FA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ED02-C82A-47F9-BA88-02E6EE0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E361-524C-42DC-92E1-2D24636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453-B430-479E-87A9-6ED7398E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C898-547B-4C8F-90EE-009F3914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52E-9D6A-417B-AB19-AD21448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7EE0-917A-49FB-A382-1CAEF9E0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F6E6-BB4D-46D8-AD7A-636E19F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3924-EE29-4469-950A-1472182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560-43D3-41B8-9FC0-2B66815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F82B-10C3-4548-A8F4-8446A3AD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DD3C-B949-47E4-87E1-E435851C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E32E-0F53-4BE6-8C37-D98CFE4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F30D-C3A2-41E0-AE63-980F74E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E361-899E-407B-8DCF-C877EE5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A7AC-1650-4230-858B-18773A8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E31D-88CF-4FE6-9DE6-B17E8A04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EC66-0FF9-43CA-9062-AA14E8BA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27F2-09B7-4258-BB22-BC30738D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023-40EE-4909-8E45-4C02E3FD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E39-61F6-405C-BBB3-E168D14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7DF-12B4-4FAB-AED8-A9C7E7F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A1A-1C4C-4487-91F4-B6A43C1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2B5-9D84-4538-871D-5647260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522-18DD-4A42-B8B3-D48DAF0FC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33A-DED8-46BC-BBA0-C5BCD26C6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B09-7067-4C7D-9B54-7C5BCB770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For The World We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olcott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ce De Giardini (17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For The World We 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For The World We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For The World We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For The World We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For The World We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For The World We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For The World We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For The World We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For The World We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3:19Z</dcterms:modified>
  <cp:revision>30</cp:revision>
  <dc:subject/>
  <dc:title>Slide 1</dc:title>
</cp:coreProperties>
</file>