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024-A874-4AFF-9EEE-71A2CCEC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306-614E-47AC-8266-F423F24E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2D1-0305-454B-B039-8D736743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7D0-B4E1-4D71-A96B-3CADFEAC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DC6D-4A35-4249-912A-A43A1EA0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ACC8-023B-4FDB-B430-D7D5DDBA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5121-375B-4F4A-A8C6-0494010C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B123-7905-4675-8D71-91179536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D8B9-FF7B-4F52-8209-2966FEAD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9FB6-5A33-4670-84D2-BCF5AB54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3E95-0F98-4C5F-88C2-100BF139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5FA-A59A-47F8-A539-60D3F000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3DEC-B225-443B-9BD0-5E00754E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0ABE-1B33-47F8-B8E7-DACEBA3E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6A9B-CA0D-403A-BE0F-746279C3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6DAB-D9C3-41A6-9D04-7BE6CD40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6247-BAE3-436A-9C18-073E7ADA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82D-8DDD-47AF-A074-A9B39478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7F71-BD53-4610-A690-B3EE501E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6D18-4D68-4204-8354-79B6C84B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F763-7AC5-4085-9E3D-D556994A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C81-AB46-4630-AC32-F06DF9E3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C059-5C24-451A-A50C-83D4EBE1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6F4A-D176-4888-BC21-3984D364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3D05-CE6E-4F5B-86E0-3A009B40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02F2-B835-428F-B8C3-14088490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A1A8-D848-4851-B568-C1CB843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9594-2F9A-414A-ACB5-F3015BA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4618-645B-4353-98F7-B7965F52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4C3B-00B8-4CCA-AA91-18B0A8E0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99184-51BF-45AB-AFD9-9E786FE5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ED4-715D-4BBD-9D8D-4910C3A9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F6D-BC6D-45AE-BD3E-57D63F67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6C9-9EB0-4AE0-8820-B451BADF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6CB-E67B-49E0-9552-2EB578FE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D65-34AC-4884-92EC-2159301B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CE27-9D44-4901-8450-1BF92F48C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FD55-1A58-4166-81FB-1BC6AC035D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282A-462D-4F92-902E-52C8FE52F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an You Count The St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ERNENZ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8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ann Hey (1837), Tr. by Elmer L. Jorgeneon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rman Folk Tune (c. 15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an You Count The Star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an You Count The Star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an You Count The Star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an You Count The Star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an You Count The Star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an You Count The Star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an You Count The Star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an You Count The Star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an You Count The Star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an You Count The Star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an You Count The Star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an You Count The Star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2:13Z</dcterms:modified>
  <cp:revision>32</cp:revision>
  <dc:subject/>
  <dc:title>Slide 1</dc:title>
</cp:coreProperties>
</file>