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C99-12DC-4F4C-AE8B-67EF2C72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C02-EFDF-4DEF-A58B-63B40C69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0F4-03B5-4211-9D8F-0614F77F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73A-CA95-4681-B0DE-3A6AD810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6E0-95A1-4C3B-9803-94DCB44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C565-AAF1-405B-9DF0-AA8832A8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13CA-D72F-4DF9-AC17-CF597BC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53F-283C-4E5D-A316-5C8CF4F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3EA-C532-4037-B7C3-E241B39D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263-C94D-4AF3-8CF0-9F9B75E6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32D-387A-41F0-A444-6829D3F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8EB-63A6-420A-84C3-98C4E80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934-7BF3-43D0-B530-1342D5B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4D4-1A63-4CDB-B082-28908E5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31E-4A8B-4622-86D3-037D6790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F27D-407D-48A7-B1D5-C7829980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9B3-06C4-4E8D-9F8C-BB8EE1F9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38C-98D2-4824-87CE-45D9A75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49F9-F8F6-40FF-8AC7-D3A2883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7C8B-3FAB-460D-B19E-F306D5B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3B14-52C2-4670-8C43-083B5CC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691-C29B-4489-B4A9-5C1A764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DB75-9DDC-438F-B2D3-0C4FF68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DB7A-E4A0-445D-A21E-00725EF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720E-4A54-4F1E-998F-29DC8D75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E2FD-7712-4C50-9635-E8DF945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B435-5855-4486-9A05-A10AD78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B97F-A75C-4625-B778-AE41F943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D516-9B11-4E04-91B9-E058FBE4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2F7C-9509-4694-80AE-32DC2EA7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91E7-318B-49E7-B42E-89F4D35E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D33-7ED9-4735-9D19-EC18FB1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BD0-32A4-43E0-B0FB-44C3FF0C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4CA-1045-43F8-8137-71333CD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E67-4879-44F2-9DF4-B468D35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B20-B63A-4227-BE57-4778F465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8FE-6B19-46F4-BA47-23333F572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02C3-4D3F-4513-84BA-06DDE3FED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24D-47AF-485A-9BE4-7AFE3C4BB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Sinner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ile Jesus Whispers To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E. Witt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Sinner Com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Sinner Com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Sinner Com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Sinner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Sinner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Sinner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Sinner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Sinner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Sinner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Sinner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57Z</dcterms:modified>
  <cp:revision>35</cp:revision>
  <dc:subject/>
  <dc:title>Slide 1</dc:title>
</cp:coreProperties>
</file>