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ED9-07C6-4FC0-9B78-CC736892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D51-DF60-4AEA-B9CB-115C4810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19C-6458-432F-A30E-69946265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AB2-56CB-4533-89BE-F86A8328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572E-9066-4525-8B40-DA32A842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C083-382F-4844-93E9-F4E9ED19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3D57-360E-4C6C-AE04-9E3AEA0F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7DCD-0F58-4656-AEAF-58B7A12D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2CDF-3FD3-46CE-9D23-F9EB71D1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0A1C-A22E-44A1-BAE6-2C7A5DE5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36F9-7D36-421C-A480-8ABFAFED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21A-2BE6-4F64-BB9B-BC7E9143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5140-C603-4510-AB2C-2B200551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0EDD-D3BA-48BB-8DF9-88F656E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619F-DF26-4E02-97D8-39CEADCA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B88B-94E1-417A-8D27-377855D0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8FBE-C924-4708-BA48-6F254D18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23F-A3D2-42CB-B6CB-A6A83A13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A180-96CD-4688-A0DA-DCBE705D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C923-BC91-475F-9A74-B2B12FD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B67F-4204-4D8D-A305-3F72FF73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F6F-0F8D-40D9-B8CE-6BEA0166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A9FF-5FEF-4B42-AFA9-CCC919DE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2F69-6088-4BAD-BC50-7A75F8BC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6746-5892-418B-A989-B32A4E01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DAAA-F154-4F0D-8557-48E3CB89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CFDC-68EC-4A39-928C-69D2BC99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3816-5691-4283-9D58-2026318E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7AE1-ECCB-4A1D-8500-4357E252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8997-9CB1-41EE-9402-D4094B46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777BD-14E0-4955-A402-C85AD7C5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7F0-A731-4999-BA14-9E499F23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48B-6BB1-4FEB-9432-DE5B21E1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A67-71C2-4A18-8A12-C4CCFFCD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85D-5F70-491E-AC89-342336CD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7E0-E4D2-4352-AB55-945F87BA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94DE-9369-4BDD-A00B-E35B6C4D0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6FD7-A768-4185-8232-5A751DDD1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EB30-9237-4D8B-8C6F-81A94C3AC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rown Him With Many C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ADE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tthew Bridges (1851), vs. 2 Godfrey Trhing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Elve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rown Him With Many Crowns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rown Him With Many Crowns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rown Him With Many Crowns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rown Him With Many Crowns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rown Him With Many Crowns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rown Him With Many Crown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rown Him With Many Crown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rown Him With Many Crown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rown Him With Many Crown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rown Him With Many Crown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rown Him With Many Crown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rown Him With Many Crown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rown Him With Many Crown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rown Him With Many Crown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rown Him With Many Crown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rown Him With Many Crown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50Z</dcterms:modified>
  <cp:revision>21</cp:revision>
  <dc:subject/>
  <dc:title>Slide 1</dc:title>
</cp:coreProperties>
</file>