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33DC-52D3-4762-8620-2AEC13C6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E560-0ACE-4088-A415-40968F46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EA0B-8825-4DEE-97CD-438FFF97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BF0C-EB7D-4AB2-B4C3-916D5173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E04A-DEB3-4775-BFF6-2F25A3F3D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6BDC-1134-4E95-8970-2D139445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B029-EA0E-45FA-BEF0-934CB8B1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603A-CDB9-413B-9BD2-A52C44D4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3BA0-B39F-475E-93E4-F06CB17D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33EB-B389-429E-8859-5D038C6F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4E46-B385-4C87-86E4-1EB7EAEC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9A1B-950B-44F1-ACC2-E7854C14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31D2-43E8-4E64-BB8D-E92BFCE1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610F-B03A-49FE-9328-C4BBF638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9711-7C46-4963-8767-45F9616F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6D76-C6BF-4AA0-9D54-6683DF5F8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5EBE-DC74-45BF-A49E-556903A3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9CB0-8C67-4D01-A453-680329A2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4A48B-81DA-4FE2-9F68-8CE0A676B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FE6C2-2DC9-416F-80F7-BDCF9B0D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5884E-E73B-47E4-B183-23A2A964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8C7D-A383-4AA0-BA97-60DCEA6E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FAA8B-6803-4D11-A7D8-56924A46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87FF4-A9F2-43BC-B55B-0036BC5D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F1266-3B0E-4ADB-88F2-02772D07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5DBA1-3F5E-43AE-AFF9-94F3E6C2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D051E-A15C-4F38-85C9-C12A6653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44D71-4A87-4AA8-A2C7-AC2E3411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70150-BD7C-4214-82EF-40028411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DB83E-DC11-4C65-9BA8-8772A111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0E7F8-CF47-4E48-8985-4DBADE5D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5D3C-8E37-43C1-AA70-F1CEE63F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7FA6-16FC-43F3-A596-2BAE43FE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7D42-14F7-4E10-8816-5BE37889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E92F-F73D-4C9F-8624-AB91DF98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894C-5937-416D-B788-0962C8AE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16A3-A07F-414E-80EE-92B72F044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804C-32BB-4A98-9650-834E478DDD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4B82-9696-4CAE-B098-F9555A57D3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ome To Jesus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F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R. Latta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Tenney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6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ome To Jesus Toda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9160" y="648828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ome To Jesus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ome To Jesus Toda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ome To Jesus Toda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ome To Jesus Toda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ome To Jesus Tod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9160" y="648828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ome To Jesus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ome To Jesus Tod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ome To Jesus Toda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ome To Jesus Toda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ome To Jesus Tod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9160" y="648828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ome To Jesus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ome To Jesus Tod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ome To Jesus Toda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ome To Jesus Toda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6:56Z</dcterms:modified>
  <cp:revision>30</cp:revision>
  <dc:subject/>
  <dc:title>Slide 1</dc:title>
</cp:coreProperties>
</file>