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FD7-C9DF-4354-BFBC-2793B92E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192-64F2-4F41-9309-62CCDD22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B12-4A30-4B10-82EF-1461EAAC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81F-784E-4B78-AAFE-DC286E20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6306-E70A-4692-9C86-EDDE498F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221E-0B7A-43FD-8A45-3D5DB8AF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B2FA-4D33-404A-9873-4EBEC2B7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EABD-450F-428B-892D-60ACBA1C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65EE-1F54-4096-A7A4-7EF377EC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45BE-70C4-4CBA-9735-3C2F72D5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8C9F-D2BF-40B5-80CA-71385C21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803-01BD-46D6-B2DD-67561D68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0234-352D-4D59-95C9-97BAEDBC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5CBD-CA7E-4A6C-A488-12FBAFED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05F8-03D0-4AB1-B134-E0068C8D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F730-1CD4-4275-BF4A-024053DB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BEB6-2169-40A9-9F07-2C83D06E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B99-2C80-4183-ABA2-39B8B059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8E0ED-6F8C-4A30-B6DC-D9FA01F1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085A3-8C3B-4778-860A-4CC85F10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55EF-24C9-4E14-B1E7-1F221FE0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D36-72A4-41B4-815B-CCC904A1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02AC-0FBF-4727-A4FC-BD949506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EB65-8736-41B9-A583-5592D9C3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9ED4-6834-4651-81E3-70952FE5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7FBD-9B69-47FA-835F-03746136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9FAE-7010-441B-BC57-29CA006F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259EB-AC0A-40C5-8409-529250F1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F129C-C740-4A15-B01D-3453536B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FE5B-40AC-445B-9037-CB30433C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0FB7-6CA3-4039-9D2C-11C823DB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322-F732-41E6-AD36-65DCF993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806-A8AA-4286-8D49-48158F42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DD1-4206-4546-B207-CC83361C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1A9-840F-45D3-BC32-DBBBB455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47E-91A9-4F3F-9F5E-B450224C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CF1A-C4EC-4A5B-88FC-C4C7D8B25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4C0C-95F0-4CE3-A9EE-4F1178F0C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771A-ECEF-44CB-8FD2-DC8A9BC0C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The Lord Has Risen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4080" y="4902120"/>
            <a:ext cx="14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lsey (17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alsh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yra Davidica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7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Arnold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omplete Psalmodis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7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Diagram,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12Z</dcterms:modified>
  <cp:revision>32</cp:revision>
  <dc:subject/>
  <dc:title>Slide 1</dc:title>
</cp:coreProperties>
</file>