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A9EC-A6AA-4EB1-938B-AF94F3DC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5BC7-111E-4223-97B5-5199BD96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D6EA-B477-45FC-B473-84D535FE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CCF4-9C7C-4CE5-B98F-712EF7ECA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0E71-0FDC-4743-840E-6DFB1335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12CA-39DA-4C83-8FD6-B5344F2E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079A-D3A4-4DA9-A190-E0135B5B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F376-AC20-4EBD-9E19-A8844287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2B0B-DFB4-4CF8-93F7-47777959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1A17-CD16-4FF4-8182-22EC6603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0179-FFE1-47E2-8315-61F7A2D0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9D62-A930-47D2-8DAE-6E7BA036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55F0-7C05-45D7-A9ED-FB831B7B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DE28-0A20-47AE-B796-E5410403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1B68-17DF-4506-AAC2-70535C64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2A96-DFC9-4BE4-AB0B-4319AA242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9C0D-7A59-463A-9B06-B78DBA832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459C-0A35-429A-9228-B7FBB0DC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2A74A-67FB-4DB8-BF44-CDD313013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56EA4-F564-4307-96F2-C133852B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4BF1C-31AD-40EF-BCD0-EE9FFF1D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341C-181A-478B-A403-F25B9AE3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6FCED-C13C-4031-B12B-D0F31EA8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ACD20-DC10-4D83-985B-B3C1A9A3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21DB5-1B7E-4280-98E8-143835F8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26F7F-6756-42B0-8D5B-DEE33B3B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F90D9-84BA-4DB7-86C3-AA0C025A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FB2BC-7C2E-48F9-A863-27133384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A626F-6CF2-4CD4-94C0-34C84813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573ED-81A3-4BA0-8B93-0D8169913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AA67C-C9C6-43F3-9048-DD87D70CB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AD15-A002-4B85-A771-24C30B8B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BD91-1D52-4FCD-8B7E-4724283B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ABDF-CE3A-4290-B3B2-AD57573D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E8C1-87B5-4FD2-95F6-813AE01D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7B2B-B34C-470E-A097-F05ABBE3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5F27-302E-4237-8FE3-3230B4FF6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B658-729C-42A9-99A0-53D79D2A12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B9F6-66D3-4E96-823F-E1C2ACFA47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hrist, We Do All Adore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C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eodore Baker (18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eodore Dubois (18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hrist We Do All Adore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8240" y="6488280"/>
            <a:ext cx="39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hrist, We Do All Adore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hrist We Do All Adore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hrist We Do All Adore The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hrist We Do All Adore The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7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5:30Z</dcterms:modified>
  <cp:revision>21</cp:revision>
  <dc:subject/>
  <dc:title>Slide 1</dc:title>
</cp:coreProperties>
</file>