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7AD-6432-47D0-9C3F-02972D1B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E89-467A-481C-A3AF-18C1F7AF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2AA-56E5-4211-9A55-6701563F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791-F927-4B5C-8E6B-86F9FAE7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1A4-05AB-4AB6-91C4-94DD4F45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34BA-F97F-4CA3-9707-9F9D66E9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371-E992-4720-B934-E0FB60A3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D597-DCFD-489B-8693-98EAD85D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0D56-CD21-417C-B7BB-0248C07C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F4A9-AA02-43CF-9C45-24CAFC18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E310-6662-4F08-9B7B-D68E7DF4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C07-E8EE-4461-B577-7631E34E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EB29-B7E4-41C8-9A34-666D82C8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9F12-BD8C-4C58-8286-F18D351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51FB-DDD3-4662-87D1-05BB2E0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B588-1564-4762-959B-077E6578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AD9B-FD98-4F12-900C-ACE47D7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8B0-9606-45A7-B5E6-EC8EC7B5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1705-7A77-460B-8FA8-1FBFA836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D2C2-1D8B-4DD1-B63F-F444EA1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ADAB-AE3D-4AF1-A91D-FCC432BB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162-E4E2-44DD-92B1-B47D3582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35B7-F96C-44BE-9599-B4250E35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D1BF-6EAB-4F61-A2A1-63108419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0C97-4A3B-49FA-BED1-BB894BA3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E867-AE5F-4214-AE9B-ACC55415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18A6-BFBE-492C-859B-2EB3F5AB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C314-6226-4411-B99B-C6059DD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A1E41-E07A-4CAF-8C94-E0F17B0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C2CC-76F5-4DA7-884D-E7E9FCDB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AA88-3897-420E-A0FE-B2395877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44B-9F3D-444F-BE46-3DD42730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84D-D826-47BF-BA72-9387A7F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F5F-20BF-41FC-A8D9-445DEBE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F56-CD3C-4E91-B267-07B150F8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0E2-D77A-4500-9BD3-D022D399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C9C6-1374-4BE1-9CD0-0F3B26BF8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5741-D161-4C24-97DB-F880F45AA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1AC-70C4-4548-AD7F-FB434E575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unt Your Bles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in O. Excell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unt Your Bless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unt Your Bless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unt Your Bless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unt Your Blessing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unt Your Blessing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unt Your Blessings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unt Your Blessing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ount Your Blessing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ount Your Blessing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unt Your Bless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ount Your Blessings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ount Your Blessings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ount Your Blessings_v4o4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unt Your Bless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unt Your Bless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unt Your Bless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unt Your Bless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unt Your Blessing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unt Your Blessings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unt Your Bless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8:08Z</dcterms:modified>
  <cp:revision>29</cp:revision>
  <dc:subject/>
  <dc:title>Slide 1</dc:title>
</cp:coreProperties>
</file>