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E18-D620-4B6C-B5E0-FD854116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E41-8388-4B84-B1FE-955524ED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3A8-A3E6-4679-9F0F-026FF0E3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847-73AF-41B7-A4A0-036124A5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F1FF-2B8B-4C72-BC00-3D60A249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F60F-341F-4827-9EB6-8E597357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1605-FFDA-4CAE-A2EE-B1C23AF7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A1D1-8FC7-4FE8-8980-1AFE71B2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E03C-066F-45B8-AB12-AC8C2EF9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ADA7-146B-46C9-B5AD-0739FA86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25A0-B885-48FC-AAEB-6293F58D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EB7-D293-49CB-9775-02728E13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6296-F107-49EA-B322-D7157085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2FE6-4997-46BC-B9CD-4B71EAE6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D01E-5AC5-4C1A-AB2A-4A8FEC52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1550-2522-478C-8B41-B0D3BD8E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59A3-C291-4871-831C-67CEBFDE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583-1BE9-4E15-8BF4-44C32A03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F48ED-30A6-4727-BBBA-48DF3094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75640-AA51-40B3-92D7-FBEB3578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CEA93-E31F-4A4F-9167-C08EDD25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8EA-46DD-4877-953D-165ACAEE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BD772-72DC-4FAA-AB3C-45ADF6E6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B988C-BA2C-4F86-84EF-16AD84AC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E52E8-A7A2-4B2F-9CFA-F5C8D838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D6B9A-7FFB-42F9-8C9E-59DF7547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DD409-EAF1-4178-BCAA-0EF32C5C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D59D-7DCD-4101-A73C-D1E14D3F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4C139-25DA-4488-9F8D-0B9D0703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2D695-78ED-4023-8062-68EEB781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24532-8185-44D0-BF8D-0E2340D2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95E-0308-4364-962E-F387E07F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317-BADB-4FA3-A6C1-F2DE57A1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688-A494-4253-A42C-E563AB3D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DA6-1BEA-4B77-BCC2-C39C3F88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550-B069-4DB4-91B2-CDE0E25A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B507-B1C7-4D77-BB52-3C01DCE34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2D48-26BC-47DC-9BAF-7869B13C05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CC2F-A7A3-49AB-ABA1-4226C38FC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, Ye Thankful People, 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GEORGE’S WIND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Alford (18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J. Elvey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ome Ye Thankful People Co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2200" y="6488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me, Ye Thankful People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me Ye Thankful People Co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ome Ye Thankful People Co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me Ye Thankful People Co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ome Ye Thankful People Co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42200" y="6488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Come, Ye Thankful People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ome Ye Thankful People Co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ome Ye Thankful People Co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ome Ye Thankful People Com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me Ye Thankful People Co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2200" y="6488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, Ye Thankful People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Ye Thankful People Co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Ye Thankful People Co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Ye Thankful People Co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Ye Thankful People Co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2200" y="6488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, Ye Thankful People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Ye Thankful People Co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me Ye Thankful People Co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ome Ye Thankful People Co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7:34Z</dcterms:modified>
  <cp:revision>33</cp:revision>
  <dc:subject/>
  <dc:title>Slide 1</dc:title>
</cp:coreProperties>
</file>