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F65-0AEA-4E95-85C8-8581CA02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60A-141D-4E60-9149-1B901A5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711-1B6C-483F-8026-ED132D23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88B-AE95-4069-A107-85730AAE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6D8-D4D2-4320-A346-6A113DFA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C26D-753B-40EC-B590-1E74A40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B44F-4A95-42ED-B38B-FDF20DF3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DDF9-731D-4A5C-B461-2246CD6D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A9AF-9B1B-4A71-9391-4988C3CB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376-1763-43EE-8A30-EFFBC9F0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B636-E92F-4BD7-A59B-53A3733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A04-D2DF-46E2-8776-D7612BA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68AB-F15C-4E34-8A88-FE14137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C1DE-62CA-4EA8-8E6B-0EA001E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131E-CFC7-40E7-A2E1-C056FE3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E79E-4C2C-4A20-90DF-2E5D9B6C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E62C-F568-48C5-9D43-D7F2914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EF4-3363-4265-B0EC-3C26F3F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32F-0F27-4510-AD7C-A85FB30A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BC5-762C-4C91-9744-902CD16C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FC1-A453-415A-ABBD-C25AFF1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36B-99AA-41C7-819C-894014D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2EA-6ACB-477B-AEA2-71315AA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675-FF7C-4487-B59C-DB9C44A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0A9-50D0-424C-AF85-79D1B829E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2A5-82A6-4A29-90F7-B97E3F54F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t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as! And Did My Savior Bl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, Ref. Ralph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t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t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t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t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t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t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t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t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t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t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t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t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t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t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08Z</dcterms:modified>
  <cp:revision>29</cp:revision>
  <dc:subject/>
  <dc:title>Slide 1</dc:title>
</cp:coreProperties>
</file>