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EB6-9F14-4E8D-9DB2-40D935E6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17C-2636-4B74-B2DA-DC6A681A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7EE-2400-414F-A6F7-8AACBC47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92A-97CD-48A3-8950-B50ECB6E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121F-CC08-4BF0-B688-0FE5DE17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408D-FC5F-484C-AE64-652D0622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A266-4F43-4CA8-8046-17C16108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A0DD-0756-4269-B775-67E884FD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3E0E-79A7-43C5-9526-5E95F527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2E0F-D12B-41F7-9C39-ED7999C6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D81E-7A94-434F-997A-5F9DDB67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4A2-79C3-429D-A3DD-396BDB29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4EB0-BC9E-400D-B135-D1C35B6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66A7-F8C2-4182-AA19-616541C7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C092-C562-404B-B742-4DCA171C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7333-F577-48D2-B19A-D298F3D5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B4AB-FCD9-4702-B527-DB92C05B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307-7FAB-40CE-BB27-A8BD75DE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7E2-E6E3-4CB4-9C34-DA852252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509-8A7B-4945-89B3-CF2FA3AE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478-DE68-4987-AEE6-9C0BC785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58D-570B-47FC-A0F3-231C6025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40F-B29E-499A-AC61-AD24A022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573-206F-402F-95A0-35753B5A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08A8-7461-4512-AEAB-75671A306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D6A2-F236-4228-A4C8-29FEE5EB0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eluia, Alleluia! Hearts 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DE TO 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opher Wordsworth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ethoven (1824), Adapt. by Edward Hodges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eluia Alleluia Hearts To Heave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53720" y="648828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eluia, Alleluia! Hearts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eluia Alleluia Hearts To Heave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eluia Alleluia Hearts To Heave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eluia Alleluia Hearts To Heave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eluia Alleluia Hearts To Heav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53720" y="648828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eluia, Alleluia! Hearts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eluia Alleluia Hearts To Heav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eluia Alleluia Hearts To Heave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eluia Alleluia Hearts To Heave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eluia Alleluia Hearts To Heav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53720" y="648828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eluia, Alleluia! Hearts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eluia Alleluia Hearts To Heav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eluia Alleluia Hearts To Heave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eluia Alleluia Hearts To Heave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57Z</dcterms:modified>
  <cp:revision>36</cp:revision>
  <dc:subject/>
  <dc:title>Slide 1</dc:title>
</cp:coreProperties>
</file>