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B64-F5E1-4CD3-876E-47F93B67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BEF-3D4D-4913-A796-03DF6DC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044-D558-47FB-AC56-EC621C8F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36A-DCDC-4A3C-BDF8-11616C8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712C-2F61-40F1-9015-6AC58B8A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FA5B-F23A-49C5-A8A0-25F26F6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815E-4585-46F9-9307-CED147E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F89-5820-4E07-B5AA-34A54B89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DEC-2B13-471B-B45D-DABEB39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E7A-BCDE-4738-B421-7D134878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7FB9-09FF-42E4-8A19-DD49BE2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D1E-60CB-4C70-B06D-0F7264A1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E3A0-4B45-44C8-B033-43C7980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0A6-3ACD-473F-9981-BDFF39A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D6B-8D41-4423-ACDF-6F1F031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472-AE57-4992-9CC4-00B65B3D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9578-939C-4C81-B10A-504A080F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971-FD82-4C2C-8D8D-83B16502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4DC-EC23-4BE7-991F-9AA2817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5C6-D46D-4E2B-8725-3535C47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763-F299-4D5A-BF91-12112593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A9C-AA13-4EC9-A870-5E302D8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9D0-0480-4E7F-807D-6A59E9E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47B-6B4B-4520-876E-1A4AB54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4F9-751B-437C-9D53-09A8DA96F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B901-76EE-4395-9840-F8F773809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People That On Earth Do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00, Arr. by William Hethe (15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uis Bourgeois’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People That On Earth Do Dwell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People That On Earth Do Dwell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People That On Earth Do Dwe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People That On Earth Do Dwe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People That On Earth Do Dwe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People That On Earth Do Dwe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People That On Earth Do Dwe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People That On Earth Do Dwe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People That On Earth Do Dwel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People That On Earth Do Dwel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2:04:06Z</dcterms:modified>
  <cp:revision>32</cp:revision>
  <dc:subject/>
  <dc:title>Slide 1</dc:title>
</cp:coreProperties>
</file>