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5EA0-6170-4E06-B300-FE8DFC82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3F8F-9D66-4C67-8E20-A685B69F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6256-69DD-4981-9C0D-832E83CC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8A6E-863B-4534-AD41-C27E8BFD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115C-291F-47F0-8844-B749F0B7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1F2F-401A-4229-84E0-E3A124F3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C771-F287-49C4-8963-FAE16D91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7DB5-F5C8-42EF-8078-40FED760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EF1A-F185-4A4E-863C-464E4DEC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C81D-8EC1-4CA2-8D61-4FCE47B4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A24A-F2AA-4992-8348-F5C28924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2812-AC94-4242-B923-CBBC2E51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F583-FBB0-4168-B1FF-E585860266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ll To Jesus I Surr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I Surrender 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F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W. Van De Venter (189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S. Weeden (189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All To Jesus I Surrender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112320" y="6488280"/>
            <a:ext cx="33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ll To Jesus I Surr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All To Jesus I Surrender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All To Jesus I Surrender_arr1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All To Jesus I Surrender_arr1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All To Jesus I Surrender_arr1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112320" y="6488280"/>
            <a:ext cx="33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All To Jesus I Surr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All To Jesus I Surrender_arr1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All To Jesus I Surrender_arr1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All To Jesus I Surrender_arr1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1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3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All To Jesus I Surrender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112320" y="6488280"/>
            <a:ext cx="33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ll To Jesus I Surr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All To Jesus I Surrender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All To Jesus I Surrender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All To Jesus I Surrender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All To Jesus I Surrender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112320" y="6488280"/>
            <a:ext cx="33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ll To Jesus I Surr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All To Jesus I Surrender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All To Jesus I Surrender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All To Jesus I Surrender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1:43Z</dcterms:modified>
  <cp:revision>43</cp:revision>
  <dc:subject/>
  <dc:title>Slide 1</dc:title>
</cp:coreProperties>
</file>