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83A-7201-4356-9FC4-CBD8B121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E77-00A2-4FA0-9751-347E604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DEE-DF18-44F8-BF13-1C495864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E5F-E6DD-42D5-A500-87BB8D0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9848-C37C-45A1-AF18-477B101D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B96-3E3A-429E-B393-5A67100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D70A-7500-45EB-9F8F-6A07599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0C8-A2FA-417E-B906-9162554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58BC-09EE-4580-8B9A-1FE1D05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2F1-4CFC-4E7C-97C5-0704D9D6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32E4-B338-4399-9DC3-E0E4660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B0B-999B-4BA5-A9BB-23E5B12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6047-CF76-4F0F-A885-A0755E20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2D8-9FA2-462F-AAAB-A239B04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E6B4-6A06-4602-B00A-54D71D8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9AA-35B5-4AC0-BDC2-1B10DDF9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67E0-CD12-456A-9B59-047A54D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DE0-7005-488D-9CC2-4EDCB33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AD5-52A1-4869-A4DD-B21B4F4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2C1-1B05-4BE6-BF60-DB03379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D69-8C38-45E2-8BD5-6AD9FA25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E94-2FCC-491C-8FAB-9BD7CB3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4C7-0473-442E-B178-8774E79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242-E94C-4973-AD4D-3260D60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0BE1-0BC3-4AEB-806E-D4C50AAA2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FB61-DE17-4888-8FD0-DE37FF51B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ove The Bright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ove The Bright Blu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bove The Bright Blu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bove The Bright Blu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bove The Bright Blu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ove The Bright Blu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ove The Bright Blu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ove The Bright Blu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ove The Bright Blu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ove The Bright Blu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ove The Bright Blu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ove The Bright Blu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ove The Bright Blu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23Z</dcterms:modified>
  <cp:revision>37</cp:revision>
  <dc:subject/>
  <dc:title>Slide 1</dc:title>
</cp:coreProperties>
</file>