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4468-171B-4184-A9EB-C81777201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D3FC-A63B-4BF7-BE76-26F67196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E0A2-501C-4062-9FAC-C56FE4D2D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619D-7354-4C11-83CA-BA113895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B628-3230-4A07-95F5-DCA48E1F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7F34-F060-4534-91CD-9286B0E3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FCD9-4F05-409A-B068-01CB9925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0B1F-360C-40E4-A4AB-3099EC5B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40BB-A9F3-4E84-A571-C2EBEDE6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8FB5-B67D-4783-BDDE-4EFF86C5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F04C-3D63-4464-9281-4D62AF99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4B9D-36BD-4791-8B52-E13620D6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0081-1231-4B62-9444-1932FF2E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803A-89B2-49E4-96D5-226BF25D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F1B4-518A-42E1-8C7E-F442A2CD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68E9-5D1B-4707-AF0B-1E66EE081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9FCE-BFE2-4203-A03C-F84DF2D4D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C5A0-77A9-4CF1-8CEA-A541ECDD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E12A-3AB8-41DD-97BC-38B2D58D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0451-1234-480D-AD13-EE0C6B67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7BB8-2FF4-4B3B-9E66-12524142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CE2A-A482-4214-B559-2660A764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B659-C9F7-4781-9901-88532957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45B0-E9A2-4145-A199-7A5FC85A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F394-87CD-4FF8-99AF-9600F4978E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3C07-D5DE-49DF-9900-ED619E88B9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ll Things Are Re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Come To The Fea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Gabriel (189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A. Ogden (189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117720" y="648828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ll Things Are 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ll Things Are Ready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All Things Are Ready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All Things Are Ready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1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3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ll Things Are Read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17720" y="648828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ll Things Are 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ll Things Are Read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ll Things Are Read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ll Things Are Read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ll Things Are Read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17720" y="648828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ll Things Are 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ll Things Are Read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ll Things Are Read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ll Things Are Read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0:59Z</dcterms:modified>
  <cp:revision>33</cp:revision>
  <dc:subject/>
  <dc:title>Slide 1</dc:title>
</cp:coreProperties>
</file>