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AD9-00DE-4A68-910C-DB6B90EB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35A-4319-4AB1-8D20-9FFDADB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5C5-1FC3-4664-B441-3DE03995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65E-0643-4B1E-8792-6BEEF65C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E634-19EC-4CA4-905D-AB58D718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6DB3-9B78-4230-9247-C92A24D6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7BD-4059-426A-9368-2EBCCFFF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11C5-7C32-4780-B23D-3CC8AF6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E5F-A74B-4EB8-8666-3A9BDB1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D95D-4CF8-4575-87BA-F12F41B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ED01-A705-4504-BDF6-5C5C2B8D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39C-17EA-4C68-BBDE-801D71F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CC59-8E01-49DD-A04B-F747221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AD7-766D-4DC5-8283-3E50E4C2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17A2-752A-4F66-92BF-59E5979C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353-803F-4173-B520-0F13EF2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C98-2256-483E-9DC5-F24A6647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39DE-A860-47EB-AB51-2B6515AC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6041-F4BB-418E-B8AD-EEA68F4C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8DDA-BAB9-4187-81BA-90FE81E3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8801-D329-4891-9260-0FE427E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93EC-7955-490F-A6E4-4D57BD8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FB3-8E33-48C9-B376-C238223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DEF8-BD8B-49EE-8605-ABCD6CC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059F-6BD8-41B7-A7EE-8B235C7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47E2-3F92-4522-B7FE-641347D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5D6A-DEE4-475F-A52A-9623A05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61D5-263B-4ED1-BC96-CEA65788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63D5-805A-4714-BE3A-FDE4013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43A7-2C43-4232-84FA-6CD76382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2CC-31CD-4167-9988-8B65460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E10-023B-4B6E-83DC-CD54B5A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7B2-9D14-45E2-8352-5DDFF6D9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C22-020B-4476-9900-7F4F143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AE7-8E18-4956-8B51-F084354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293-FD56-4AAD-A767-0018881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9F3-872D-4201-994B-F7166DF17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DA87-BCAE-409E-9CFE-CAEB9F61F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3E1D-4C8B-4184-BE28-3A002477E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gain The Lord Of Light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Barbauld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A. Arne (1772), Arr. Ralph Harrison (17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ain The Lord Of Light And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gain The Lord Of Light And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gain The Lord Of Light And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gain The Lord Of Light And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ain The Lord Of Light And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gain The Lord Of Light And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gain The Lord Of Light And Lif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gain The Lord Of Light And Lif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37Z</dcterms:modified>
  <cp:revision>38</cp:revision>
  <dc:subject/>
  <dc:title>Slide 1</dc:title>
</cp:coreProperties>
</file>