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795-DD8F-4CC8-88BA-7112CF6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1E2-4E32-450C-ACCA-34E0438A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A65-9D67-4A82-A24A-B0E11957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076-440C-4856-91B3-BED8CC65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7093-DF08-41F4-BC98-A8B64391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EA44-2173-4DBD-9393-502547C1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886C-4B5F-44E5-9F9F-39B93350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3D06-1C56-4720-90BA-CED81EF0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8BE-25AD-4DAE-AD1C-0EB9773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816C-530E-4679-9567-AF197F0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2213-5823-4BB5-83DB-CFE2F46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119-0403-4AD6-B868-D95B692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3562-EA6E-408E-ADC6-2C41EDC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EF9-1753-45BC-B248-D2245F3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7CE-3A76-44CF-98F1-61DD8071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E251-38D9-465F-891A-131D26DC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C35-99F0-4BB5-A37A-EAC071D4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418-1883-4982-9E3A-F6113B1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0A0-BB0B-4BD3-8835-BCC9E930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A36-42E4-42DE-8C93-13F6A13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BB7-CCA1-4D10-9932-2716BA4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DF8-4A07-4D21-8074-B7627A5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56F-7DA2-4778-9710-7D4ED37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138-ED1D-4228-925C-71452C3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25F-82AC-43A8-B632-6E2E997AB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A07-5223-4006-B133-49C0343B9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Wonderful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 Hideth My So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144000" cy="1484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Wonderful Savio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Wonderful Savio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A picture containing rectang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Wonderful Savio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Wonderful Savio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Wonderful Savio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Wonderful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Wonderful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Wonderful Savio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Wonderful Savio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Wonderful Savio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Wonderful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Wonderful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Wonderful Savio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41Z</dcterms:modified>
  <cp:revision>32</cp:revision>
  <dc:subject/>
  <dc:title>Slide 1</dc:title>
</cp:coreProperties>
</file>