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D72F-0F15-46D4-A336-8EDC811B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9C72-C55E-4491-BB1A-5C3BE9D6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C675-907C-4D4A-A9D5-4AB5544B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8F3E-8439-4C44-82EE-1BEA6DBE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E18E-1AEC-495A-A33E-5D59D7F5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A616-4422-48BB-A11A-31527C05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47FF-DB62-4B76-9C84-8D030A1A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81AA-7AAA-4D56-A3B3-9319C658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2088-4D00-4F7B-88B8-7B4F9D7F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C133-D19D-4BD3-928D-D55F711D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EC3E-9144-4C10-B712-328D2F76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D4EF-51ED-4A08-85D1-EE8DCC6F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21AA-F1AF-435D-B62C-EEC67B69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F6D1-0F8E-41AD-A447-A1C0FF0D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A111-77C3-4D6D-A364-5502FA70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0436-180C-439A-A1C3-FB16B539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F93E-80C4-4AEE-B5CB-A3E03B4E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7017-9B7E-451F-8D40-107E1FC2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F278-C78B-4636-80CA-2441B220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D81A-FE66-4EAF-81F2-7B27A65E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9B5A-3D10-4361-8917-29993774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754A-3A98-4CAB-B4C1-C286D245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7170-018E-4862-9BF0-AE60161C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FD8-AC41-44EC-B685-4D7E230F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4D36-DA3F-4D38-BF35-9721ACBA7B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D6FF-56AA-4E51-98FB-9C757A7EE4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m I A Soldier Of The Cro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ARL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saac Watts (17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omas A. Arne (17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40400" y="648828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m I A Soldier Of The Cro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40400" y="648828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m I A Soldier Of The Cro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40400" y="648828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m I A Soldier Of The Cro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39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2:22Z</dcterms:modified>
  <cp:revision>43</cp:revision>
  <dc:subject/>
  <dc:title>Slide 1</dc:title>
</cp:coreProperties>
</file>