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032-C14B-46F4-8BDB-A8CFF7C1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647-1B81-40CC-8626-3DB576B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055-444F-448F-BE46-C57DF5A9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8BC-52AF-4893-943E-2414189A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B61C-36B2-49CB-AA78-A400F509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8F63-A298-41F4-98A4-9B9B5D70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B4F3-4D16-4385-B1C4-D8BC8812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A86B-72BD-42E9-8867-1F7EF35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48F7-B1D5-4758-9DA4-E1150509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BC5C-3526-450F-9FE5-3E5EC6A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C1B6-F944-4C49-B428-A660BA8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A0B-13D5-4B24-A7B9-F523137A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B555-DFC0-409D-B734-D5FC3F7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E8C3-C6FD-4B2D-98BC-21EFDA53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A169-6E61-4152-B35F-B43456F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0576-ED31-4393-AB85-2C890605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EC58-3DF2-4D23-B4AA-274B0D12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304-B627-4990-8430-6371F0C9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BE9-D650-41BF-8482-F5EE7C1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4AA-5024-47AD-A88F-51BBAB2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37F-A0FA-4688-A472-F21CE38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461-2EEA-4B58-BCAA-CDB806A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1D7-E415-41C7-9E01-469EF59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CDB-86E0-4DB0-A070-2559CC0E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DD0-B6D3-4FE2-8618-9BEF8AFFC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0C72-DDBB-4B97-8F4C-5B3CED03F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ywhere With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87), vs. 3 by Mrs. C. M. A.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B. Town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nywhere With Jesus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nywhere With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nywhere With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nywhere With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nywhere With Jesus_v3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nywhere With Jesus_v3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nywhere With Jesus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10Z</dcterms:modified>
  <cp:revision>36</cp:revision>
  <dc:subject/>
  <dc:title>Slide 1</dc:title>
</cp:coreProperties>
</file>