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F2A-FBA6-429F-A8D7-CF9A7C61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E4D-55EF-4448-9B8D-12F59971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BF7-88E8-497E-87C7-713EF96F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93F-7AC2-4022-A7A6-B9E80E1A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7661-F628-464E-AC00-20F3AF6D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5684-D065-4A98-9AC2-4A2C3892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78E9-CF7C-409A-B861-8A5DA1DC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268A-2DB9-4A3B-B765-077F132B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F3F2-8BFE-48A9-8DFE-24260D86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A47E-D123-487E-BBAE-7DE2957D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AE0A-7EF0-4DE8-9A44-45B4499A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FCC-32F9-4ED2-A5B5-E8EBF679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A02-DEAA-41CC-AE01-CD7AEAD6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B554-D23C-433A-92A8-D7B16D8F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A59F-E9FA-431A-A5D6-863C8D1F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4B94-02B3-4BBC-8400-DCA227CC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2260-C683-4C1B-9DCD-FFD00779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FD0-12E3-4EBB-90EE-7153783D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08C-8444-48CA-86DE-0C1FEDF2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609-81E9-44CE-96FC-2EC2DB8D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421-FCAE-4901-8E71-8891AE20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AFA-B9BF-498E-A576-924D19C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766-9D84-4CD3-91EA-A47635F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41E-9484-4C0F-8BCE-8FC3505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2F48-346B-4B10-80CE-0D8485976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4D62-42F3-451C-B4BD-FCA5D77B7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rough The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3840"/>
          <a:ext cx="923436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elsh Folk Song, Trans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Welsh Air (c. 17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rough The 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000" y="648828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rough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rough The 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rough The 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rough The 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17000" y="648828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rough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rough The 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rough The 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31Z</dcterms:modified>
  <cp:revision>34</cp:revision>
  <dc:subject/>
  <dc:title>Slide 1</dc:title>
</cp:coreProperties>
</file>