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849-0FC0-4226-A9D4-469F39BC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CAE-D9D1-4C38-95D3-88BCA25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C0B-F135-4333-89EC-F21970CA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485-CEC9-4624-BAC5-475DEE1B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AD0E-B88E-4EAD-B44B-F795672C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09E0-B8BA-43E2-B866-53AB5DF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9AE-E733-415E-ADC6-23B2975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40D6-F971-4BDB-A152-2D11EAE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DDCC-B5AF-4745-BF18-0894945F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6BB3-C88A-44CC-B483-2C5D113E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A05-BCBA-4B51-864B-57696DB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B05-670C-4543-9A00-2740579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0B2B-4491-429E-A51E-32301CA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4D8-EFC2-4D85-A8F7-95EFC63B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8A2-AD3B-4CBB-947D-8D46715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F7C3-55FA-4BB7-9616-53C89B1E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9E5-A87A-4869-BCC2-A24C4CB6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EA9-1C5C-451F-B98A-8928D443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0BC-4222-4AC1-B278-F5CBBF1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C98-9390-417E-811A-7AD6237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0B8-D89B-4571-B46B-8FA5C7F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813-8510-49F0-889F-EACD5F9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4A4-78BB-4BE6-B041-B9733B40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2FC-824A-4D26-B946-21D9254B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227-9638-428B-B150-5211A4278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5907-ED95-46EE-811E-483E455C6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shed In The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70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shed In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shed In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shed In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shed In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shed In The Blo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shed In The Blo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shed In The Bloo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shed In The Bloo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shed In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shed In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shed In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shed In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shed In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shed In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shed In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shed In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44Z</dcterms:modified>
  <cp:revision>32</cp:revision>
  <dc:subject/>
  <dc:title>Slide 1</dc:title>
</cp:coreProperties>
</file>