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3D8-E403-4F9E-9293-E43FE9E6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486-3FB2-45FD-9AC6-9369A5E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268-5A92-4BD2-821A-0BDB835B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DD4-64A6-4001-A48D-C9B91FFB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0930-D772-4534-80BB-5D43F5B2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D8B6-8EDD-4D3A-935A-978CAA9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277-A9B2-4420-85C7-1288D9E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2464-8DB7-42E4-BE17-28E887D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44A5-E094-4381-86AC-25470BAD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5032-0111-4E4E-8E6D-FFD90EB2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831B-FBBE-4EF0-ADB9-D6948E3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9C6-24A2-4D61-9888-2F6AAE0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D45-090B-4E9A-9AD1-AD0433F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F21-B81C-4EB2-8525-B6778A6C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45A5-F596-44EA-9220-F9E8077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8F8-E997-4B55-AC55-0330084F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032C-E2DA-47EF-879D-F487A006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84F-A0C9-4AF4-B7AC-FD776526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E2A-FB97-43F3-8003-E225BD5E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C0A-6FD4-4C3A-856A-BB94E009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3B2-3204-4E83-859B-11661D1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8E9-2AF3-4153-8B2D-9F17AF92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67A-0608-470B-A1B8-D62027B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C26-CB67-4ED5-8A1B-40D59F3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EED-921D-460A-A4F6-B4DBE531E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383-55A7-4F3E-BF70-085E4A974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azing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EW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arly American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mazing Grac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mazing Grac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mazing Gr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mazing Gr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mazing Gr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mazing Gr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mazing Gr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mazing Gr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mazing Grac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mazing Grac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33Z</dcterms:modified>
  <cp:revision>27</cp:revision>
  <dc:subject/>
  <dc:title>Slide 1</dc:title>
</cp:coreProperties>
</file>