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6F6-E86A-4B49-B3DA-DF0C0BD9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7CF-12E9-4540-97FB-92D5676A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187-39CF-4023-97BC-BA8E1EFF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FBD-3E6F-4785-ACF9-DCA378F5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70F8-4D8E-49B2-88F4-6D62F761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3A97-2D49-4B0E-88D1-9F7347DC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D35B-5CD8-4F0E-A2CD-770CD1FD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B51F-E385-4159-B0A5-8E1A4B9E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3DEC-0808-4EB6-A03E-B4BF2F9A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4F36-8A82-4B0D-BAC5-52DAD16A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AB97-96AD-4746-80AA-595071AD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6F6-ADDD-44C5-AE71-55445E73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6445-1473-427B-BD2E-ACC083CD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7002-3525-40C4-B338-38341960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62F0-30B3-4A28-A6DD-7C962F96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B30E-7059-459D-A140-E7D57257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026B-223B-4825-91E4-54DC2C01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5EF-C907-4006-A7E9-76E634F1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6ED5-8217-4556-943A-915BA3C3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6C08-1DF7-46BD-879E-FBC87DF5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B5DE-F2C8-4AB8-8F17-67F470F2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4B5-D110-43F7-B6B3-5209751D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BFD4-915F-405C-82EA-DC08D7A0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0941-7821-4290-B09C-6777896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113B-F6B6-4257-8AC1-515DB05C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EFE8-0F71-4E5B-BD8E-57F5928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73CE-95EC-45FF-8657-B583E07A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BEAA-02C1-4F78-AE0F-C63C2EA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BF72-B48C-490C-8078-771FDA1E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1D63-F30E-405B-ADDD-4F689B49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72B3-47DA-427F-A700-D3760AC8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9CD-A101-473F-8E1F-63BC227A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D17-F5A2-43B2-A562-664DD6F1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01D-CEE1-440C-81C6-F0460DA2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D6D-EA4E-4D03-A50C-F5F25C74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E32-D311-4841-82C4-07C9F984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BBAC-DC80-447A-97A0-D4A3FEFC4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67D6-BCA2-4F1C-B65F-A7CBA00331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4C85-3905-4500-BB7F-8A3126792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gels We Have Heard On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French Caro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source unkown (alt. 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French Carol. Arr. M. Ang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ngels We Have Heard on Hig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ngels We Have Heard on Hig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Angels We Have Heard on High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ngels We Have Heard on High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ngels We Have Heard on Hig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ngels We Have Heard on Hig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ngels We Have Heard on Hig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ngels We Have Heard on Hig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3:20:11Z</dcterms:modified>
  <cp:revision>31</cp:revision>
  <dc:subject/>
  <dc:title>Slide 1</dc:title>
</cp:coreProperties>
</file>