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D15-C6C3-49EC-B033-54499E9C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972-8578-41A0-A125-C55BA135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535-2A98-4B94-9180-91174595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75B-9704-43BA-8B32-3191C825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DEF9-BD03-4DF8-BE8E-465FB9BD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7678-8FA1-4C6F-98B9-D87CDB6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4749-23A9-4F55-83AE-50F31CA1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E82-6EAA-4E19-BFC3-535EC824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CAF-9356-48E3-AF55-4E4369EB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591-5267-4530-9A51-892B1510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439F-1E1F-4949-9D2A-C5F4ED7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652-26D6-49B1-8473-19159043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0BD2-649C-44C6-92DD-B3BA3659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EBE8-1584-4F5A-B565-40DD592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72C6-7DE8-46EC-BD8D-C211AD0A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9E8-7BD3-4191-BC99-80184C6F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D63F-FF9A-4173-8AC4-0FB81779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822-B1AA-4013-BB43-9039C0E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175-8DAE-4917-8E46-4A7BE9A5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C21-E7F6-42C2-8E0D-EC43E2EB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45A-1CEC-4022-A9FE-6696D797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F8C-7C1D-40B9-9E29-B1B8E77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E40-AEBB-4E43-BCD3-8C1DBBE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905-582B-44E7-9A93-AD6B614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2887-A2C7-469B-8742-B87668DBA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9F3-5B2F-4EEC-A808-4A96D4EF2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ings Prais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W. Conder (18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nrad Kocher 1838), Arr. by 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Things Praise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ings Prais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ings Prais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ings Prais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ings Prais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ings Praise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ings Praise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ings Praise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ings Praise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18Z</dcterms:modified>
  <cp:revision>23</cp:revision>
  <dc:subject/>
  <dc:title>Slide 1</dc:title>
</cp:coreProperties>
</file>