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452-CC2A-4295-8436-3C5CAE9A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1B74-C83C-4E28-B7E3-38121AE3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D27-3615-4872-9815-51C4F2AC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3BF-4762-4E34-B59D-33C26BAD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DF92-8C4E-43C2-AB37-7ACF9C78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5046-F0C1-4B39-9E0A-F2926DEA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959A-F8D1-4074-B315-6D406D0D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3184-BDE5-40D8-B443-3209343C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EADD-47EB-4895-96E9-02AE27A7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EED8-19B7-4039-A674-AF8FC9A0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A631-BDA4-4BE2-9B98-4839FA94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201-D901-4D0D-8D36-3384081D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1AAD-3C7E-4934-9701-C188FB22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54C8-D53C-4147-A78D-87F16B0A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127A-1182-4B44-A488-ABA1E8F7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3342-829D-43B1-B6B8-CCAE32ED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5D58-3AC3-400B-AFA6-B9246F27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5669-4930-40E6-BEE8-2FF2C023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419-C2C7-429C-AEF0-2B97567E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794-C3C2-4D48-96FC-983BA5D9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083-BC0D-4D7A-9424-CC5A6229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FB1-B3C4-4BAF-8E8C-84319B01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DCE-1166-4959-9A4F-B34DC9E0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3D1-181A-44FE-B2FC-0F4D5E31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CCD7-3FD0-4D54-AF19-2119F5884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8105-CBA1-4416-93EE-6E04407E37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Charge To Keep I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OYL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87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71760"/>
          <a:ext cx="9234360" cy="148428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Wesley (17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Charge I Have To Keep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4840" y="648828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Charge To Keep I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Charge I Have To Keep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14840" y="648828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Charge To Keep I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Charge I Have To Keep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3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5"/>
          <p:cNvSpPr/>
          <p:nvPr/>
        </p:nvSpPr>
        <p:spPr>
          <a:xfrm>
            <a:off x="114840" y="648828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Charge To Keep I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7:19Z</dcterms:modified>
  <cp:revision>45</cp:revision>
  <dc:subject/>
  <dc:title>Slide 1</dc:title>
</cp:coreProperties>
</file>