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2E2-7F2A-4C03-AABD-F54C94A0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404-9D9E-4A63-8D4C-0EB38C56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BC1-75F5-44C4-B658-0B60BDFE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0CF-C5E3-4592-8E54-595DE554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A78A-3606-46DA-B1B7-FDDA5920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BD88-B9A6-43DC-96CA-372C99E1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F44B-3027-46B4-8073-76FFB661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4B92-50D1-45AD-8B1F-99E0C6D3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C9CF-F92B-454C-B197-663187E0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72BC-0D41-4EC5-8639-3D7C8978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60FE-C630-4E6D-A55D-0B3A0F2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B07-50C2-40B9-B905-C7B41C99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AE50-5914-4F44-B761-659C8A6F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1D96-63C6-4C4B-BC2B-BC3F53E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822F-107D-4A89-8071-6B67F1E2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46DA-506E-4674-9F57-FB8CDA55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5E8C-B382-4325-A390-5E09E121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1CD-E380-4A1D-BD6B-9BBA97A6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848-A8C6-4795-96AB-C9727AE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C73-0BB5-43A9-9858-BBC859B3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015-F379-4969-9B92-BB738051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1AC-349F-4961-B9CF-F591BEBB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6F4-AC1A-4338-810A-B5939C9B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D2B-677E-4E44-8CA8-7E6BDFD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869F-8C88-4956-9FB9-840242020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5B97-7D39-4E4A-987E-A8D4B129E2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Mighty For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IN’ FESTE 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6.6.6.6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Alto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Tenor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Bass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tin Luther (1529)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by F. H. Hedge (15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tin Luther (15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Mighty Fortre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Mighty Fortres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Mighty Fortress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856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Mighty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Mighty Fortress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 Mighty Fortress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 Mighty Fortress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 Mighty Fortress_v3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3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Mighty Fortre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856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Mighty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Mighty Fortre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Mighty Fortre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Mighty Fortre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Mighty Fortres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Mighty Fortre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856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Mighty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Mighty Fortre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Mighty Fortre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1:46:13Z</dcterms:modified>
  <cp:revision>47</cp:revision>
  <dc:subject/>
  <dc:title>Slide 1</dc:title>
</cp:coreProperties>
</file>