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098-395C-4023-BB3E-3B5BFD44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330-93A6-419A-BE34-1D107932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B0E-ACD2-474C-B9A9-F7B8C0C7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D43-840A-4EC4-B22C-7D7E6522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F0B-12CD-40FF-B963-D09CBCF2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7766-73BF-44FF-AE95-6F9F9047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9498-2D2F-4E89-B0DD-95688DB3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F19D-B710-4D51-B06D-DE0E25B5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A56B-49F7-418F-9538-DBFDE2B6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2E8-B4E0-4782-9837-70DF67F3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70F4-BD03-4FD3-96B3-CDCC323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551-3AF7-4584-AD1B-846325C5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B28B-AEB9-401D-885A-B8163AC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F90C-745B-41DD-B760-4F97B4E7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1BF3-88B2-4E98-A86A-52595ED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FA2C-3700-48B0-A939-1876264B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6369-D1B2-42BC-A1D0-34BE96D3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3CA-7B6E-434D-A93E-B7E09C5D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000-3E96-41A2-8964-CBCA8BD7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197-939F-474E-A515-6CD82D4B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033-7772-4C12-AB24-B39152A7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BB1-C965-440B-BF9B-B48DDA8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07B-9F41-4790-B81A-3ACB192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77C-37DD-4DD1-A5EF-8CAAAE7D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EFD-3355-4185-BDBA-54B559A5C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AF0-1794-4796-81D4-385A410CB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e Way My Savior Lead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The Way My Savior Leads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The Way My Savior Leads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The Way My Savior Lead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The Way My Savior Lead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The Way My Savior Lead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The Way My Savior Leads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ll The Way My Savior Leads M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e Way My Savior Lead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e Way My Savior Lead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e Way My Savior Lead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e Way My Savior Leads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e Way My Savior Leads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e Way My Savior Lead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e Way My Savior Lead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e Way My Savior Lead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46Z</dcterms:modified>
  <cp:revision>33</cp:revision>
  <dc:subject/>
  <dc:title>Slide 1</dc:title>
</cp:coreProperties>
</file>