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FA98-FEF0-463B-998A-37187B5C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B7BC-D299-4C0F-B0B2-EBE61F66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773F-CC53-47BD-AE29-1A4358DF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B06F-749F-442A-9EDE-B66AF4E5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A80B-0FC0-4B2D-BC37-3C333F3A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5B34-8701-496E-996E-DCFAAE3F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AA77-165A-4B47-AE33-5A5767F5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AAE3-8E4F-473F-93BA-4DD38B77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62BC-024F-44F1-BB57-FFF97FB3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2F5E-9F8A-49CC-BCB0-1C5D1438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DE90-CEC4-458C-A22E-C45C94DC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956E-2BC5-48B5-A119-56CFEB15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3FEF-6292-493B-9BE7-F8FD777B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772B-9FD6-4C89-92D0-6015F6FD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195F-885C-4A0D-A571-A0BFF102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3FA7-48CA-493E-A433-710FAC42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CC62-38C3-48EE-991A-5A5BAD0D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1703-FC94-4969-AC3A-96370A6D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4339F-CC5D-4D8C-A42F-5AD2DE05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879FD-A6DD-4CD4-AE30-37A25B5F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3B9C6-06D8-457A-B733-CDD72C32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D8A8-482C-4C33-B731-6F5C560B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1E071-B92B-4408-A455-AB8CEEC4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7F0E5-2118-4C57-84A8-73C27DBD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4BEDF-2D5A-49A7-ACCF-B6907A5D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76FCF-CD9F-4FAE-8EB5-00FE54CF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657D4-40F0-4ECA-9FB9-6A88B5D6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7FA49-84AB-4FE4-AD17-7A14284E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C2D06-4C94-4F98-B5C9-B5E8A060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726B5-9852-4459-96B5-8A46B341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90E49-CC0E-4E85-97A7-5D86B846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F15C-A9D1-4210-A40A-3DB21ACE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6D5B-E07C-48CB-80DA-5923CDCC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0E08-4E7D-4D87-BADE-C6D695C0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765D-CC00-4DE9-A434-D2A1386D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E8C6-B608-4013-9C71-8BF361FC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8BF3-2AC0-4EBF-8BE2-B33FC9401D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B7BF-0243-4E9C-9486-E961EFD5CB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D821-3FB4-4179-B68A-3D37013B46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re You Coming To Jesus Ton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37160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essie F. Brown (18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E. Hawes (18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Are You Coming To Jesus Tonight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59120" y="6488280"/>
            <a:ext cx="45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re You Coming To Jesus Tonigh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Are You Coming To Jesus Tonight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Are You Coming To Jesus Tonight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Are You Coming To Jesus Tonight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1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re You Coming To Jesus Tonigh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59120" y="6488280"/>
            <a:ext cx="45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re You Coming To Jesus Tonigh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Are You Coming To Jesus Tonigh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re You Coming To Jesus Tonigh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re You Coming To Jesus Tonight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re You Coming To Jesus Tonigh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59120" y="6488280"/>
            <a:ext cx="45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re You Coming To Jesus Tonigh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Are You Coming To Jesus Tonigh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re You Coming To Jesus Tonigh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Are You Coming To Jesus Tonight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3:22Z</dcterms:modified>
  <cp:revision>29</cp:revision>
  <dc:subject/>
  <dc:title>Slide 1</dc:title>
</cp:coreProperties>
</file>