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77E-3FF5-4004-9346-08AF477C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E00-74EE-4B21-A042-EE5BB076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A6E-7A8D-4508-9D25-C9C5F7B9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5A6-BF90-4479-8CEA-E4EE9C5E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F430-EAC4-48A5-9B86-3D2C350D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4516-8B44-46D0-9B6C-D7D20008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4878-631B-40C4-B0DF-9E475D36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48F0-90F3-493B-9343-653BB96E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67A8-4956-4307-90E8-095D01AB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3EE7-8D92-4FEB-9ABA-7A105BE4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FB20-97B0-48D5-863D-37BA7BD4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B0E-47EC-481B-8B55-3AC2AFFC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D8B4-7054-4503-B190-47C9D838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8BF6-B6C7-406E-AC76-F7518C84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88CE-3809-40A3-B113-BA223E00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D800-BC1B-4079-8E12-526196E1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AFC4-EE83-48E1-B06F-A027F712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9C9-7D61-43CB-91F7-3C1D113F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04B-989D-407F-BD06-29B05ABA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1E9-1075-4D9E-96CF-C6A46228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CDB-F7C3-46B9-90DA-B647F05B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EFF-290C-4A0C-829A-2E430D00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A9C-4714-4BB1-BC48-8F563782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C51-E8D7-4407-95C0-D4B1D283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E83D-1613-40C6-9582-15DA761A3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F2CC-4CFC-4E9F-BD2A-2FD545E76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Shelter In Time Of 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ernon J. Charlesworth (1880), Arr. by Ira D. Sankey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ra D. Sankey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Shelter In Time Of Storm_arr1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13760" y="648828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Shelter In Time Of 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Shelter In Time Of Storm_arr1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Shelter In Time Of Storm_arr1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Shelter In Time Of Storm_arr1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Shelter In Time Of Storm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3760" y="648828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Shelter In Time Of 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Shelter In Time Of Storm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Shelter In Time Of Storm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Shelter In Time Of Storm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Shelter In Time Of Storm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13760" y="648828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Shelter In Time Of 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Shelter In Time Of Storm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Shelter In Time Of Storm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Shelter In Time Of Storm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0T01:47:39Z</dcterms:modified>
  <cp:revision>49</cp:revision>
  <dc:subject/>
  <dc:title>Slide 1</dc:title>
</cp:coreProperties>
</file>