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90E-2863-43DA-8B84-309487C4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BB1-15A4-46DE-BD1D-0C358DE4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EF8-9F15-464B-9138-E3230786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F5E-39CD-4D53-AD84-36F412C7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53A5-0CC7-475B-A525-30BFE36C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7B9D-656D-4449-8210-5E0D2698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CAC-9751-4D97-9FBC-C634299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444E-0F2D-49C5-BCB2-56F5F38A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D0E3-033A-4BA9-810F-4D79C2E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E9C3-07F1-4572-ADB7-51350F6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4382-1C29-45AC-ACAF-3B82E22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898-FB6B-467A-964F-28E8AE5E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82D3-6F89-4919-8EDA-33CF91F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71D5-C08C-49BD-82F2-40438AD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9DB-C180-4440-AC4E-463016A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089C-B9FA-4887-8036-9F8DD695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D0D-9E4F-4492-9D89-67983C47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647-A546-43E4-BB7A-67B8860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843D-41C6-4B85-9155-31DF3E3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5B34-5A4A-4873-A67F-8A5D8AA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C418-FE2D-481A-BF51-0D8A46C5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6A1-F0A9-455D-87E4-DB29622B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F761-F4A5-4F85-BCBB-F1030B8B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0B8E-6947-4E0E-8EC9-984797C4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5EF8-0627-44F3-9D10-DBC0088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8739-A8F1-4935-9E9D-9DEEAAD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7B8D-A900-42C1-AE54-F8F4AF3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27E8-F976-42F8-A622-9553836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E639-2B01-4A9A-A84F-D1E82F97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07EB-F8A8-43BF-9F8E-6E1911C3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B24B-14DE-41CD-A938-E855050D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069-EF7A-466B-A7EE-8512BA5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903-AD53-44A0-ACA5-B4382DAE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43B-B53D-49BA-BF79-DB2D0A3E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7D4-256E-414B-9B2E-0DD98CF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94E-F85A-4206-A490-86935B3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22E9-20AA-4272-A2C7-E32DEA01A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8EFF-F92C-48A2-A2EC-D2DE367ED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B62-BE97-4ECE-BE51-E1328FE0B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els From The Realms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GENT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ntgomery (18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Smart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ngels From The Realms Of Gl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ngels From The Realms Of Gl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gels From The Realms Of Gl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ngels From The Realms Of Gl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ngels From The Realms Of Gl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ngels From The Realms Of Gl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gels From The Realms Of Glo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ngels From The Realms Of Glo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9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46Z</dcterms:modified>
  <cp:revision>39</cp:revision>
  <dc:subject/>
  <dc:title>Slide 1</dc:title>
</cp:coreProperties>
</file>