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379C-5080-4E65-8C3C-53637827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C89-A450-4BFC-A20D-412C25F7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5B32-21D9-476C-83E9-A25ED645F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277-6E83-4096-9859-0ED3C421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4480-1684-4D59-872F-FD4A1416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8B81-0D02-46C9-A014-720E83B4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A9B5-E6D0-4DE5-8571-62A4EE0F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3098-0300-43E1-8318-DDB00673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B2FE-C757-4C42-9AD4-CB5398E4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CA92-26E5-4761-AFB9-93F77A8A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EA1A-8537-4CEC-BEEC-0CFA50FE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4492-2492-42B1-BFF8-69DCEA26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661D-C924-4EC6-B3EC-800C3467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8BB1-808C-4E12-BD70-1BAC32F6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5C08-6225-40EC-9E09-EBF3789D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2812-2219-47B7-BA6A-BA9C5709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A925-E7FD-4E19-A9F7-73BD3114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75D74-F0D0-4D9C-BC89-F8758F7C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3DB15-28C4-4369-80B6-558DB796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4795E-16CD-4727-84E5-4D2D290C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F0062-0EF0-4A0D-B654-EF02CB1E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A299E-AEC5-4D58-BB66-5BBBA948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F9B0-AD74-4F60-B1CC-D3EFE7A2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EB6E7-CCE1-45F1-9937-0A2BFF89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68443-5B22-4DDA-9B2A-131D058B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0F70B-2D0F-45D4-8926-20205933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6F052-AB58-4114-B6B9-4A18D450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FB5EC-73B2-4482-8CC4-F428D4F2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DA276-CD03-4F75-BBB7-C6F0D7F9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36597-D92B-477E-BB6B-2591B4B7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74CF-21A0-4DF8-A572-2A1335C2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39C9-BB45-4A9E-9D8F-3EC44628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B160-177A-466E-AA46-2FE9FD33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DB4F-9F77-4FE3-96EB-EAFDED86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1C66-C55C-44E2-9932-607C49FB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6221-2385-4923-A8C2-4FF71080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4CE0-8B37-43AE-93D6-0C6C46AAD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53CB-BA3C-4805-B59E-13481866D0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F721-E163-4871-B628-B74554DB75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l Hail The Power Of Jesus’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CORO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2280" y="490212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dward Perronet (1780), Adapt. John Rippon (17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Oliver Holden (17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All Hail The Power Of Jesus Name_arr1_v6o7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39680" y="648828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ll Hail The Power Of Jesus’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All Hail The Power Of Jesus Name_arr1_v7o7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All Hail The Power Of Jesus Name_arr1_v7o7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ll Hail The Power Of Jesus Name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9680" y="648828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l Hail The Power Of Jesus’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All Hail The Power Of Jesus Name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ll Hail The Power Of Jesus Name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39680" y="648828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l Hail The Power Of Jesus’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ll Hail The Power Of Jesus Name_arr1_v3o7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All Hail The Power Of Jesus Name_arr1_v3o7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39680" y="648828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ll Hail The Power Of Jesus’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ll Hail The Power Of Jesus Name_arr1_v6o7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0:23Z</dcterms:modified>
  <cp:revision>37</cp:revision>
  <dc:subject/>
  <dc:title>Slide 1</dc:title>
</cp:coreProperties>
</file>