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603-895A-4375-B1ED-69A5DA4E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D6F-8F62-4C99-B75A-B2BA2A29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567-5B90-4757-98E6-4A4DA491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F77-A8F6-49BF-95B0-551D65F1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A67D-0A57-4E24-B973-53C95B35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83E-FDCE-418F-9705-87ADE745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7B29-CE02-41B0-9C36-CC39D01E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A95A-55CB-43AA-A2C4-D6B7150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0DA6-0755-4AE5-86BF-55F194E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7F25-9E42-4D63-A4F1-0339BCE8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3ED4-53A5-4C03-9571-DBA14B8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548-F12D-440C-9EEF-64A62842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4655-1419-4D17-A4EB-736668B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AE8-907B-43CB-BFD3-C17B512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EED4-5981-4C71-8E4B-F6C201B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FEA1-DB00-4A73-B3C3-3DEFEFA4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8593-322A-4B53-836A-BE19AC5C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AA6-078F-4EC3-86D3-5F2C358A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94B-AB3B-47DB-8C4D-3D8C6061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47B-074F-42DC-B930-93728EAE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FC1-1AED-48BC-9760-EDE535C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432-1223-43E7-9DB8-3BD0486A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3B0-45BB-42FC-BAB0-64F1FF1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A73-B7A0-424A-8224-28A4B1C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6F67-06CC-4657-A65D-409E2934B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609C-DBA9-4FED-9CD5-B12099359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Creatures Of Our God And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ASST UNS ERFRE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673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of Assisi (1225), Tr. by William H. Draper (19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achel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istliche Kirchengesang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23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Ralph V. Williams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Creatures Of Our God And King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Creatures Of Our God And King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Creatures Of Our God And King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Creatures Of Our God And King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Creatures Of Our God And King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Creatures Of Our God And King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ll Creatures Of Our God And King_arr2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ll Creatures Of Our God And King_arr2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Creatures Of Our God And King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Creatures Of Our God And King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Creatures Of Our God And King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Creatures Of Our God And King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Creatures Of Our God And King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Creatures Of Our God And King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Creatures Of Our God And King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Creatures Of Our God And King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49Z</dcterms:modified>
  <cp:revision>38</cp:revision>
  <dc:subject/>
  <dc:title>Slide 1</dc:title>
</cp:coreProperties>
</file>