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48A-C4C7-4EA4-B277-3B5EB9F8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BB8-7040-45D0-836F-9166E94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044-C5B5-454E-B5CA-B6849BC0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772-9374-44CB-9E7E-B3BFC170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966D-D820-4B39-860B-2C92C0AC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52A-C096-47D0-964E-B49E633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213D-4BBB-47B1-B813-3944F0D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8C51-6D59-4307-8291-F93CB4B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618F-B7CF-4310-ACAF-0B08FF6A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39FD-09F9-4B86-897C-34A2A6E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F200-D714-4867-B18A-2C220D0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14F-7438-4E5A-9328-0FEF231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E818-AFF1-481D-877C-62FD001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00A7-CAC9-4ADD-AF2A-576874C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ED2-EE0E-46D2-B647-BBFCCB1B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ADAF-E20F-460B-8305-34916AEA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B3A-157F-4A9A-9AD1-F355B921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B14-761A-41B3-B691-4E719BF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DEA-0EB3-44A9-AD75-221259E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BB8-F8C7-45B4-8356-37A0F72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594-695F-4DCA-9FF8-B7CC8F54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F91-2DA4-4141-8BF0-2A2FF90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488-B8B9-4439-868C-1B06DA0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95F-DAA6-426C-A114-843613F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C39-43E8-446A-9EDD-07EC7C388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C7B-99CA-46D5-9A84-80FE6F247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ry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ve One An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unday School Teacher (1867), vs. 3 by Betty B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67), Arr. by Will W. Slater (19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ngry Word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ngry Word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ngry Words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ngry Word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ngry Word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ngry Word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ngry Word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ngry Word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ngry Word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ngry Word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ngry Word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gry Word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57Z</dcterms:modified>
  <cp:revision>36</cp:revision>
  <dc:subject/>
  <dc:title>Slide 1</dc:title>
</cp:coreProperties>
</file>