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0F1-B625-41B5-A8E3-8C311AAC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256-EBDE-4F0D-A3E4-2570EBB5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350-8682-4844-8C47-17FBB949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0F2-66C4-460F-BC33-8643ECD5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465D-67E0-4414-B2EF-A999EFE4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7D21-8C78-422C-AABB-468F373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858-958D-4DC9-8917-8DC990E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30DD-C8C7-49D2-BBA2-476E0CB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FD51-D140-4DA0-A90E-EEBAF82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D72-5B60-4B21-B7D9-466D1664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8D6-9F89-4B65-B0C3-2EAA474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802-6B99-4E7B-9792-705B3F5B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146-2D6D-4B3D-9354-169F866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86F4-776C-4BB5-AB4F-09FFF83E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0EF6-0BAB-46EC-9F03-2453F093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9185-3C69-4C25-8191-48F0D8EB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E2A-7B29-497D-9959-CE8B0D4C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F74A-161B-4891-AEFE-7AF3A465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8C87-D0D7-4B4B-A4C0-3DAA8E9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AD9F-1CE6-464A-A511-5E5D41F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D612-A906-4C07-B49A-011B2C7D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94AE-2493-4228-AECA-1D59FB1E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7FE-0AA0-4272-BD4C-8BD9C12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D9A0-4278-4910-B8EA-BEC5A925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5E84-D299-41AF-9B65-D714E6A6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0478-62B5-460B-BA73-7D80D21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CFF3-3A32-4ED6-8B50-2C6C8E5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0274-8204-4E32-A7DF-0F44034D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A643-DA00-44C8-BAB8-F554F5BA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2F22-86AE-4261-A1B8-4A78360A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BD3-9598-45C9-A99C-C7B31223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C5C-6942-4B1D-BBB2-99FD4C63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6F8-B237-49B5-AAC2-5BE644F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839-8415-40FC-8949-8C58498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619-53A3-49F7-B151-E82C6B06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D5A-AA22-4701-9B5C-F5997E7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E666-1C47-407C-B722-5240E7EE3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4D4-BB59-486A-9484-154807B02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706-07DA-4D2D-9554-19D5637F2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ide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VENTIDE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796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F. Lyte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bide Wi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bide Wi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bide Wi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bide Wi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bide With Me_v5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11Z</dcterms:modified>
  <cp:revision>40</cp:revision>
  <dc:subject/>
  <dc:title>Slide 1</dc:title>
</cp:coreProperties>
</file>