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2F8-330A-415C-BFC7-106FD4DA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067-2D52-4615-9A1F-8BE85D8E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6BD-200D-44A3-9C07-DA24D6D1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209-FD6F-4F0A-A537-0D1AB738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E95-6940-40E0-95A7-F338A6DA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7FA6-0D07-41F0-82F0-23395CFC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561B-0AD2-4A86-9A62-D2832B28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E385-312D-4CE1-8A4A-F3D6C003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3BE5-4E93-4862-839B-0BF9757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1C7-4E03-4946-A8EA-68628398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5D57-3BAD-4485-A8DF-A80D3A4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F27-ED46-4CCA-810E-88FD842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29A2-9238-4A22-A2AC-7FA91DE5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31CA-6FA6-458C-939C-40394B78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5725-BE01-49A1-A8D3-209C9AE2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14A9-DAAE-4B5E-940B-994C7DFD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E69C-9118-4AE7-9908-69F36DDD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F3B-BA44-46FA-B422-2BCECC2A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597-597B-4D52-874C-8CADFEF0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B3A-9AA6-4998-A012-C7C2BC06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C6C-668B-4330-9777-652A789A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EA6-9875-4F89-94FE-EEB13FE2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8F8-8BAD-4F0B-B27D-6553CB7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9BF-56B1-4B6A-9B46-3E58D90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5FE-7A65-4236-BF52-C30F17102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75C-4256-4A57-832D-1028493E7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Soul Winner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Soul Winner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Soul Winner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Soul Winner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Soul Winner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Soul Winner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Soul Winner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7:38Z</dcterms:modified>
  <cp:revision>36</cp:revision>
  <dc:subject/>
  <dc:title>Slide 1</dc:title>
</cp:coreProperties>
</file>