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39F3-8B27-4E3F-9CDA-4D83362F5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1ABD-FCF0-4BD5-9942-43932658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44A2-9635-4D14-8745-0B90CF20F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8963-E560-4CBC-BE6A-FE7B24156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CCA7-1489-4428-991C-FD024B9A3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5D4F-0CF6-443D-99EF-13AA542A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EBB0-81E2-4339-B2C0-711511B7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66E2-5DF2-4673-A6AD-D57F9CC4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CAE0-418F-4438-801D-E75825EC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E0B8-2A09-46C1-8B28-D3A1F30C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695B-DCD8-4A77-AC26-8BB76338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A119-75CC-4B60-B9DB-23BEF765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6B7F-4E57-44AD-BE40-1156F45B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539E-1330-48BF-AB0E-562716B5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7E7B-1DFB-4A6D-971B-53785D19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FE36-A247-4491-A6E1-D740CC636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861E-4346-4261-A648-602786B27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251C-83C7-4E79-9C32-B3B0821F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7325-2EE3-41A8-B5AF-6AE1AD3A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724E-FE58-4E21-B341-DCB614A9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770C-5910-4B69-8416-5F6AB70E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24D4-61C5-4A12-88F7-A36C5A3A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398C-0B96-448B-B26B-C5D839CA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F9EB-5A87-4D8F-9C5E-F6806769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E803-7BF6-44E3-B3B2-AC2A203EDB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4EAA-2C37-43A6-86C4-4F65F63F55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wake, And Sing The S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ST. THO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62280" y="4902120"/>
            <a:ext cx="13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Hammond (174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aron Williams (176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wake And Sing The Song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26000" y="648828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wake, And Sing The S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wake And Sing The Song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wake And Sing The Song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126000" y="648828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wake, And Sing The S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wake And Sing The Song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wake And Sing The Song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126000" y="648828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wake, And Sing The S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wake And Sing The Song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wake And Sing The Song_arr1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126000" y="648828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Awake, And Sing The S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wake And Sing The Song_arr1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43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3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4:23Z</dcterms:modified>
  <cp:revision>36</cp:revision>
  <dc:subject/>
  <dc:title>Slide 1</dc:title>
</cp:coreProperties>
</file>