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B6D-66E8-4DBD-A876-05B195AE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69C-019F-45A9-B0C4-DCDF0926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CE5-9960-49F9-9EA5-B959C92D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D4F-DD55-4898-BCBF-290C77B3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86B7-F597-4D8C-969F-79975807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E834-AA98-4AE3-91E6-C4655F77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2BBE-564F-48B5-B58A-4759BE6F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F8CE-D030-45B5-B78B-D2CFF1D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2C7D-92F8-487F-97AC-21294F5E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0379-DCBF-4E48-8F35-D3698E35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D57E-0FFD-4E93-ACDF-D262161E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0D8-C84E-4F55-93E0-003B628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1C14-C745-4C83-960C-BA3C24E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0F6-731B-47FD-8056-F64C9A09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8677-AEEF-4CAC-9779-638846CB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36D0-D859-4D3A-B794-B414A1F7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0C07-50E8-4492-ACCA-E0405222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504-005F-4950-8041-AE517808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B14-2816-409E-B1AF-5D9F25D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508-9DA0-49A4-97B4-50C5B2AA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EF4-AA9B-49CD-9AF6-D17FE199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9CE-215D-4B3E-8BCC-E515530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642-C3F2-4994-9500-863181CA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80B-B536-4C9C-919A-5968919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5F24-2139-4C2E-BC98-6247F2459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60ED-5216-4A61-AB03-C7929D679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most Persu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A picture containing antenna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A picture containing antenna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09Z</dcterms:modified>
  <cp:revision>36</cp:revision>
  <dc:subject/>
  <dc:title>Slide 1</dc:title>
</cp:coreProperties>
</file>