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AD5-BB5C-4E80-8355-83C12B4E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649-F887-4D9C-9CA9-7A696506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0E3-CCB0-4936-8421-87137298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E3E-B213-4ACA-B233-1D0D48BF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30D9-48DE-4D66-B42F-452AE7A3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703E-051F-4F15-9D5F-E310FC1E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0335-84C4-4E68-BBB2-C1FC6F3A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760C-7811-4E76-B58C-576DF916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4E34-36B6-4B51-92B9-A94551F9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2A1-6AE1-4A46-8795-9A8E8A5A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E57-57E9-4A78-99B2-FDE0481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291-D07D-4097-A2CF-67501CD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30A-30CE-4DBF-8A5B-2D5B958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52CC-658F-428C-975F-1BEDA41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BDD-1328-4819-9978-EC66D11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A6D-4BFD-49EF-98AE-5E5910CD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9AC4-2752-4EDC-9ABC-BFEDC80A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F09-46D7-4515-BC65-14DC86C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E20-CF2B-48ED-AFF1-526E5A8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B65-FB15-4AB0-873F-F1FEE5F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01B-ABE6-474E-BB7D-EF91A39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FFD-43E6-40F1-9536-D8A3DAF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F51-8C9A-4A9F-BC3C-7ABD0F0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0DA-B4ED-4BCF-B7B5-0DC710B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8796-D21F-414F-8890-B8BA315A5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3608-BC38-4427-B594-16D05B97F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s The Life Of A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ura E. Newell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H. Ramsey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s The Life Of A Flow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s The Life Of A Flow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s The Life Of A Flow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s The Life Of A Flow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s The Life Of A Flow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s The Life Of A Flow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s The Life Of A Flow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s The Life Of A Flow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s The Life Of A Flow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s The Life Of A Flow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s The Life Of A Flow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s The Life Of A Flow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56Z</dcterms:modified>
  <cp:revision>32</cp:revision>
  <dc:subject/>
  <dc:title>Slide 1</dc:title>
</cp:coreProperties>
</file>