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4137-ADDF-4651-A974-55A3BB07A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0509-1C81-4F1F-B701-C5D6B66A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597B-455D-4DC6-8EA3-B9E8AF1D2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41FA-7B48-4874-AD9C-C94FF194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5C93-59B2-430C-957C-802FA97E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3E1C-5841-4E80-8B31-1BE21EFB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9856-011D-4A28-B2E7-4784D570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22E0-B132-4357-93AB-299E2A45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9276-C3B3-4923-BEAA-918759C0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306D-A4E5-4C20-8E16-3DC5D6AB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D9F7-7658-4D06-81D4-9F559A3C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0D12-1CBD-4DF6-8A0D-18E8F21E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A64B-3CAD-4FB5-A770-58181345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5A88-E811-4CDE-BD3A-CB152604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7B70-5491-4996-A86F-06181097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9F7B-F164-48DD-A444-B4D77276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B644-8063-4AC4-AECC-E9DED9D5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3BB1-26C9-4606-9B9A-010BCBCA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B256-6244-4C29-BBC4-0A6F8B15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9779-9560-4BEC-9F79-F4A71358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D43C-2F66-4B3B-AA15-47C48450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3D1C-FE4F-4781-9CC9-64B434C9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6D6C-B202-41A2-9093-89CC806D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ADDC-4797-49B2-9C43-B9C1D796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AEE6-916E-4953-9B27-A7B5D52451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8606-7872-4AB8-9982-BF670EE5FA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ll Hail The Power Of Jesus’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DIA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dward Perronet, 1779, St. 4, John Rippon, 17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Ellor, 18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ll Hail The Power Of Jesus Name_arr2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150840" y="6488280"/>
            <a:ext cx="45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ll Hail The Power Of Jesus’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ll Hail The Power Of Jesus Name_arr2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Diagram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All Hail The Power Of Jesus Name_arr2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150840" y="6488280"/>
            <a:ext cx="45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All Hail The Power Of Jesus’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All Hail The Power Of Jesus Name_arr2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Diagram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9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ll Hail The Power Of Jesus Name_arr2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50840" y="6488280"/>
            <a:ext cx="45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ll Hail The Power Of Jesus’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ll Hail The Power Of Jesus Name_arr2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Diagram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ll Hail The Power Of Jesus Name_arr2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50840" y="6488280"/>
            <a:ext cx="45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ll Hail The Power Of Jesus’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ll Hail The Power Of Jesus Name_arr2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Diagram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0:01Z</dcterms:modified>
  <cp:revision>36</cp:revision>
  <dc:subject/>
  <dc:title>Slide 1</dc:title>
</cp:coreProperties>
</file>