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58B-3B32-4A3E-81E4-A1E3AD6F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3C7-CB14-4068-911E-387AF87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36D-2AEF-4CED-8FD0-86272F0B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EAE-3E15-4935-84EB-9C1C9273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ADC6-AF0E-4229-A16B-1302B83D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352-3E36-4B8E-A378-2E05C99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91D-0BB5-4E85-90C3-9680613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A773-7AB6-410E-8FEE-9047082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DD58-9E83-46C9-89A2-8F7574D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BEB-DBB3-4A2F-B6FC-36E406A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6D98-B002-4056-AA91-B1C1745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9C5-3D0E-4E14-98EA-BDE70272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5C6-17B6-4D74-BAEF-3FC2D3AA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F1E-54D1-4F5A-9F40-B362E6C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7EC4-DA13-4611-A23C-3A31CBA1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7647-E818-468F-BE44-AFB31D52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72AF-949C-4615-BEAC-2779E944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31B-8F18-4DD9-B436-95AC55E0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909-33CD-481F-B47A-5B83FB53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C7C-566D-4DE4-AD25-D1E50C3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2F5-6376-410E-98CE-E535E13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DA6-0234-4759-9C60-95016F9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9AC-17C1-4CE2-BAC5-E42AFF8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10E-7668-4A46-9F15-D69C694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3F80-3499-4DA0-AE10-4B54BEA0B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0E5-DED5-4CF7-ACE5-0343D5A2E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lessing In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Rest, Sweet 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Blessing In Pray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Blessing In Pray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Blessing In Pray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Blessing In Pray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Blessing In Pray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Blessing In Pray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Blessing In Pray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 Blessing In Prayer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Blessing In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Blessing In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Blessing In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Blessing In Pray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Blessing In Pray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Blessing In Pray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Blessing In Pray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Blessing In Pray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49Z</dcterms:modified>
  <cp:revision>42</cp:revision>
  <dc:subject/>
  <dc:title>Slide 1</dc:title>
</cp:coreProperties>
</file>