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1D5-E1FC-4E1C-865A-0F14E4C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1C6-630E-4A8C-93DA-33675099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1EB-49F7-49D9-A975-66A2A3B8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9A6-6881-4802-98C0-1F4CCE5A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12E-3BED-4E36-88C6-280290D3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C415-F858-4588-B60A-EADFD51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29DF-BA37-4CB9-8D69-7EDB664A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69B2-E1F6-470E-A8EC-506F1A99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DBEC-39E2-4736-A60D-4DEDEAEC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3FF1-662A-45B4-934E-2D7FCA5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12B3-6BB0-4342-B4F3-E28D6E8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602-AA4C-4A00-B2BB-AD7396A4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DBB9-02CB-4EBC-8546-07A8DA7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F538-E415-415A-8D54-6B187BF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E4A-C2AB-4FAB-96EE-FB426E22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461-6B28-4F8D-9DCA-2ABB8819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D6DA-B1F0-4146-8EC9-ED01AA6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BC9-C523-4CCE-873D-CEF6B353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65F-7E4A-41BD-8EF5-1A127D57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916-525A-4902-9E13-D0DE1CBB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2DE-B745-4D83-AD32-C468B188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093-43DE-42A4-805B-56F2F362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7D2-A28D-4BD7-861F-D84E49F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13A-9E6D-4D49-A59E-A6D911B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F5BD-9AC7-4321-B84D-A649E0D6C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05C9-B9DC-435E-816C-2BE8F23F9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Walking in His Foot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Lowrie Hofford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e You Walking In His Footstep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re You Walking In His Footstep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re You Walking In His Footstep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e You Walking In His Footstep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e You Walking In His Footstep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re You Walking In His Footstep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re You Walking In His Footstep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re You Walking In His Footstep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Are You Walking In His Footstep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Are You Walking In His Footstep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6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re You Walking In His Footstep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re You Walking In His Footstep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e You Walking In His Footstep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re You Walking In His Footstep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e You Walking In His Footstep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re You Walking In His Footstep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e You Walking In His Footstep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re You Walking In His Footstep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33Z</dcterms:modified>
  <cp:revision>34</cp:revision>
  <dc:subject/>
  <dc:title>Slide 1</dc:title>
</cp:coreProperties>
</file>