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A82-345E-4453-9E6D-591DC74E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842-1E3F-4ACE-981D-E47A507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548-EA20-4D96-A133-BAB17A7F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D89-398B-4315-B952-B0B91BD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E0F2-90E6-480C-A610-A87A3C5D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8AA9-C01F-4825-96F8-8427EAAC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58D9-249A-4444-B3E9-F218721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CF7-E246-4B6B-8AD0-319274B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285A-1F25-4965-9E7C-3911179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752-201A-454E-BF9C-17F7681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3F9-7982-4892-B891-0E6BC86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AF3-0E8A-44E6-983A-C2FC769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9F07-8C93-4FD8-A222-DFF7BC7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9D4D-E6D1-4C9F-8210-D38363E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69ED-498B-4ACB-B3DC-D065886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124A-B9DC-4F3A-8936-FA693EEF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0116-64C2-4DB4-8D64-220CC45C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DDF-A48E-4DD4-B49B-AA6EE88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FDA-D771-4739-9205-A5F0FA4D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BC6-6545-4CFC-8444-140B460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C4D-924D-415C-8C8C-C9A8F8A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1AF-9954-4B5A-BE62-33115AB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D6A-D765-43D2-9081-82FB93A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E60-3BC8-440C-8EB7-9C387ED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49BF-DE46-4F14-8BEC-E0FF8039E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5C63-B318-49F5-A86F-BA21B349C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; ‘Tis Even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Milla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ide With Me Tis Even Tid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ide With Me Tis Even Tid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ide With Me Tis Even Tid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ide With Me Tis Even Tid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ide With Me Tis Even Tid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ide With Me Tis Even Tid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ide With Me Tis Even Tid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ide With Me Tis Even Tid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ide With Me Tis Even Tid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57Z</dcterms:modified>
  <cp:revision>38</cp:revision>
  <dc:subject/>
  <dc:title>Slide 1</dc:title>
</cp:coreProperties>
</file>