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831-92AC-4B55-89D3-62D98FA3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DF3-0386-4A39-9360-DFCB677C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098-4989-40FA-8961-EB26E1F1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269-F077-4425-AF56-71EBBDA4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551C-7A79-4CDE-A0AB-75DEEB85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6B76-DBCA-4D8D-A38B-AABF6D3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0306-9FFC-4E59-BED6-6C873359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2337-38D9-45FF-A2B7-6FE56790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2198-7BBB-4160-94A6-9FE9041F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2E52-C85A-4A3B-8145-C75CE11D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6055-E64E-415D-93DE-459686F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10D-587F-40C6-B7FB-A08C5BA1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E083-BAE6-4C34-B387-7A8B39C9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110B-F5D3-4D51-9170-3DC840FA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8C4E-9F0A-422D-86D7-01704E3B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83D2-81A9-4E3C-A626-ACE55C66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5E3B-5689-4894-9B1C-75314D35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E00-1C94-4650-A90A-819CAB0A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2BA-BCF8-4A03-9F82-989837AB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A39-7CD0-435D-8537-E120466D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ECA-2D53-4C6E-91B7-3F27E12A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BC2-4BD0-40FF-B73B-3ADBE3F4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BD7-A8FD-46D6-BD28-BC4EE22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C22-ED21-486A-BABC-917663C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6F7C-5F05-463D-A411-64A068ECB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556D-455A-4DB0-989C-B30726EFB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Beautiful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320" y="3371760"/>
          <a:ext cx="9192960" cy="1484280"/>
        </p:xfrm>
        <a:graphic>
          <a:graphicData uri="http://schemas.openxmlformats.org/drawingml/2006/table">
            <a:tbl>
              <a:tblPr/>
              <a:tblGrid>
                <a:gridCol w="914400"/>
                <a:gridCol w="82785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. Golden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. Golden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iagram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6:09Z</dcterms:modified>
  <cp:revision>44</cp:revision>
  <dc:subject/>
  <dc:title>Slide 1</dc:title>
</cp:coreProperties>
</file>